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A60-0EB4-4C02-A760-16ADEFC2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EE7-4BB2-4456-BA30-240C273E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B96-8BC4-46D7-A459-1037FB8F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5D3-541F-46E9-B5A9-A48EABE9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57EC-0583-4BC4-BE1E-10B25D9B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4EF8-E473-4D0F-9CAD-A4A56A06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DAD6-DAF9-4E8A-97D9-93AD73C0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9561-6B11-4584-8920-1BA41263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AF4B-265D-4BFE-9042-771484EF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B3AC-E597-4768-9516-263DDFDA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028B-1C00-40AD-B42D-A0E14FFA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391-6327-4454-AB8E-8414A4A9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C1F8-5DEA-4268-8739-69D85BCB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0399-92DF-43E8-A5AE-A54FD541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3AB1-A415-45E0-9DE2-4025282A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7039-C269-4FE6-BA22-43F50720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F656-E346-428F-AA65-7E1F63E5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6AB-BCB7-479E-9721-05EEF90C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7A3-7C77-487C-9DDE-8A02A42D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581-F776-49AA-9664-4D838C55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146-1BB1-4A18-93E3-3EC49801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30F-6A7C-459C-9CB7-F8BC0EE3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B72-4D66-4AD0-94B6-E44EE917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C77-49EB-4646-BC86-1F31E3D4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14EB-D98C-44B3-8649-9B049FB82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DF61-F310-4C33-ABBB-A931638CA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se 1: Warm-up      April 11,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2 students planted 4 rows of flowers in the garden.  Each row had 6 plants.  How many flowers did the students pl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wing how you solved this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0200" y="2463840"/>
            <a:ext cx="330480" cy="341280"/>
          </a:xfrm>
          <a:custGeom>
            <a:avLst/>
            <a:gdLst/>
            <a:ahLst/>
            <a:rect l="l" t="t" r="r" b="b"/>
            <a:pathLst>
              <a:path w="919" h="944">
                <a:moveTo>
                  <a:pt x="7243" y="7169"/>
                </a:moveTo>
                <a:cubicBezTo>
                  <a:pt x="7415" y="7096"/>
                  <a:pt x="7610" y="7030"/>
                  <a:pt x="7764" y="6921"/>
                </a:cubicBezTo>
                <a:cubicBezTo>
                  <a:pt x="7810" y="6888"/>
                  <a:pt x="7837" y="6868"/>
                  <a:pt x="7863" y="6846"/>
                </a:cubicBezTo>
                <a:cubicBezTo>
                  <a:pt x="7752" y="6855"/>
                  <a:pt x="7727" y="6864"/>
                  <a:pt x="7640" y="6945"/>
                </a:cubicBezTo>
                <a:cubicBezTo>
                  <a:pt x="7536" y="7041"/>
                  <a:pt x="7401" y="7128"/>
                  <a:pt x="7317" y="7243"/>
                </a:cubicBezTo>
                <a:cubicBezTo>
                  <a:pt x="7202" y="7401"/>
                  <a:pt x="7122" y="7577"/>
                  <a:pt x="7020" y="7739"/>
                </a:cubicBezTo>
                <a:cubicBezTo>
                  <a:pt x="6981" y="7778"/>
                  <a:pt x="6979" y="7795"/>
                  <a:pt x="6945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7680" y="4626000"/>
            <a:ext cx="1544400" cy="133200"/>
          </a:xfrm>
          <a:custGeom>
            <a:avLst/>
            <a:gdLst/>
            <a:ahLst/>
            <a:rect l="l" t="t" r="r" b="b"/>
            <a:pathLst>
              <a:path w="4292" h="373">
                <a:moveTo>
                  <a:pt x="4688" y="12973"/>
                </a:moveTo>
                <a:cubicBezTo>
                  <a:pt x="4704" y="12951"/>
                  <a:pt x="4688" y="12908"/>
                  <a:pt x="4713" y="12898"/>
                </a:cubicBezTo>
                <a:cubicBezTo>
                  <a:pt x="4747" y="12885"/>
                  <a:pt x="4828" y="12878"/>
                  <a:pt x="4862" y="12874"/>
                </a:cubicBezTo>
                <a:cubicBezTo>
                  <a:pt x="4943" y="12865"/>
                  <a:pt x="5002" y="12852"/>
                  <a:pt x="5085" y="12849"/>
                </a:cubicBezTo>
                <a:cubicBezTo>
                  <a:pt x="5201" y="12845"/>
                  <a:pt x="5316" y="12887"/>
                  <a:pt x="5432" y="12898"/>
                </a:cubicBezTo>
                <a:cubicBezTo>
                  <a:pt x="5505" y="12905"/>
                  <a:pt x="5558" y="12921"/>
                  <a:pt x="5631" y="12923"/>
                </a:cubicBezTo>
                <a:cubicBezTo>
                  <a:pt x="5710" y="12925"/>
                  <a:pt x="5790" y="12905"/>
                  <a:pt x="5854" y="12898"/>
                </a:cubicBezTo>
                <a:cubicBezTo>
                  <a:pt x="5967" y="12886"/>
                  <a:pt x="6094" y="12891"/>
                  <a:pt x="6201" y="12923"/>
                </a:cubicBezTo>
                <a:cubicBezTo>
                  <a:pt x="6306" y="12954"/>
                  <a:pt x="6417" y="12986"/>
                  <a:pt x="6524" y="12998"/>
                </a:cubicBezTo>
                <a:cubicBezTo>
                  <a:pt x="6620" y="13009"/>
                  <a:pt x="6721" y="12973"/>
                  <a:pt x="6821" y="12973"/>
                </a:cubicBezTo>
                <a:cubicBezTo>
                  <a:pt x="6913" y="12973"/>
                  <a:pt x="7004" y="12984"/>
                  <a:pt x="7094" y="12998"/>
                </a:cubicBezTo>
                <a:cubicBezTo>
                  <a:pt x="7184" y="13012"/>
                  <a:pt x="7277" y="13008"/>
                  <a:pt x="7367" y="13022"/>
                </a:cubicBezTo>
                <a:cubicBezTo>
                  <a:pt x="7486" y="13041"/>
                  <a:pt x="7593" y="13069"/>
                  <a:pt x="7714" y="13072"/>
                </a:cubicBezTo>
                <a:cubicBezTo>
                  <a:pt x="7824" y="13075"/>
                  <a:pt x="7927" y="13094"/>
                  <a:pt x="8037" y="13097"/>
                </a:cubicBezTo>
                <a:cubicBezTo>
                  <a:pt x="8113" y="13099"/>
                  <a:pt x="8156" y="13119"/>
                  <a:pt x="8235" y="13122"/>
                </a:cubicBezTo>
                <a:cubicBezTo>
                  <a:pt x="8282" y="13124"/>
                  <a:pt x="8325" y="13143"/>
                  <a:pt x="8359" y="13146"/>
                </a:cubicBezTo>
                <a:cubicBezTo>
                  <a:pt x="8426" y="13152"/>
                  <a:pt x="8497" y="13166"/>
                  <a:pt x="8558" y="13171"/>
                </a:cubicBezTo>
                <a:cubicBezTo>
                  <a:pt x="8628" y="13177"/>
                  <a:pt x="8689" y="13181"/>
                  <a:pt x="8756" y="13196"/>
                </a:cubicBezTo>
                <a:cubicBezTo>
                  <a:pt x="8809" y="13208"/>
                  <a:pt x="8865" y="13221"/>
                  <a:pt x="8930" y="13221"/>
                </a:cubicBezTo>
                <a:cubicBezTo>
                  <a:pt x="8954" y="13221"/>
                  <a:pt x="8963" y="13221"/>
                  <a:pt x="8979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38240" y="4187880"/>
            <a:ext cx="27000" cy="403200"/>
          </a:xfrm>
          <a:custGeom>
            <a:avLst/>
            <a:gdLst/>
            <a:ahLst/>
            <a:rect l="l" t="t" r="r" b="b"/>
            <a:pathLst>
              <a:path w="75" h="1118">
                <a:moveTo>
                  <a:pt x="5383" y="11658"/>
                </a:moveTo>
                <a:cubicBezTo>
                  <a:pt x="5383" y="11602"/>
                  <a:pt x="5398" y="11777"/>
                  <a:pt x="5407" y="11807"/>
                </a:cubicBezTo>
                <a:cubicBezTo>
                  <a:pt x="5426" y="11866"/>
                  <a:pt x="5415" y="11924"/>
                  <a:pt x="5432" y="11981"/>
                </a:cubicBezTo>
                <a:cubicBezTo>
                  <a:pt x="5455" y="12060"/>
                  <a:pt x="5457" y="12117"/>
                  <a:pt x="5457" y="12204"/>
                </a:cubicBezTo>
                <a:cubicBezTo>
                  <a:pt x="5457" y="12326"/>
                  <a:pt x="5449" y="12438"/>
                  <a:pt x="5457" y="12551"/>
                </a:cubicBezTo>
                <a:cubicBezTo>
                  <a:pt x="5459" y="12572"/>
                  <a:pt x="5457" y="12828"/>
                  <a:pt x="5457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41720" y="4152960"/>
            <a:ext cx="44280" cy="463320"/>
          </a:xfrm>
          <a:custGeom>
            <a:avLst/>
            <a:gdLst/>
            <a:ahLst/>
            <a:rect l="l" t="t" r="r" b="b"/>
            <a:pathLst>
              <a:path w="125" h="1291">
                <a:moveTo>
                  <a:pt x="6350" y="11534"/>
                </a:moveTo>
                <a:cubicBezTo>
                  <a:pt x="6350" y="11622"/>
                  <a:pt x="6342" y="11695"/>
                  <a:pt x="6325" y="11782"/>
                </a:cubicBezTo>
                <a:cubicBezTo>
                  <a:pt x="6303" y="11894"/>
                  <a:pt x="6292" y="11995"/>
                  <a:pt x="6276" y="12105"/>
                </a:cubicBezTo>
                <a:cubicBezTo>
                  <a:pt x="6257" y="12232"/>
                  <a:pt x="6251" y="12349"/>
                  <a:pt x="6251" y="12477"/>
                </a:cubicBezTo>
                <a:cubicBezTo>
                  <a:pt x="6251" y="12528"/>
                  <a:pt x="6226" y="12570"/>
                  <a:pt x="6226" y="12626"/>
                </a:cubicBezTo>
                <a:cubicBezTo>
                  <a:pt x="6226" y="12692"/>
                  <a:pt x="6226" y="12758"/>
                  <a:pt x="6226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55920" y="4249800"/>
            <a:ext cx="61920" cy="403200"/>
          </a:xfrm>
          <a:custGeom>
            <a:avLst/>
            <a:gdLst/>
            <a:ahLst/>
            <a:rect l="l" t="t" r="r" b="b"/>
            <a:pathLst>
              <a:path w="175" h="1117">
                <a:moveTo>
                  <a:pt x="6995" y="11807"/>
                </a:moveTo>
                <a:cubicBezTo>
                  <a:pt x="6995" y="11860"/>
                  <a:pt x="6973" y="11887"/>
                  <a:pt x="6970" y="11931"/>
                </a:cubicBezTo>
                <a:cubicBezTo>
                  <a:pt x="6964" y="12018"/>
                  <a:pt x="6936" y="12116"/>
                  <a:pt x="6921" y="12204"/>
                </a:cubicBezTo>
                <a:cubicBezTo>
                  <a:pt x="6901" y="12319"/>
                  <a:pt x="6892" y="12439"/>
                  <a:pt x="6871" y="12551"/>
                </a:cubicBezTo>
                <a:cubicBezTo>
                  <a:pt x="6857" y="12628"/>
                  <a:pt x="6846" y="12668"/>
                  <a:pt x="6846" y="12750"/>
                </a:cubicBezTo>
                <a:cubicBezTo>
                  <a:pt x="6846" y="12818"/>
                  <a:pt x="6837" y="12835"/>
                  <a:pt x="6821" y="12898"/>
                </a:cubicBezTo>
                <a:cubicBezTo>
                  <a:pt x="6804" y="12965"/>
                  <a:pt x="6844" y="12860"/>
                  <a:pt x="6846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70120" y="4259160"/>
            <a:ext cx="98640" cy="420840"/>
          </a:xfrm>
          <a:custGeom>
            <a:avLst/>
            <a:gdLst/>
            <a:ahLst/>
            <a:rect l="l" t="t" r="r" b="b"/>
            <a:pathLst>
              <a:path w="273" h="1167">
                <a:moveTo>
                  <a:pt x="7689" y="11832"/>
                </a:moveTo>
                <a:cubicBezTo>
                  <a:pt x="7689" y="11947"/>
                  <a:pt x="7655" y="11954"/>
                  <a:pt x="7615" y="12055"/>
                </a:cubicBezTo>
                <a:cubicBezTo>
                  <a:pt x="7533" y="12264"/>
                  <a:pt x="7530" y="12508"/>
                  <a:pt x="7466" y="12725"/>
                </a:cubicBezTo>
                <a:cubicBezTo>
                  <a:pt x="7446" y="12794"/>
                  <a:pt x="7464" y="12886"/>
                  <a:pt x="7441" y="12948"/>
                </a:cubicBezTo>
                <a:cubicBezTo>
                  <a:pt x="7405" y="13047"/>
                  <a:pt x="7433" y="12947"/>
                  <a:pt x="7466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84320" y="4276800"/>
            <a:ext cx="108000" cy="447480"/>
          </a:xfrm>
          <a:custGeom>
            <a:avLst/>
            <a:gdLst/>
            <a:ahLst/>
            <a:rect l="l" t="t" r="r" b="b"/>
            <a:pathLst>
              <a:path w="299" h="1242">
                <a:moveTo>
                  <a:pt x="8310" y="11881"/>
                </a:moveTo>
                <a:cubicBezTo>
                  <a:pt x="8263" y="12044"/>
                  <a:pt x="8225" y="12213"/>
                  <a:pt x="8186" y="12378"/>
                </a:cubicBezTo>
                <a:cubicBezTo>
                  <a:pt x="8149" y="12534"/>
                  <a:pt x="8140" y="12695"/>
                  <a:pt x="8111" y="12849"/>
                </a:cubicBezTo>
                <a:cubicBezTo>
                  <a:pt x="8097" y="12924"/>
                  <a:pt x="8059" y="12977"/>
                  <a:pt x="8037" y="13047"/>
                </a:cubicBezTo>
                <a:cubicBezTo>
                  <a:pt x="8028" y="13075"/>
                  <a:pt x="8019" y="13093"/>
                  <a:pt x="8012" y="13122"/>
                </a:cubicBezTo>
                <a:cubicBezTo>
                  <a:pt x="8046" y="13088"/>
                  <a:pt x="8055" y="13066"/>
                  <a:pt x="8037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25880" y="4276800"/>
            <a:ext cx="142920" cy="384120"/>
          </a:xfrm>
          <a:custGeom>
            <a:avLst/>
            <a:gdLst/>
            <a:ahLst/>
            <a:rect l="l" t="t" r="r" b="b"/>
            <a:pathLst>
              <a:path w="398" h="1068">
                <a:moveTo>
                  <a:pt x="9079" y="11881"/>
                </a:moveTo>
                <a:cubicBezTo>
                  <a:pt x="8998" y="12043"/>
                  <a:pt x="8920" y="12210"/>
                  <a:pt x="8855" y="12378"/>
                </a:cubicBezTo>
                <a:cubicBezTo>
                  <a:pt x="8801" y="12518"/>
                  <a:pt x="8759" y="12676"/>
                  <a:pt x="8731" y="12824"/>
                </a:cubicBezTo>
                <a:cubicBezTo>
                  <a:pt x="8721" y="12877"/>
                  <a:pt x="8702" y="12876"/>
                  <a:pt x="8682" y="12923"/>
                </a:cubicBezTo>
                <a:cubicBezTo>
                  <a:pt x="8682" y="12948"/>
                  <a:pt x="8682" y="12956"/>
                  <a:pt x="8682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20880" y="4321080"/>
            <a:ext cx="1233360" cy="1009800"/>
          </a:xfrm>
          <a:custGeom>
            <a:avLst/>
            <a:gdLst/>
            <a:ahLst/>
            <a:rect l="l" t="t" r="r" b="b"/>
            <a:pathLst>
              <a:path w="3424" h="2804">
                <a:moveTo>
                  <a:pt x="5060" y="14312"/>
                </a:moveTo>
                <a:lnTo>
                  <a:pt x="5060" y="14312"/>
                </a:lnTo>
              </a:path>
              <a:path w="3424" h="2804">
                <a:moveTo>
                  <a:pt x="5060" y="14312"/>
                </a:moveTo>
                <a:lnTo>
                  <a:pt x="5060" y="14312"/>
                </a:lnTo>
              </a:path>
              <a:path w="3424" h="2804">
                <a:moveTo>
                  <a:pt x="5060" y="14312"/>
                </a:moveTo>
                <a:lnTo>
                  <a:pt x="5060" y="14312"/>
                </a:lnTo>
              </a:path>
              <a:path w="3424" h="2804">
                <a:moveTo>
                  <a:pt x="8483" y="12005"/>
                </a:moveTo>
                <a:lnTo>
                  <a:pt x="8483" y="12005"/>
                </a:lnTo>
              </a:path>
              <a:path w="3424" h="2804">
                <a:moveTo>
                  <a:pt x="8483" y="12005"/>
                </a:moveTo>
                <a:lnTo>
                  <a:pt x="8483" y="12005"/>
                </a:lnTo>
              </a:path>
              <a:path w="3424" h="2804">
                <a:moveTo>
                  <a:pt x="6102" y="14808"/>
                </a:moveTo>
                <a:lnTo>
                  <a:pt x="6102" y="14808"/>
                </a:lnTo>
                <a:lnTo>
                  <a:pt x="6102" y="1480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71760" y="4973760"/>
            <a:ext cx="125280" cy="687240"/>
          </a:xfrm>
          <a:custGeom>
            <a:avLst/>
            <a:gdLst/>
            <a:ahLst/>
            <a:rect l="l" t="t" r="r" b="b"/>
            <a:pathLst>
              <a:path w="348" h="1911">
                <a:moveTo>
                  <a:pt x="4713" y="13816"/>
                </a:moveTo>
                <a:cubicBezTo>
                  <a:pt x="4695" y="13943"/>
                  <a:pt x="4656" y="14056"/>
                  <a:pt x="4638" y="14188"/>
                </a:cubicBezTo>
                <a:cubicBezTo>
                  <a:pt x="4590" y="14531"/>
                  <a:pt x="4504" y="14858"/>
                  <a:pt x="4465" y="15205"/>
                </a:cubicBezTo>
                <a:cubicBezTo>
                  <a:pt x="4449" y="15345"/>
                  <a:pt x="4443" y="15565"/>
                  <a:pt x="4390" y="15701"/>
                </a:cubicBezTo>
                <a:cubicBezTo>
                  <a:pt x="4368" y="15724"/>
                  <a:pt x="4360" y="15735"/>
                  <a:pt x="4366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54160" y="4633920"/>
            <a:ext cx="1133640" cy="1224000"/>
          </a:xfrm>
          <a:custGeom>
            <a:avLst/>
            <a:gdLst/>
            <a:ahLst/>
            <a:rect l="l" t="t" r="r" b="b"/>
            <a:pathLst>
              <a:path w="3151" h="3399">
                <a:moveTo>
                  <a:pt x="5904" y="12874"/>
                </a:moveTo>
                <a:cubicBezTo>
                  <a:pt x="5926" y="12988"/>
                  <a:pt x="5907" y="13041"/>
                  <a:pt x="5904" y="13146"/>
                </a:cubicBezTo>
                <a:cubicBezTo>
                  <a:pt x="5900" y="13286"/>
                  <a:pt x="5877" y="13431"/>
                  <a:pt x="5854" y="13568"/>
                </a:cubicBezTo>
                <a:cubicBezTo>
                  <a:pt x="5840" y="13653"/>
                  <a:pt x="5799" y="13743"/>
                  <a:pt x="5779" y="13816"/>
                </a:cubicBezTo>
                <a:cubicBezTo>
                  <a:pt x="5765" y="13867"/>
                  <a:pt x="5773" y="13943"/>
                  <a:pt x="5755" y="13990"/>
                </a:cubicBezTo>
                <a:cubicBezTo>
                  <a:pt x="5741" y="14026"/>
                  <a:pt x="5727" y="14108"/>
                  <a:pt x="5705" y="14064"/>
                </a:cubicBezTo>
              </a:path>
              <a:path w="3151" h="3399">
                <a:moveTo>
                  <a:pt x="6524" y="12973"/>
                </a:moveTo>
                <a:cubicBezTo>
                  <a:pt x="6524" y="13125"/>
                  <a:pt x="6523" y="13267"/>
                  <a:pt x="6499" y="13419"/>
                </a:cubicBezTo>
                <a:cubicBezTo>
                  <a:pt x="6479" y="13550"/>
                  <a:pt x="6472" y="13688"/>
                  <a:pt x="6449" y="13816"/>
                </a:cubicBezTo>
                <a:cubicBezTo>
                  <a:pt x="6439" y="13874"/>
                  <a:pt x="6410" y="13940"/>
                  <a:pt x="6400" y="13990"/>
                </a:cubicBezTo>
                <a:cubicBezTo>
                  <a:pt x="6390" y="14039"/>
                  <a:pt x="6353" y="14158"/>
                  <a:pt x="6375" y="14114"/>
                </a:cubicBezTo>
                <a:cubicBezTo>
                  <a:pt x="6383" y="14106"/>
                  <a:pt x="6392" y="14097"/>
                  <a:pt x="6400" y="14089"/>
                </a:cubicBezTo>
              </a:path>
              <a:path w="3151" h="3399">
                <a:moveTo>
                  <a:pt x="7045" y="13146"/>
                </a:moveTo>
                <a:cubicBezTo>
                  <a:pt x="7045" y="13286"/>
                  <a:pt x="7041" y="13431"/>
                  <a:pt x="7020" y="13568"/>
                </a:cubicBezTo>
                <a:cubicBezTo>
                  <a:pt x="7002" y="13681"/>
                  <a:pt x="6971" y="13805"/>
                  <a:pt x="6945" y="13915"/>
                </a:cubicBezTo>
                <a:cubicBezTo>
                  <a:pt x="6927" y="13993"/>
                  <a:pt x="6935" y="14062"/>
                  <a:pt x="6921" y="14139"/>
                </a:cubicBezTo>
                <a:cubicBezTo>
                  <a:pt x="6908" y="14211"/>
                  <a:pt x="6896" y="14245"/>
                  <a:pt x="6896" y="14312"/>
                </a:cubicBezTo>
                <a:cubicBezTo>
                  <a:pt x="6896" y="14371"/>
                  <a:pt x="6935" y="14235"/>
                  <a:pt x="6945" y="14213"/>
                </a:cubicBezTo>
              </a:path>
              <a:path w="3151" h="3399">
                <a:moveTo>
                  <a:pt x="7541" y="13072"/>
                </a:moveTo>
                <a:cubicBezTo>
                  <a:pt x="7541" y="13191"/>
                  <a:pt x="7524" y="13303"/>
                  <a:pt x="7516" y="13419"/>
                </a:cubicBezTo>
                <a:cubicBezTo>
                  <a:pt x="7506" y="13569"/>
                  <a:pt x="7503" y="13718"/>
                  <a:pt x="7491" y="13866"/>
                </a:cubicBezTo>
                <a:cubicBezTo>
                  <a:pt x="7483" y="13963"/>
                  <a:pt x="7481" y="14048"/>
                  <a:pt x="7466" y="14139"/>
                </a:cubicBezTo>
                <a:cubicBezTo>
                  <a:pt x="7453" y="14213"/>
                  <a:pt x="7454" y="14298"/>
                  <a:pt x="7441" y="14362"/>
                </a:cubicBezTo>
                <a:cubicBezTo>
                  <a:pt x="7422" y="14457"/>
                  <a:pt x="7495" y="14283"/>
                  <a:pt x="7516" y="14188"/>
                </a:cubicBezTo>
              </a:path>
              <a:path w="3151" h="3399">
                <a:moveTo>
                  <a:pt x="8086" y="13171"/>
                </a:moveTo>
                <a:cubicBezTo>
                  <a:pt x="8086" y="13266"/>
                  <a:pt x="8078" y="13350"/>
                  <a:pt x="8062" y="13444"/>
                </a:cubicBezTo>
                <a:cubicBezTo>
                  <a:pt x="8036" y="13598"/>
                  <a:pt x="8003" y="13760"/>
                  <a:pt x="7987" y="13915"/>
                </a:cubicBezTo>
                <a:cubicBezTo>
                  <a:pt x="7977" y="14008"/>
                  <a:pt x="7986" y="14123"/>
                  <a:pt x="7962" y="14213"/>
                </a:cubicBezTo>
                <a:cubicBezTo>
                  <a:pt x="7947" y="14268"/>
                  <a:pt x="7938" y="14304"/>
                  <a:pt x="7938" y="14362"/>
                </a:cubicBezTo>
                <a:cubicBezTo>
                  <a:pt x="7938" y="14423"/>
                  <a:pt x="7966" y="14295"/>
                  <a:pt x="7987" y="14238"/>
                </a:cubicBezTo>
              </a:path>
              <a:path w="3151" h="3399">
                <a:moveTo>
                  <a:pt x="8607" y="13146"/>
                </a:moveTo>
                <a:cubicBezTo>
                  <a:pt x="8607" y="13080"/>
                  <a:pt x="8588" y="13229"/>
                  <a:pt x="8582" y="13295"/>
                </a:cubicBezTo>
                <a:cubicBezTo>
                  <a:pt x="8572" y="13417"/>
                  <a:pt x="8556" y="13547"/>
                  <a:pt x="8533" y="13667"/>
                </a:cubicBezTo>
                <a:cubicBezTo>
                  <a:pt x="8512" y="13775"/>
                  <a:pt x="8488" y="13880"/>
                  <a:pt x="8483" y="13990"/>
                </a:cubicBezTo>
                <a:cubicBezTo>
                  <a:pt x="8481" y="14040"/>
                  <a:pt x="8473" y="14115"/>
                  <a:pt x="8458" y="14163"/>
                </a:cubicBezTo>
                <a:cubicBezTo>
                  <a:pt x="8434" y="14239"/>
                  <a:pt x="8434" y="14306"/>
                  <a:pt x="8434" y="14387"/>
                </a:cubicBezTo>
                <a:cubicBezTo>
                  <a:pt x="8434" y="14395"/>
                  <a:pt x="8434" y="14404"/>
                  <a:pt x="8434" y="14412"/>
                </a:cubicBezTo>
              </a:path>
              <a:path w="3151" h="3399">
                <a:moveTo>
                  <a:pt x="5978" y="14213"/>
                </a:moveTo>
                <a:cubicBezTo>
                  <a:pt x="5978" y="14414"/>
                  <a:pt x="5969" y="14610"/>
                  <a:pt x="5953" y="14808"/>
                </a:cubicBezTo>
                <a:cubicBezTo>
                  <a:pt x="5947" y="14879"/>
                  <a:pt x="5877" y="15068"/>
                  <a:pt x="5904" y="15131"/>
                </a:cubicBezTo>
                <a:cubicBezTo>
                  <a:pt x="5973" y="15131"/>
                  <a:pt x="6009" y="15096"/>
                  <a:pt x="6028" y="15007"/>
                </a:cubicBezTo>
              </a:path>
              <a:path w="3151" h="3399">
                <a:moveTo>
                  <a:pt x="6648" y="14064"/>
                </a:moveTo>
                <a:cubicBezTo>
                  <a:pt x="6673" y="14259"/>
                  <a:pt x="6634" y="14460"/>
                  <a:pt x="6623" y="14660"/>
                </a:cubicBezTo>
                <a:cubicBezTo>
                  <a:pt x="6618" y="14752"/>
                  <a:pt x="6598" y="14841"/>
                  <a:pt x="6598" y="14932"/>
                </a:cubicBezTo>
                <a:cubicBezTo>
                  <a:pt x="6678" y="14917"/>
                  <a:pt x="6667" y="14902"/>
                  <a:pt x="6722" y="14833"/>
                </a:cubicBezTo>
              </a:path>
              <a:path w="3151" h="3399">
                <a:moveTo>
                  <a:pt x="7193" y="14213"/>
                </a:moveTo>
                <a:cubicBezTo>
                  <a:pt x="7220" y="14355"/>
                  <a:pt x="7218" y="14489"/>
                  <a:pt x="7218" y="14635"/>
                </a:cubicBezTo>
                <a:cubicBezTo>
                  <a:pt x="7218" y="14761"/>
                  <a:pt x="7193" y="14879"/>
                  <a:pt x="7193" y="15007"/>
                </a:cubicBezTo>
                <a:cubicBezTo>
                  <a:pt x="7193" y="15048"/>
                  <a:pt x="7193" y="15056"/>
                  <a:pt x="7193" y="15081"/>
                </a:cubicBezTo>
                <a:cubicBezTo>
                  <a:pt x="7193" y="15124"/>
                  <a:pt x="7227" y="14991"/>
                  <a:pt x="7243" y="14957"/>
                </a:cubicBezTo>
              </a:path>
              <a:path w="3151" h="3399">
                <a:moveTo>
                  <a:pt x="7590" y="14585"/>
                </a:moveTo>
                <a:cubicBezTo>
                  <a:pt x="7638" y="14680"/>
                  <a:pt x="7599" y="14753"/>
                  <a:pt x="7590" y="14858"/>
                </a:cubicBezTo>
                <a:cubicBezTo>
                  <a:pt x="7581" y="14964"/>
                  <a:pt x="7579" y="15074"/>
                  <a:pt x="7565" y="15180"/>
                </a:cubicBezTo>
                <a:cubicBezTo>
                  <a:pt x="7554" y="15259"/>
                  <a:pt x="7541" y="15305"/>
                  <a:pt x="7541" y="15379"/>
                </a:cubicBezTo>
                <a:cubicBezTo>
                  <a:pt x="7567" y="15272"/>
                  <a:pt x="7618" y="15164"/>
                  <a:pt x="7665" y="15056"/>
                </a:cubicBezTo>
              </a:path>
              <a:path w="3151" h="3399">
                <a:moveTo>
                  <a:pt x="8136" y="14412"/>
                </a:moveTo>
                <a:cubicBezTo>
                  <a:pt x="8127" y="14597"/>
                  <a:pt x="8077" y="14773"/>
                  <a:pt x="8062" y="14957"/>
                </a:cubicBezTo>
                <a:cubicBezTo>
                  <a:pt x="8051" y="15100"/>
                  <a:pt x="8063" y="15264"/>
                  <a:pt x="8037" y="15404"/>
                </a:cubicBezTo>
                <a:cubicBezTo>
                  <a:pt x="8021" y="15491"/>
                  <a:pt x="8040" y="15341"/>
                  <a:pt x="8062" y="15255"/>
                </a:cubicBezTo>
              </a:path>
              <a:path w="3151" h="3399">
                <a:moveTo>
                  <a:pt x="8458" y="14486"/>
                </a:moveTo>
                <a:cubicBezTo>
                  <a:pt x="8498" y="14513"/>
                  <a:pt x="8469" y="14645"/>
                  <a:pt x="8458" y="14709"/>
                </a:cubicBezTo>
                <a:cubicBezTo>
                  <a:pt x="8435" y="14849"/>
                  <a:pt x="8414" y="14988"/>
                  <a:pt x="8409" y="15131"/>
                </a:cubicBezTo>
                <a:cubicBezTo>
                  <a:pt x="8407" y="15209"/>
                  <a:pt x="8409" y="15466"/>
                  <a:pt x="8409" y="15453"/>
                </a:cubicBezTo>
                <a:cubicBezTo>
                  <a:pt x="8409" y="15445"/>
                  <a:pt x="8409" y="15437"/>
                  <a:pt x="8409" y="15429"/>
                </a:cubicBezTo>
              </a:path>
              <a:path w="3151" h="3399">
                <a:moveTo>
                  <a:pt x="6375" y="15404"/>
                </a:moveTo>
                <a:cubicBezTo>
                  <a:pt x="6409" y="15516"/>
                  <a:pt x="6400" y="15631"/>
                  <a:pt x="6400" y="15751"/>
                </a:cubicBezTo>
                <a:cubicBezTo>
                  <a:pt x="6400" y="15856"/>
                  <a:pt x="6373" y="16150"/>
                  <a:pt x="6400" y="16098"/>
                </a:cubicBezTo>
                <a:cubicBezTo>
                  <a:pt x="6416" y="16073"/>
                  <a:pt x="6433" y="16049"/>
                  <a:pt x="6449" y="16024"/>
                </a:cubicBezTo>
              </a:path>
              <a:path w="3151" h="3399">
                <a:moveTo>
                  <a:pt x="7144" y="15429"/>
                </a:moveTo>
                <a:cubicBezTo>
                  <a:pt x="7169" y="15569"/>
                  <a:pt x="7192" y="15731"/>
                  <a:pt x="7169" y="15875"/>
                </a:cubicBezTo>
                <a:cubicBezTo>
                  <a:pt x="7158" y="15942"/>
                  <a:pt x="7144" y="15980"/>
                  <a:pt x="7144" y="16049"/>
                </a:cubicBezTo>
                <a:cubicBezTo>
                  <a:pt x="7192" y="16033"/>
                  <a:pt x="7202" y="15931"/>
                  <a:pt x="7218" y="15875"/>
                </a:cubicBezTo>
              </a:path>
              <a:path w="3151" h="3399">
                <a:moveTo>
                  <a:pt x="7491" y="15404"/>
                </a:moveTo>
                <a:cubicBezTo>
                  <a:pt x="7491" y="15506"/>
                  <a:pt x="7457" y="16055"/>
                  <a:pt x="7516" y="15900"/>
                </a:cubicBezTo>
              </a:path>
              <a:path w="3151" h="3399">
                <a:moveTo>
                  <a:pt x="8037" y="15528"/>
                </a:moveTo>
                <a:cubicBezTo>
                  <a:pt x="8027" y="15669"/>
                  <a:pt x="8012" y="15808"/>
                  <a:pt x="7987" y="15949"/>
                </a:cubicBezTo>
                <a:cubicBezTo>
                  <a:pt x="7976" y="16010"/>
                  <a:pt x="7969" y="16166"/>
                  <a:pt x="7938" y="16222"/>
                </a:cubicBezTo>
                <a:cubicBezTo>
                  <a:pt x="7898" y="16294"/>
                  <a:pt x="7945" y="16129"/>
                  <a:pt x="7962" y="16049"/>
                </a:cubicBezTo>
              </a:path>
              <a:path w="3151" h="3399">
                <a:moveTo>
                  <a:pt x="8384" y="15751"/>
                </a:moveTo>
                <a:cubicBezTo>
                  <a:pt x="8384" y="15877"/>
                  <a:pt x="8353" y="15975"/>
                  <a:pt x="8334" y="16098"/>
                </a:cubicBezTo>
                <a:cubicBezTo>
                  <a:pt x="8325" y="16156"/>
                  <a:pt x="8316" y="16213"/>
                  <a:pt x="8310" y="16272"/>
                </a:cubicBezTo>
                <a:cubicBezTo>
                  <a:pt x="8322" y="16222"/>
                  <a:pt x="8341" y="16183"/>
                  <a:pt x="8359" y="16123"/>
                </a:cubicBezTo>
              </a:path>
              <a:path w="3151" h="3399">
                <a:moveTo>
                  <a:pt x="8830" y="15577"/>
                </a:moveTo>
                <a:cubicBezTo>
                  <a:pt x="8880" y="15660"/>
                  <a:pt x="8840" y="15733"/>
                  <a:pt x="8830" y="15825"/>
                </a:cubicBezTo>
                <a:cubicBezTo>
                  <a:pt x="8821" y="15912"/>
                  <a:pt x="8794" y="15990"/>
                  <a:pt x="8781" y="16073"/>
                </a:cubicBezTo>
                <a:cubicBezTo>
                  <a:pt x="8781" y="16090"/>
                  <a:pt x="8781" y="16106"/>
                  <a:pt x="8781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32120" y="4133880"/>
            <a:ext cx="2054160" cy="849240"/>
          </a:xfrm>
          <a:custGeom>
            <a:avLst/>
            <a:gdLst/>
            <a:ahLst/>
            <a:rect l="l" t="t" r="r" b="b"/>
            <a:pathLst>
              <a:path w="5706" h="2357">
                <a:moveTo>
                  <a:pt x="10567" y="11931"/>
                </a:moveTo>
                <a:cubicBezTo>
                  <a:pt x="10543" y="11966"/>
                  <a:pt x="10502" y="12039"/>
                  <a:pt x="10492" y="12105"/>
                </a:cubicBezTo>
                <a:cubicBezTo>
                  <a:pt x="10467" y="12270"/>
                  <a:pt x="10406" y="12434"/>
                  <a:pt x="10393" y="12601"/>
                </a:cubicBezTo>
                <a:cubicBezTo>
                  <a:pt x="10372" y="12866"/>
                  <a:pt x="10338" y="13156"/>
                  <a:pt x="10393" y="13419"/>
                </a:cubicBezTo>
                <a:cubicBezTo>
                  <a:pt x="10426" y="13576"/>
                  <a:pt x="10502" y="13740"/>
                  <a:pt x="10666" y="13791"/>
                </a:cubicBezTo>
                <a:cubicBezTo>
                  <a:pt x="10871" y="13855"/>
                  <a:pt x="11071" y="13846"/>
                  <a:pt x="11261" y="13742"/>
                </a:cubicBezTo>
                <a:cubicBezTo>
                  <a:pt x="11409" y="13661"/>
                  <a:pt x="11456" y="13551"/>
                  <a:pt x="11460" y="13395"/>
                </a:cubicBezTo>
                <a:cubicBezTo>
                  <a:pt x="11464" y="13249"/>
                  <a:pt x="11426" y="13182"/>
                  <a:pt x="11311" y="13097"/>
                </a:cubicBezTo>
                <a:cubicBezTo>
                  <a:pt x="11178" y="12999"/>
                  <a:pt x="11099" y="13052"/>
                  <a:pt x="11013" y="13171"/>
                </a:cubicBezTo>
                <a:cubicBezTo>
                  <a:pt x="10948" y="13260"/>
                  <a:pt x="10898" y="13407"/>
                  <a:pt x="10914" y="13519"/>
                </a:cubicBezTo>
                <a:cubicBezTo>
                  <a:pt x="10931" y="13638"/>
                  <a:pt x="11025" y="13716"/>
                  <a:pt x="11137" y="13742"/>
                </a:cubicBezTo>
                <a:cubicBezTo>
                  <a:pt x="11180" y="13752"/>
                  <a:pt x="11199" y="13753"/>
                  <a:pt x="11237" y="13767"/>
                </a:cubicBezTo>
              </a:path>
              <a:path w="5706" h="2357">
                <a:moveTo>
                  <a:pt x="12725" y="12576"/>
                </a:moveTo>
                <a:cubicBezTo>
                  <a:pt x="12657" y="12765"/>
                  <a:pt x="12562" y="12941"/>
                  <a:pt x="12477" y="13122"/>
                </a:cubicBezTo>
                <a:cubicBezTo>
                  <a:pt x="12401" y="13283"/>
                  <a:pt x="12264" y="13467"/>
                  <a:pt x="12229" y="13643"/>
                </a:cubicBezTo>
              </a:path>
              <a:path w="5706" h="2357">
                <a:moveTo>
                  <a:pt x="11881" y="12526"/>
                </a:moveTo>
                <a:cubicBezTo>
                  <a:pt x="11982" y="12535"/>
                  <a:pt x="12079" y="12572"/>
                  <a:pt x="12154" y="12650"/>
                </a:cubicBezTo>
                <a:cubicBezTo>
                  <a:pt x="12280" y="12780"/>
                  <a:pt x="12387" y="12931"/>
                  <a:pt x="12551" y="13022"/>
                </a:cubicBezTo>
                <a:cubicBezTo>
                  <a:pt x="12642" y="13072"/>
                  <a:pt x="12851" y="13129"/>
                  <a:pt x="12923" y="13196"/>
                </a:cubicBezTo>
                <a:cubicBezTo>
                  <a:pt x="12949" y="13220"/>
                  <a:pt x="13011" y="13280"/>
                  <a:pt x="13022" y="13295"/>
                </a:cubicBezTo>
                <a:cubicBezTo>
                  <a:pt x="13057" y="13344"/>
                  <a:pt x="13206" y="13425"/>
                  <a:pt x="13146" y="13419"/>
                </a:cubicBezTo>
                <a:cubicBezTo>
                  <a:pt x="13146" y="13465"/>
                  <a:pt x="13128" y="13462"/>
                  <a:pt x="13072" y="13395"/>
                </a:cubicBezTo>
              </a:path>
              <a:path w="5706" h="2357">
                <a:moveTo>
                  <a:pt x="13345" y="11782"/>
                </a:moveTo>
                <a:cubicBezTo>
                  <a:pt x="13426" y="11895"/>
                  <a:pt x="13447" y="11990"/>
                  <a:pt x="13469" y="12129"/>
                </a:cubicBezTo>
                <a:cubicBezTo>
                  <a:pt x="13477" y="12177"/>
                  <a:pt x="13464" y="12501"/>
                  <a:pt x="13543" y="12526"/>
                </a:cubicBezTo>
                <a:cubicBezTo>
                  <a:pt x="13704" y="12576"/>
                  <a:pt x="13975" y="12504"/>
                  <a:pt x="14139" y="12502"/>
                </a:cubicBezTo>
                <a:cubicBezTo>
                  <a:pt x="14224" y="12501"/>
                  <a:pt x="14277" y="12502"/>
                  <a:pt x="14362" y="12502"/>
                </a:cubicBezTo>
              </a:path>
              <a:path w="5706" h="2357">
                <a:moveTo>
                  <a:pt x="14312" y="11485"/>
                </a:moveTo>
                <a:cubicBezTo>
                  <a:pt x="14326" y="11513"/>
                  <a:pt x="14347" y="11597"/>
                  <a:pt x="14362" y="11658"/>
                </a:cubicBezTo>
                <a:cubicBezTo>
                  <a:pt x="14430" y="11925"/>
                  <a:pt x="14454" y="12178"/>
                  <a:pt x="14486" y="12452"/>
                </a:cubicBezTo>
                <a:cubicBezTo>
                  <a:pt x="14501" y="12578"/>
                  <a:pt x="14521" y="12705"/>
                  <a:pt x="14536" y="12824"/>
                </a:cubicBezTo>
                <a:cubicBezTo>
                  <a:pt x="14543" y="12881"/>
                  <a:pt x="14554" y="12942"/>
                  <a:pt x="14560" y="12998"/>
                </a:cubicBezTo>
                <a:cubicBezTo>
                  <a:pt x="14569" y="13081"/>
                  <a:pt x="14583" y="13143"/>
                  <a:pt x="14610" y="13221"/>
                </a:cubicBezTo>
                <a:cubicBezTo>
                  <a:pt x="14623" y="13259"/>
                  <a:pt x="14622" y="13307"/>
                  <a:pt x="14635" y="13345"/>
                </a:cubicBezTo>
                <a:cubicBezTo>
                  <a:pt x="14697" y="13530"/>
                  <a:pt x="14608" y="13257"/>
                  <a:pt x="14585" y="13196"/>
                </a:cubicBezTo>
              </a:path>
              <a:path w="5706" h="2357">
                <a:moveTo>
                  <a:pt x="14759" y="12725"/>
                </a:moveTo>
                <a:cubicBezTo>
                  <a:pt x="14920" y="12725"/>
                  <a:pt x="15072" y="12676"/>
                  <a:pt x="15230" y="12650"/>
                </a:cubicBezTo>
                <a:cubicBezTo>
                  <a:pt x="15493" y="12606"/>
                  <a:pt x="15760" y="12555"/>
                  <a:pt x="16024" y="12526"/>
                </a:cubicBezTo>
              </a:path>
              <a:path w="5706" h="2357">
                <a:moveTo>
                  <a:pt x="15230" y="12948"/>
                </a:moveTo>
                <a:cubicBezTo>
                  <a:pt x="15319" y="13015"/>
                  <a:pt x="15511" y="12916"/>
                  <a:pt x="15602" y="12898"/>
                </a:cubicBezTo>
                <a:cubicBezTo>
                  <a:pt x="15675" y="12883"/>
                  <a:pt x="16024" y="12848"/>
                  <a:pt x="16073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8120" y="4179960"/>
            <a:ext cx="795600" cy="623880"/>
          </a:xfrm>
          <a:custGeom>
            <a:avLst/>
            <a:gdLst/>
            <a:ahLst/>
            <a:rect l="l" t="t" r="r" b="b"/>
            <a:pathLst>
              <a:path w="2209" h="1737">
                <a:moveTo>
                  <a:pt x="16718" y="11956"/>
                </a:moveTo>
                <a:cubicBezTo>
                  <a:pt x="16840" y="11874"/>
                  <a:pt x="17236" y="11611"/>
                  <a:pt x="17388" y="11757"/>
                </a:cubicBezTo>
                <a:cubicBezTo>
                  <a:pt x="17519" y="11882"/>
                  <a:pt x="17342" y="12286"/>
                  <a:pt x="17289" y="12402"/>
                </a:cubicBezTo>
                <a:cubicBezTo>
                  <a:pt x="17223" y="12545"/>
                  <a:pt x="17123" y="12684"/>
                  <a:pt x="17016" y="12799"/>
                </a:cubicBezTo>
                <a:cubicBezTo>
                  <a:pt x="16985" y="12832"/>
                  <a:pt x="16959" y="12860"/>
                  <a:pt x="16942" y="12898"/>
                </a:cubicBezTo>
                <a:cubicBezTo>
                  <a:pt x="16914" y="12961"/>
                  <a:pt x="16890" y="13034"/>
                  <a:pt x="16867" y="13097"/>
                </a:cubicBezTo>
                <a:cubicBezTo>
                  <a:pt x="17010" y="13049"/>
                  <a:pt x="17136" y="13000"/>
                  <a:pt x="17289" y="12973"/>
                </a:cubicBezTo>
                <a:cubicBezTo>
                  <a:pt x="17425" y="12949"/>
                  <a:pt x="17471" y="12960"/>
                  <a:pt x="17587" y="12973"/>
                </a:cubicBezTo>
              </a:path>
              <a:path w="2209" h="1737">
                <a:moveTo>
                  <a:pt x="18107" y="11807"/>
                </a:moveTo>
                <a:cubicBezTo>
                  <a:pt x="18107" y="11937"/>
                  <a:pt x="18103" y="12050"/>
                  <a:pt x="18083" y="12179"/>
                </a:cubicBezTo>
                <a:cubicBezTo>
                  <a:pt x="18065" y="12299"/>
                  <a:pt x="18058" y="12404"/>
                  <a:pt x="18058" y="12526"/>
                </a:cubicBezTo>
                <a:cubicBezTo>
                  <a:pt x="18249" y="12526"/>
                  <a:pt x="18438" y="12488"/>
                  <a:pt x="18628" y="12502"/>
                </a:cubicBezTo>
                <a:cubicBezTo>
                  <a:pt x="18719" y="12520"/>
                  <a:pt x="18726" y="12528"/>
                  <a:pt x="18777" y="12526"/>
                </a:cubicBezTo>
              </a:path>
              <a:path w="2209" h="1737">
                <a:moveTo>
                  <a:pt x="18901" y="11609"/>
                </a:moveTo>
                <a:cubicBezTo>
                  <a:pt x="18860" y="11711"/>
                  <a:pt x="18871" y="11763"/>
                  <a:pt x="18876" y="11881"/>
                </a:cubicBezTo>
                <a:cubicBezTo>
                  <a:pt x="18886" y="12130"/>
                  <a:pt x="18901" y="12376"/>
                  <a:pt x="18901" y="12626"/>
                </a:cubicBezTo>
                <a:cubicBezTo>
                  <a:pt x="18901" y="12795"/>
                  <a:pt x="18902" y="12957"/>
                  <a:pt x="18926" y="13122"/>
                </a:cubicBezTo>
                <a:cubicBezTo>
                  <a:pt x="18936" y="13193"/>
                  <a:pt x="18926" y="13273"/>
                  <a:pt x="18926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0240" y="5072040"/>
            <a:ext cx="1590840" cy="812880"/>
          </a:xfrm>
          <a:custGeom>
            <a:avLst/>
            <a:gdLst/>
            <a:ahLst/>
            <a:rect l="l" t="t" r="r" b="b"/>
            <a:pathLst>
              <a:path w="4416" h="2258">
                <a:moveTo>
                  <a:pt x="5085" y="14312"/>
                </a:moveTo>
                <a:cubicBezTo>
                  <a:pt x="5150" y="14286"/>
                  <a:pt x="5195" y="14279"/>
                  <a:pt x="5259" y="14263"/>
                </a:cubicBezTo>
                <a:cubicBezTo>
                  <a:pt x="5307" y="14251"/>
                  <a:pt x="5340" y="14225"/>
                  <a:pt x="5383" y="14213"/>
                </a:cubicBezTo>
                <a:cubicBezTo>
                  <a:pt x="5463" y="14190"/>
                  <a:pt x="5556" y="14157"/>
                  <a:pt x="5631" y="14139"/>
                </a:cubicBezTo>
                <a:cubicBezTo>
                  <a:pt x="5713" y="14119"/>
                  <a:pt x="5796" y="14127"/>
                  <a:pt x="5879" y="14114"/>
                </a:cubicBezTo>
                <a:cubicBezTo>
                  <a:pt x="5956" y="14102"/>
                  <a:pt x="6023" y="14091"/>
                  <a:pt x="6102" y="14089"/>
                </a:cubicBezTo>
                <a:cubicBezTo>
                  <a:pt x="6269" y="14085"/>
                  <a:pt x="6440" y="14082"/>
                  <a:pt x="6598" y="14114"/>
                </a:cubicBezTo>
                <a:cubicBezTo>
                  <a:pt x="6705" y="14136"/>
                  <a:pt x="6812" y="14124"/>
                  <a:pt x="6921" y="14139"/>
                </a:cubicBezTo>
                <a:cubicBezTo>
                  <a:pt x="7047" y="14156"/>
                  <a:pt x="7165" y="14184"/>
                  <a:pt x="7293" y="14188"/>
                </a:cubicBezTo>
                <a:cubicBezTo>
                  <a:pt x="7418" y="14192"/>
                  <a:pt x="7543" y="14214"/>
                  <a:pt x="7665" y="14238"/>
                </a:cubicBezTo>
                <a:cubicBezTo>
                  <a:pt x="7833" y="14271"/>
                  <a:pt x="8015" y="14296"/>
                  <a:pt x="8186" y="14312"/>
                </a:cubicBezTo>
                <a:cubicBezTo>
                  <a:pt x="8302" y="14323"/>
                  <a:pt x="8422" y="14350"/>
                  <a:pt x="8533" y="14362"/>
                </a:cubicBezTo>
                <a:cubicBezTo>
                  <a:pt x="8681" y="14378"/>
                  <a:pt x="8838" y="14328"/>
                  <a:pt x="8979" y="14337"/>
                </a:cubicBezTo>
                <a:cubicBezTo>
                  <a:pt x="9071" y="14343"/>
                  <a:pt x="9112" y="14360"/>
                  <a:pt x="9203" y="14337"/>
                </a:cubicBezTo>
              </a:path>
              <a:path w="4416" h="2258">
                <a:moveTo>
                  <a:pt x="5209" y="15429"/>
                </a:moveTo>
                <a:cubicBezTo>
                  <a:pt x="5243" y="15419"/>
                  <a:pt x="5273" y="15415"/>
                  <a:pt x="5308" y="15404"/>
                </a:cubicBezTo>
                <a:cubicBezTo>
                  <a:pt x="5360" y="15387"/>
                  <a:pt x="5425" y="15371"/>
                  <a:pt x="5482" y="15354"/>
                </a:cubicBezTo>
                <a:cubicBezTo>
                  <a:pt x="5549" y="15334"/>
                  <a:pt x="5613" y="15320"/>
                  <a:pt x="5680" y="15304"/>
                </a:cubicBezTo>
                <a:cubicBezTo>
                  <a:pt x="5756" y="15285"/>
                  <a:pt x="5779" y="15288"/>
                  <a:pt x="5854" y="15280"/>
                </a:cubicBezTo>
                <a:cubicBezTo>
                  <a:pt x="5968" y="15268"/>
                  <a:pt x="6127" y="15295"/>
                  <a:pt x="6201" y="15304"/>
                </a:cubicBezTo>
                <a:cubicBezTo>
                  <a:pt x="6263" y="15311"/>
                  <a:pt x="6292" y="15314"/>
                  <a:pt x="6350" y="15329"/>
                </a:cubicBezTo>
                <a:cubicBezTo>
                  <a:pt x="6393" y="15340"/>
                  <a:pt x="6419" y="15352"/>
                  <a:pt x="6474" y="15354"/>
                </a:cubicBezTo>
                <a:cubicBezTo>
                  <a:pt x="6569" y="15357"/>
                  <a:pt x="6655" y="15337"/>
                  <a:pt x="6747" y="15329"/>
                </a:cubicBezTo>
                <a:cubicBezTo>
                  <a:pt x="6906" y="15314"/>
                  <a:pt x="7065" y="15338"/>
                  <a:pt x="7218" y="15354"/>
                </a:cubicBezTo>
                <a:cubicBezTo>
                  <a:pt x="7308" y="15364"/>
                  <a:pt x="7414" y="15394"/>
                  <a:pt x="7491" y="15404"/>
                </a:cubicBezTo>
                <a:cubicBezTo>
                  <a:pt x="7582" y="15416"/>
                  <a:pt x="7674" y="15410"/>
                  <a:pt x="7764" y="15429"/>
                </a:cubicBezTo>
                <a:cubicBezTo>
                  <a:pt x="7879" y="15454"/>
                  <a:pt x="7996" y="15455"/>
                  <a:pt x="8111" y="15478"/>
                </a:cubicBezTo>
                <a:cubicBezTo>
                  <a:pt x="8238" y="15504"/>
                  <a:pt x="8380" y="15537"/>
                  <a:pt x="8508" y="15553"/>
                </a:cubicBezTo>
                <a:cubicBezTo>
                  <a:pt x="8616" y="15567"/>
                  <a:pt x="8774" y="15590"/>
                  <a:pt x="8880" y="15577"/>
                </a:cubicBezTo>
                <a:cubicBezTo>
                  <a:pt x="8937" y="15570"/>
                  <a:pt x="8968" y="15555"/>
                  <a:pt x="9029" y="15553"/>
                </a:cubicBezTo>
                <a:cubicBezTo>
                  <a:pt x="9141" y="15550"/>
                  <a:pt x="9246" y="15544"/>
                  <a:pt x="9351" y="15528"/>
                </a:cubicBezTo>
                <a:cubicBezTo>
                  <a:pt x="9359" y="15528"/>
                  <a:pt x="9368" y="15528"/>
                  <a:pt x="9376" y="15528"/>
                </a:cubicBezTo>
              </a:path>
              <a:path w="4416" h="2258">
                <a:moveTo>
                  <a:pt x="5730" y="16247"/>
                </a:moveTo>
                <a:cubicBezTo>
                  <a:pt x="5829" y="16241"/>
                  <a:pt x="5930" y="16236"/>
                  <a:pt x="6028" y="16222"/>
                </a:cubicBezTo>
                <a:cubicBezTo>
                  <a:pt x="6184" y="16199"/>
                  <a:pt x="6343" y="16165"/>
                  <a:pt x="6499" y="16148"/>
                </a:cubicBezTo>
                <a:cubicBezTo>
                  <a:pt x="6612" y="16136"/>
                  <a:pt x="6823" y="16116"/>
                  <a:pt x="6921" y="16123"/>
                </a:cubicBezTo>
                <a:cubicBezTo>
                  <a:pt x="6978" y="16127"/>
                  <a:pt x="7076" y="16165"/>
                  <a:pt x="7144" y="16173"/>
                </a:cubicBezTo>
                <a:cubicBezTo>
                  <a:pt x="7365" y="16198"/>
                  <a:pt x="7597" y="16163"/>
                  <a:pt x="7813" y="16148"/>
                </a:cubicBezTo>
                <a:cubicBezTo>
                  <a:pt x="8084" y="16129"/>
                  <a:pt x="8390" y="16128"/>
                  <a:pt x="8657" y="16173"/>
                </a:cubicBezTo>
                <a:cubicBezTo>
                  <a:pt x="8800" y="16197"/>
                  <a:pt x="8941" y="16230"/>
                  <a:pt x="9079" y="16272"/>
                </a:cubicBezTo>
                <a:cubicBezTo>
                  <a:pt x="9164" y="16298"/>
                  <a:pt x="9239" y="16334"/>
                  <a:pt x="9327" y="16346"/>
                </a:cubicBezTo>
                <a:cubicBezTo>
                  <a:pt x="9382" y="16354"/>
                  <a:pt x="9444" y="16346"/>
                  <a:pt x="9500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11240" y="5840280"/>
            <a:ext cx="3197160" cy="463680"/>
          </a:xfrm>
          <a:custGeom>
            <a:avLst/>
            <a:gdLst/>
            <a:ahLst/>
            <a:rect l="l" t="t" r="r" b="b"/>
            <a:pathLst>
              <a:path w="8881" h="1291">
                <a:moveTo>
                  <a:pt x="14188" y="16222"/>
                </a:moveTo>
                <a:lnTo>
                  <a:pt x="14188" y="16222"/>
                </a:lnTo>
                <a:lnTo>
                  <a:pt x="14188" y="16222"/>
                </a:lnTo>
              </a:path>
              <a:path w="8881" h="1291">
                <a:moveTo>
                  <a:pt x="5308" y="17512"/>
                </a:moveTo>
                <a:lnTo>
                  <a:pt x="5308" y="1751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6160" y="5688000"/>
            <a:ext cx="2652840" cy="795240"/>
          </a:xfrm>
          <a:custGeom>
            <a:avLst/>
            <a:gdLst/>
            <a:ahLst/>
            <a:rect l="l" t="t" r="r" b="b"/>
            <a:pathLst>
              <a:path w="7368" h="2208">
                <a:moveTo>
                  <a:pt x="3423" y="16197"/>
                </a:moveTo>
                <a:cubicBezTo>
                  <a:pt x="3366" y="16410"/>
                  <a:pt x="3321" y="16626"/>
                  <a:pt x="3274" y="16842"/>
                </a:cubicBezTo>
                <a:cubicBezTo>
                  <a:pt x="3213" y="17122"/>
                  <a:pt x="3193" y="17403"/>
                  <a:pt x="3150" y="17686"/>
                </a:cubicBezTo>
                <a:cubicBezTo>
                  <a:pt x="3136" y="17776"/>
                  <a:pt x="3103" y="17930"/>
                  <a:pt x="3076" y="17983"/>
                </a:cubicBezTo>
              </a:path>
              <a:path w="7368" h="2208">
                <a:moveTo>
                  <a:pt x="3274" y="16966"/>
                </a:moveTo>
                <a:cubicBezTo>
                  <a:pt x="3084" y="16938"/>
                  <a:pt x="2907" y="16908"/>
                  <a:pt x="2729" y="16842"/>
                </a:cubicBezTo>
                <a:cubicBezTo>
                  <a:pt x="2604" y="16796"/>
                  <a:pt x="2482" y="16796"/>
                  <a:pt x="2356" y="16768"/>
                </a:cubicBezTo>
                <a:cubicBezTo>
                  <a:pt x="2309" y="16758"/>
                  <a:pt x="2271" y="16743"/>
                  <a:pt x="2257" y="16718"/>
                </a:cubicBezTo>
                <a:cubicBezTo>
                  <a:pt x="2161" y="16553"/>
                  <a:pt x="2186" y="16278"/>
                  <a:pt x="2183" y="16098"/>
                </a:cubicBezTo>
                <a:cubicBezTo>
                  <a:pt x="2180" y="15938"/>
                  <a:pt x="2161" y="15850"/>
                  <a:pt x="2158" y="15850"/>
                </a:cubicBezTo>
              </a:path>
              <a:path w="7368" h="2208">
                <a:moveTo>
                  <a:pt x="4341" y="16495"/>
                </a:moveTo>
                <a:cubicBezTo>
                  <a:pt x="4370" y="16582"/>
                  <a:pt x="4410" y="16675"/>
                  <a:pt x="4440" y="16768"/>
                </a:cubicBezTo>
                <a:cubicBezTo>
                  <a:pt x="4460" y="16828"/>
                  <a:pt x="4465" y="16839"/>
                  <a:pt x="4465" y="16892"/>
                </a:cubicBezTo>
                <a:cubicBezTo>
                  <a:pt x="4401" y="16867"/>
                  <a:pt x="4322" y="16800"/>
                  <a:pt x="4266" y="16768"/>
                </a:cubicBezTo>
                <a:cubicBezTo>
                  <a:pt x="4229" y="16747"/>
                  <a:pt x="4203" y="16749"/>
                  <a:pt x="4217" y="16743"/>
                </a:cubicBezTo>
                <a:cubicBezTo>
                  <a:pt x="4278" y="16719"/>
                  <a:pt x="4205" y="16671"/>
                  <a:pt x="4142" y="16718"/>
                </a:cubicBezTo>
                <a:cubicBezTo>
                  <a:pt x="4014" y="16812"/>
                  <a:pt x="3917" y="17062"/>
                  <a:pt x="4068" y="17190"/>
                </a:cubicBezTo>
                <a:cubicBezTo>
                  <a:pt x="4338" y="17418"/>
                  <a:pt x="4440" y="17005"/>
                  <a:pt x="4366" y="16818"/>
                </a:cubicBezTo>
                <a:cubicBezTo>
                  <a:pt x="4333" y="16777"/>
                  <a:pt x="4299" y="16735"/>
                  <a:pt x="4266" y="16694"/>
                </a:cubicBezTo>
                <a:cubicBezTo>
                  <a:pt x="4107" y="16715"/>
                  <a:pt x="4002" y="16775"/>
                  <a:pt x="4068" y="16966"/>
                </a:cubicBezTo>
                <a:cubicBezTo>
                  <a:pt x="4085" y="16991"/>
                  <a:pt x="4101" y="17016"/>
                  <a:pt x="4118" y="17041"/>
                </a:cubicBezTo>
                <a:cubicBezTo>
                  <a:pt x="4280" y="17016"/>
                  <a:pt x="4391" y="16906"/>
                  <a:pt x="4242" y="16743"/>
                </a:cubicBezTo>
                <a:cubicBezTo>
                  <a:pt x="4217" y="16735"/>
                  <a:pt x="4192" y="16726"/>
                  <a:pt x="4167" y="16718"/>
                </a:cubicBezTo>
                <a:cubicBezTo>
                  <a:pt x="4080" y="16805"/>
                  <a:pt x="3965" y="16936"/>
                  <a:pt x="4118" y="17041"/>
                </a:cubicBezTo>
                <a:cubicBezTo>
                  <a:pt x="4237" y="17123"/>
                  <a:pt x="4313" y="16906"/>
                  <a:pt x="4217" y="16842"/>
                </a:cubicBezTo>
                <a:cubicBezTo>
                  <a:pt x="4200" y="16842"/>
                  <a:pt x="4184" y="16842"/>
                  <a:pt x="4167" y="16842"/>
                </a:cubicBezTo>
                <a:cubicBezTo>
                  <a:pt x="4160" y="16856"/>
                  <a:pt x="4114" y="17117"/>
                  <a:pt x="4192" y="17016"/>
                </a:cubicBezTo>
                <a:cubicBezTo>
                  <a:pt x="4241" y="16952"/>
                  <a:pt x="4165" y="16946"/>
                  <a:pt x="4142" y="16942"/>
                </a:cubicBezTo>
              </a:path>
              <a:path w="7368" h="2208">
                <a:moveTo>
                  <a:pt x="4936" y="16545"/>
                </a:moveTo>
                <a:cubicBezTo>
                  <a:pt x="4992" y="16545"/>
                  <a:pt x="4993" y="16557"/>
                  <a:pt x="5011" y="16619"/>
                </a:cubicBezTo>
                <a:cubicBezTo>
                  <a:pt x="5082" y="16863"/>
                  <a:pt x="5152" y="17098"/>
                  <a:pt x="5234" y="17338"/>
                </a:cubicBezTo>
                <a:cubicBezTo>
                  <a:pt x="5253" y="17394"/>
                  <a:pt x="5258" y="17495"/>
                  <a:pt x="5308" y="17512"/>
                </a:cubicBezTo>
              </a:path>
              <a:path w="7368" h="2208">
                <a:moveTo>
                  <a:pt x="5333" y="17512"/>
                </a:moveTo>
                <a:cubicBezTo>
                  <a:pt x="5434" y="17529"/>
                  <a:pt x="5457" y="17526"/>
                  <a:pt x="5556" y="17512"/>
                </a:cubicBezTo>
                <a:cubicBezTo>
                  <a:pt x="5657" y="17497"/>
                  <a:pt x="5733" y="17452"/>
                  <a:pt x="5755" y="17338"/>
                </a:cubicBezTo>
                <a:cubicBezTo>
                  <a:pt x="5779" y="17209"/>
                  <a:pt x="5753" y="17039"/>
                  <a:pt x="5705" y="16917"/>
                </a:cubicBezTo>
                <a:cubicBezTo>
                  <a:pt x="5650" y="16776"/>
                  <a:pt x="5598" y="16748"/>
                  <a:pt x="5457" y="16743"/>
                </a:cubicBezTo>
                <a:cubicBezTo>
                  <a:pt x="5314" y="16738"/>
                  <a:pt x="5177" y="16897"/>
                  <a:pt x="5110" y="17016"/>
                </a:cubicBezTo>
                <a:cubicBezTo>
                  <a:pt x="5046" y="17131"/>
                  <a:pt x="5015" y="17269"/>
                  <a:pt x="4961" y="17388"/>
                </a:cubicBezTo>
                <a:cubicBezTo>
                  <a:pt x="4942" y="17430"/>
                  <a:pt x="4921" y="17448"/>
                  <a:pt x="4911" y="17487"/>
                </a:cubicBezTo>
              </a:path>
              <a:path w="7368" h="2208">
                <a:moveTo>
                  <a:pt x="6424" y="16991"/>
                </a:moveTo>
                <a:cubicBezTo>
                  <a:pt x="6506" y="16991"/>
                  <a:pt x="6569" y="16976"/>
                  <a:pt x="6648" y="16966"/>
                </a:cubicBezTo>
                <a:cubicBezTo>
                  <a:pt x="6728" y="16956"/>
                  <a:pt x="7006" y="16966"/>
                  <a:pt x="6995" y="16966"/>
                </a:cubicBezTo>
              </a:path>
              <a:path w="7368" h="2208">
                <a:moveTo>
                  <a:pt x="6226" y="17611"/>
                </a:moveTo>
                <a:cubicBezTo>
                  <a:pt x="6372" y="17611"/>
                  <a:pt x="6503" y="17585"/>
                  <a:pt x="6648" y="17562"/>
                </a:cubicBezTo>
                <a:cubicBezTo>
                  <a:pt x="6763" y="17544"/>
                  <a:pt x="6857" y="17537"/>
                  <a:pt x="6970" y="17537"/>
                </a:cubicBezTo>
              </a:path>
              <a:path w="7368" h="2208">
                <a:moveTo>
                  <a:pt x="7615" y="16892"/>
                </a:moveTo>
                <a:cubicBezTo>
                  <a:pt x="7731" y="16809"/>
                  <a:pt x="7825" y="16821"/>
                  <a:pt x="7962" y="16793"/>
                </a:cubicBezTo>
                <a:cubicBezTo>
                  <a:pt x="8065" y="16772"/>
                  <a:pt x="8112" y="16763"/>
                  <a:pt x="8210" y="16793"/>
                </a:cubicBezTo>
                <a:cubicBezTo>
                  <a:pt x="8117" y="16965"/>
                  <a:pt x="8029" y="17092"/>
                  <a:pt x="7888" y="17239"/>
                </a:cubicBezTo>
                <a:cubicBezTo>
                  <a:pt x="7759" y="17373"/>
                  <a:pt x="7646" y="17507"/>
                  <a:pt x="7541" y="17661"/>
                </a:cubicBezTo>
                <a:cubicBezTo>
                  <a:pt x="7477" y="17755"/>
                  <a:pt x="7429" y="17821"/>
                  <a:pt x="7417" y="17934"/>
                </a:cubicBezTo>
                <a:cubicBezTo>
                  <a:pt x="7594" y="17985"/>
                  <a:pt x="7754" y="17983"/>
                  <a:pt x="7938" y="17983"/>
                </a:cubicBezTo>
                <a:cubicBezTo>
                  <a:pt x="7986" y="17983"/>
                  <a:pt x="8004" y="17972"/>
                  <a:pt x="8012" y="17934"/>
                </a:cubicBezTo>
                <a:cubicBezTo>
                  <a:pt x="8012" y="17901"/>
                  <a:pt x="8012" y="17868"/>
                  <a:pt x="8012" y="17835"/>
                </a:cubicBezTo>
              </a:path>
              <a:path w="7368" h="2208">
                <a:moveTo>
                  <a:pt x="9500" y="16545"/>
                </a:moveTo>
                <a:cubicBezTo>
                  <a:pt x="9533" y="16789"/>
                  <a:pt x="9484" y="17094"/>
                  <a:pt x="9426" y="17338"/>
                </a:cubicBezTo>
                <a:cubicBezTo>
                  <a:pt x="9375" y="17550"/>
                  <a:pt x="9306" y="17780"/>
                  <a:pt x="9227" y="17983"/>
                </a:cubicBezTo>
                <a:cubicBezTo>
                  <a:pt x="9215" y="18015"/>
                  <a:pt x="9225" y="17976"/>
                  <a:pt x="9203" y="17909"/>
                </a:cubicBezTo>
              </a:path>
              <a:path w="7368" h="2208">
                <a:moveTo>
                  <a:pt x="9376" y="17537"/>
                </a:moveTo>
                <a:cubicBezTo>
                  <a:pt x="9211" y="17582"/>
                  <a:pt x="9125" y="17603"/>
                  <a:pt x="8954" y="17537"/>
                </a:cubicBezTo>
                <a:cubicBezTo>
                  <a:pt x="8830" y="17490"/>
                  <a:pt x="8738" y="17404"/>
                  <a:pt x="8756" y="17264"/>
                </a:cubicBezTo>
                <a:cubicBezTo>
                  <a:pt x="8785" y="17032"/>
                  <a:pt x="8888" y="16807"/>
                  <a:pt x="8979" y="16594"/>
                </a:cubicBezTo>
                <a:cubicBezTo>
                  <a:pt x="8993" y="16562"/>
                  <a:pt x="8988" y="16576"/>
                  <a:pt x="9004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97280" y="5911920"/>
            <a:ext cx="704880" cy="446040"/>
          </a:xfrm>
          <a:custGeom>
            <a:avLst/>
            <a:gdLst/>
            <a:ahLst/>
            <a:rect l="l" t="t" r="r" b="b"/>
            <a:pathLst>
              <a:path w="1961" h="1241">
                <a:moveTo>
                  <a:pt x="13593" y="16917"/>
                </a:moveTo>
                <a:cubicBezTo>
                  <a:pt x="13593" y="16900"/>
                  <a:pt x="13593" y="16884"/>
                  <a:pt x="13593" y="16867"/>
                </a:cubicBezTo>
                <a:cubicBezTo>
                  <a:pt x="13626" y="16948"/>
                  <a:pt x="13526" y="17119"/>
                  <a:pt x="13494" y="17214"/>
                </a:cubicBezTo>
                <a:cubicBezTo>
                  <a:pt x="13456" y="17324"/>
                  <a:pt x="13420" y="17576"/>
                  <a:pt x="13345" y="17661"/>
                </a:cubicBezTo>
                <a:cubicBezTo>
                  <a:pt x="13302" y="17661"/>
                  <a:pt x="13288" y="17644"/>
                  <a:pt x="13295" y="17587"/>
                </a:cubicBezTo>
              </a:path>
              <a:path w="1961" h="1241">
                <a:moveTo>
                  <a:pt x="13047" y="17140"/>
                </a:moveTo>
                <a:cubicBezTo>
                  <a:pt x="13088" y="17099"/>
                  <a:pt x="13211" y="17225"/>
                  <a:pt x="13271" y="17264"/>
                </a:cubicBezTo>
                <a:cubicBezTo>
                  <a:pt x="13408" y="17353"/>
                  <a:pt x="13570" y="17441"/>
                  <a:pt x="13717" y="17512"/>
                </a:cubicBezTo>
                <a:cubicBezTo>
                  <a:pt x="13776" y="17541"/>
                  <a:pt x="13853" y="17554"/>
                  <a:pt x="13915" y="17562"/>
                </a:cubicBezTo>
              </a:path>
              <a:path w="1961" h="1241">
                <a:moveTo>
                  <a:pt x="14362" y="16570"/>
                </a:moveTo>
                <a:cubicBezTo>
                  <a:pt x="14362" y="16520"/>
                  <a:pt x="14362" y="16471"/>
                  <a:pt x="14362" y="16421"/>
                </a:cubicBezTo>
                <a:cubicBezTo>
                  <a:pt x="14362" y="16548"/>
                  <a:pt x="14357" y="16668"/>
                  <a:pt x="14387" y="16793"/>
                </a:cubicBezTo>
                <a:cubicBezTo>
                  <a:pt x="14409" y="16887"/>
                  <a:pt x="14437" y="17088"/>
                  <a:pt x="14560" y="17115"/>
                </a:cubicBezTo>
                <a:cubicBezTo>
                  <a:pt x="14680" y="17141"/>
                  <a:pt x="14823" y="17051"/>
                  <a:pt x="14932" y="17016"/>
                </a:cubicBezTo>
                <a:cubicBezTo>
                  <a:pt x="14957" y="17008"/>
                  <a:pt x="14982" y="16999"/>
                  <a:pt x="15007" y="16991"/>
                </a:cubicBezTo>
              </a:path>
              <a:path w="1961" h="1241">
                <a:moveTo>
                  <a:pt x="14684" y="16446"/>
                </a:moveTo>
                <a:cubicBezTo>
                  <a:pt x="14744" y="16658"/>
                  <a:pt x="14804" y="16886"/>
                  <a:pt x="14883" y="17090"/>
                </a:cubicBezTo>
                <a:cubicBezTo>
                  <a:pt x="14914" y="17171"/>
                  <a:pt x="14964" y="17289"/>
                  <a:pt x="15007" y="173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80080" y="5857920"/>
            <a:ext cx="973080" cy="482400"/>
          </a:xfrm>
          <a:custGeom>
            <a:avLst/>
            <a:gdLst/>
            <a:ahLst/>
            <a:rect l="l" t="t" r="r" b="b"/>
            <a:pathLst>
              <a:path w="2704" h="1340">
                <a:moveTo>
                  <a:pt x="15801" y="17090"/>
                </a:moveTo>
                <a:cubicBezTo>
                  <a:pt x="15727" y="17115"/>
                  <a:pt x="15826" y="17264"/>
                  <a:pt x="15850" y="17314"/>
                </a:cubicBezTo>
                <a:cubicBezTo>
                  <a:pt x="15892" y="17402"/>
                  <a:pt x="15939" y="17500"/>
                  <a:pt x="15974" y="17587"/>
                </a:cubicBezTo>
                <a:cubicBezTo>
                  <a:pt x="15974" y="17595"/>
                  <a:pt x="15974" y="17603"/>
                  <a:pt x="15974" y="17611"/>
                </a:cubicBezTo>
                <a:cubicBezTo>
                  <a:pt x="15974" y="17516"/>
                  <a:pt x="15913" y="17449"/>
                  <a:pt x="15900" y="17363"/>
                </a:cubicBezTo>
                <a:cubicBezTo>
                  <a:pt x="15876" y="17204"/>
                  <a:pt x="15901" y="17066"/>
                  <a:pt x="16073" y="17041"/>
                </a:cubicBezTo>
                <a:cubicBezTo>
                  <a:pt x="16083" y="17039"/>
                  <a:pt x="16255" y="17045"/>
                  <a:pt x="16272" y="17066"/>
                </a:cubicBezTo>
                <a:cubicBezTo>
                  <a:pt x="16272" y="17074"/>
                  <a:pt x="16272" y="17082"/>
                  <a:pt x="16272" y="17090"/>
                </a:cubicBezTo>
              </a:path>
              <a:path w="2704" h="1340">
                <a:moveTo>
                  <a:pt x="16718" y="16793"/>
                </a:moveTo>
                <a:cubicBezTo>
                  <a:pt x="16684" y="16757"/>
                  <a:pt x="16662" y="16744"/>
                  <a:pt x="16619" y="16743"/>
                </a:cubicBezTo>
                <a:cubicBezTo>
                  <a:pt x="16504" y="16842"/>
                  <a:pt x="16499" y="16920"/>
                  <a:pt x="16545" y="17066"/>
                </a:cubicBezTo>
                <a:cubicBezTo>
                  <a:pt x="16597" y="17230"/>
                  <a:pt x="16680" y="17337"/>
                  <a:pt x="16867" y="17239"/>
                </a:cubicBezTo>
                <a:cubicBezTo>
                  <a:pt x="17036" y="17150"/>
                  <a:pt x="16908" y="16969"/>
                  <a:pt x="16842" y="16867"/>
                </a:cubicBezTo>
                <a:cubicBezTo>
                  <a:pt x="16809" y="16816"/>
                  <a:pt x="16702" y="16744"/>
                  <a:pt x="16718" y="16743"/>
                </a:cubicBezTo>
                <a:cubicBezTo>
                  <a:pt x="16785" y="16743"/>
                  <a:pt x="16819" y="16747"/>
                  <a:pt x="16867" y="16768"/>
                </a:cubicBezTo>
              </a:path>
              <a:path w="2704" h="1340">
                <a:moveTo>
                  <a:pt x="17016" y="16694"/>
                </a:moveTo>
                <a:cubicBezTo>
                  <a:pt x="17030" y="16834"/>
                  <a:pt x="17060" y="16982"/>
                  <a:pt x="17190" y="17066"/>
                </a:cubicBezTo>
                <a:cubicBezTo>
                  <a:pt x="17309" y="17143"/>
                  <a:pt x="17441" y="17073"/>
                  <a:pt x="17462" y="16942"/>
                </a:cubicBezTo>
                <a:cubicBezTo>
                  <a:pt x="17478" y="16842"/>
                  <a:pt x="17453" y="16822"/>
                  <a:pt x="17438" y="16743"/>
                </a:cubicBezTo>
                <a:cubicBezTo>
                  <a:pt x="17456" y="16837"/>
                  <a:pt x="17507" y="16889"/>
                  <a:pt x="17587" y="16942"/>
                </a:cubicBezTo>
                <a:cubicBezTo>
                  <a:pt x="17692" y="17011"/>
                  <a:pt x="17778" y="16920"/>
                  <a:pt x="17810" y="16818"/>
                </a:cubicBezTo>
                <a:cubicBezTo>
                  <a:pt x="17845" y="16705"/>
                  <a:pt x="17752" y="16614"/>
                  <a:pt x="17735" y="16520"/>
                </a:cubicBezTo>
                <a:cubicBezTo>
                  <a:pt x="17728" y="16480"/>
                  <a:pt x="17758" y="16495"/>
                  <a:pt x="17785" y="16495"/>
                </a:cubicBezTo>
              </a:path>
              <a:path w="2704" h="1340">
                <a:moveTo>
                  <a:pt x="18132" y="16396"/>
                </a:moveTo>
                <a:cubicBezTo>
                  <a:pt x="18241" y="16357"/>
                  <a:pt x="18247" y="16350"/>
                  <a:pt x="18306" y="16272"/>
                </a:cubicBezTo>
                <a:cubicBezTo>
                  <a:pt x="18186" y="16272"/>
                  <a:pt x="18097" y="16307"/>
                  <a:pt x="18008" y="16396"/>
                </a:cubicBezTo>
                <a:cubicBezTo>
                  <a:pt x="17929" y="16476"/>
                  <a:pt x="17977" y="16579"/>
                  <a:pt x="18083" y="16594"/>
                </a:cubicBezTo>
                <a:cubicBezTo>
                  <a:pt x="18223" y="16614"/>
                  <a:pt x="18373" y="16579"/>
                  <a:pt x="18455" y="16718"/>
                </a:cubicBezTo>
                <a:cubicBezTo>
                  <a:pt x="18522" y="16830"/>
                  <a:pt x="18332" y="16997"/>
                  <a:pt x="18256" y="16892"/>
                </a:cubicBezTo>
                <a:cubicBezTo>
                  <a:pt x="18264" y="16875"/>
                  <a:pt x="18273" y="16859"/>
                  <a:pt x="18281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1880" y="5464080"/>
            <a:ext cx="125280" cy="54000"/>
          </a:xfrm>
          <a:custGeom>
            <a:avLst/>
            <a:gdLst/>
            <a:ahLst/>
            <a:rect l="l" t="t" r="r" b="b"/>
            <a:pathLst>
              <a:path w="348" h="150">
                <a:moveTo>
                  <a:pt x="18628" y="15180"/>
                </a:moveTo>
                <a:cubicBezTo>
                  <a:pt x="18565" y="15243"/>
                  <a:pt x="18405" y="15293"/>
                  <a:pt x="18306" y="15329"/>
                </a:cubicBezTo>
                <a:cubicBezTo>
                  <a:pt x="18298" y="15329"/>
                  <a:pt x="18289" y="15329"/>
                  <a:pt x="18281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64040" y="5170320"/>
            <a:ext cx="339840" cy="544680"/>
          </a:xfrm>
          <a:custGeom>
            <a:avLst/>
            <a:gdLst/>
            <a:ahLst/>
            <a:rect l="l" t="t" r="r" b="b"/>
            <a:pathLst>
              <a:path w="944" h="1514">
                <a:moveTo>
                  <a:pt x="14238" y="14560"/>
                </a:moveTo>
                <a:cubicBezTo>
                  <a:pt x="14220" y="14479"/>
                  <a:pt x="14233" y="14393"/>
                  <a:pt x="14139" y="14362"/>
                </a:cubicBezTo>
                <a:cubicBezTo>
                  <a:pt x="14004" y="14317"/>
                  <a:pt x="13900" y="14437"/>
                  <a:pt x="13841" y="14536"/>
                </a:cubicBezTo>
                <a:cubicBezTo>
                  <a:pt x="13761" y="14670"/>
                  <a:pt x="13791" y="14831"/>
                  <a:pt x="13791" y="14982"/>
                </a:cubicBezTo>
                <a:cubicBezTo>
                  <a:pt x="13791" y="15152"/>
                  <a:pt x="13826" y="15321"/>
                  <a:pt x="13891" y="15478"/>
                </a:cubicBezTo>
                <a:cubicBezTo>
                  <a:pt x="13956" y="15634"/>
                  <a:pt x="14085" y="15755"/>
                  <a:pt x="14238" y="15825"/>
                </a:cubicBezTo>
                <a:cubicBezTo>
                  <a:pt x="14373" y="15887"/>
                  <a:pt x="14460" y="15872"/>
                  <a:pt x="14585" y="15801"/>
                </a:cubicBezTo>
                <a:cubicBezTo>
                  <a:pt x="14719" y="15725"/>
                  <a:pt x="14758" y="15571"/>
                  <a:pt x="14709" y="15429"/>
                </a:cubicBezTo>
                <a:cubicBezTo>
                  <a:pt x="14668" y="15311"/>
                  <a:pt x="14553" y="15228"/>
                  <a:pt x="14436" y="15280"/>
                </a:cubicBezTo>
                <a:cubicBezTo>
                  <a:pt x="14319" y="15331"/>
                  <a:pt x="14299" y="15445"/>
                  <a:pt x="14263" y="15553"/>
                </a:cubicBezTo>
                <a:cubicBezTo>
                  <a:pt x="14229" y="15654"/>
                  <a:pt x="14241" y="15706"/>
                  <a:pt x="14263" y="15801"/>
                </a:cubicBezTo>
                <a:cubicBezTo>
                  <a:pt x="14263" y="15809"/>
                  <a:pt x="14263" y="15817"/>
                  <a:pt x="14263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18080" y="5268960"/>
            <a:ext cx="1509840" cy="677880"/>
          </a:xfrm>
          <a:custGeom>
            <a:avLst/>
            <a:gdLst/>
            <a:ahLst/>
            <a:rect l="l" t="t" r="r" b="b"/>
            <a:pathLst>
              <a:path w="4193" h="1886">
                <a:moveTo>
                  <a:pt x="15404" y="15453"/>
                </a:moveTo>
                <a:cubicBezTo>
                  <a:pt x="15404" y="15626"/>
                  <a:pt x="15430" y="15759"/>
                  <a:pt x="15478" y="15925"/>
                </a:cubicBezTo>
                <a:cubicBezTo>
                  <a:pt x="15527" y="16096"/>
                  <a:pt x="15600" y="16269"/>
                  <a:pt x="15627" y="16446"/>
                </a:cubicBezTo>
                <a:cubicBezTo>
                  <a:pt x="15632" y="16479"/>
                  <a:pt x="15627" y="16528"/>
                  <a:pt x="15627" y="16495"/>
                </a:cubicBezTo>
              </a:path>
              <a:path w="4193" h="1886">
                <a:moveTo>
                  <a:pt x="15329" y="15553"/>
                </a:moveTo>
                <a:cubicBezTo>
                  <a:pt x="15329" y="15453"/>
                  <a:pt x="15340" y="15374"/>
                  <a:pt x="15379" y="15280"/>
                </a:cubicBezTo>
                <a:cubicBezTo>
                  <a:pt x="15429" y="15157"/>
                  <a:pt x="15533" y="15140"/>
                  <a:pt x="15652" y="15180"/>
                </a:cubicBezTo>
                <a:cubicBezTo>
                  <a:pt x="15783" y="15224"/>
                  <a:pt x="15882" y="15321"/>
                  <a:pt x="15925" y="15453"/>
                </a:cubicBezTo>
                <a:cubicBezTo>
                  <a:pt x="15966" y="15579"/>
                  <a:pt x="15976" y="15741"/>
                  <a:pt x="15900" y="15850"/>
                </a:cubicBezTo>
                <a:cubicBezTo>
                  <a:pt x="15837" y="15941"/>
                  <a:pt x="15709" y="15941"/>
                  <a:pt x="15627" y="15900"/>
                </a:cubicBezTo>
              </a:path>
              <a:path w="4193" h="1886">
                <a:moveTo>
                  <a:pt x="16148" y="14784"/>
                </a:moveTo>
                <a:cubicBezTo>
                  <a:pt x="16148" y="14901"/>
                  <a:pt x="16161" y="15019"/>
                  <a:pt x="16197" y="15131"/>
                </a:cubicBezTo>
                <a:cubicBezTo>
                  <a:pt x="16257" y="15319"/>
                  <a:pt x="16320" y="15509"/>
                  <a:pt x="16371" y="15701"/>
                </a:cubicBezTo>
                <a:cubicBezTo>
                  <a:pt x="16393" y="15809"/>
                  <a:pt x="16396" y="15836"/>
                  <a:pt x="16421" y="15900"/>
                </a:cubicBezTo>
              </a:path>
              <a:path w="4193" h="1886">
                <a:moveTo>
                  <a:pt x="17214" y="15230"/>
                </a:moveTo>
                <a:cubicBezTo>
                  <a:pt x="17214" y="15158"/>
                  <a:pt x="17233" y="15106"/>
                  <a:pt x="17165" y="15056"/>
                </a:cubicBezTo>
                <a:cubicBezTo>
                  <a:pt x="17005" y="14939"/>
                  <a:pt x="16878" y="15063"/>
                  <a:pt x="16818" y="15205"/>
                </a:cubicBezTo>
                <a:cubicBezTo>
                  <a:pt x="16743" y="15382"/>
                  <a:pt x="16763" y="15638"/>
                  <a:pt x="16917" y="15776"/>
                </a:cubicBezTo>
                <a:cubicBezTo>
                  <a:pt x="17024" y="15872"/>
                  <a:pt x="17160" y="15827"/>
                  <a:pt x="17264" y="15776"/>
                </a:cubicBezTo>
              </a:path>
              <a:path w="4193" h="1886">
                <a:moveTo>
                  <a:pt x="17066" y="15081"/>
                </a:moveTo>
                <a:cubicBezTo>
                  <a:pt x="17118" y="15281"/>
                  <a:pt x="17196" y="15473"/>
                  <a:pt x="17239" y="15677"/>
                </a:cubicBezTo>
                <a:cubicBezTo>
                  <a:pt x="17239" y="15701"/>
                  <a:pt x="17239" y="15709"/>
                  <a:pt x="17239" y="15677"/>
                </a:cubicBezTo>
              </a:path>
              <a:path w="4193" h="1886">
                <a:moveTo>
                  <a:pt x="17487" y="14908"/>
                </a:moveTo>
                <a:cubicBezTo>
                  <a:pt x="17514" y="15029"/>
                  <a:pt x="17580" y="15152"/>
                  <a:pt x="17611" y="15280"/>
                </a:cubicBezTo>
                <a:cubicBezTo>
                  <a:pt x="17653" y="15454"/>
                  <a:pt x="17713" y="15586"/>
                  <a:pt x="17760" y="15751"/>
                </a:cubicBezTo>
                <a:cubicBezTo>
                  <a:pt x="17760" y="15784"/>
                  <a:pt x="17760" y="15784"/>
                  <a:pt x="17760" y="15726"/>
                </a:cubicBezTo>
                <a:cubicBezTo>
                  <a:pt x="17687" y="15532"/>
                  <a:pt x="17610" y="15339"/>
                  <a:pt x="17587" y="15131"/>
                </a:cubicBezTo>
                <a:cubicBezTo>
                  <a:pt x="17576" y="15027"/>
                  <a:pt x="17627" y="14858"/>
                  <a:pt x="17760" y="14858"/>
                </a:cubicBezTo>
                <a:cubicBezTo>
                  <a:pt x="17895" y="14858"/>
                  <a:pt x="17992" y="15026"/>
                  <a:pt x="18033" y="15131"/>
                </a:cubicBezTo>
                <a:cubicBezTo>
                  <a:pt x="18089" y="15275"/>
                  <a:pt x="18092" y="15451"/>
                  <a:pt x="18107" y="15602"/>
                </a:cubicBezTo>
                <a:cubicBezTo>
                  <a:pt x="18114" y="15670"/>
                  <a:pt x="18086" y="15746"/>
                  <a:pt x="18132" y="15776"/>
                </a:cubicBezTo>
              </a:path>
              <a:path w="4193" h="1886">
                <a:moveTo>
                  <a:pt x="18281" y="14635"/>
                </a:moveTo>
                <a:cubicBezTo>
                  <a:pt x="18281" y="14827"/>
                  <a:pt x="18273" y="15016"/>
                  <a:pt x="18306" y="15205"/>
                </a:cubicBezTo>
                <a:cubicBezTo>
                  <a:pt x="18333" y="15359"/>
                  <a:pt x="18355" y="15472"/>
                  <a:pt x="18479" y="15577"/>
                </a:cubicBezTo>
                <a:cubicBezTo>
                  <a:pt x="18571" y="15655"/>
                  <a:pt x="18672" y="15668"/>
                  <a:pt x="18777" y="15602"/>
                </a:cubicBezTo>
                <a:cubicBezTo>
                  <a:pt x="18826" y="15571"/>
                  <a:pt x="18850" y="15497"/>
                  <a:pt x="18876" y="15478"/>
                </a:cubicBezTo>
                <a:cubicBezTo>
                  <a:pt x="18901" y="15478"/>
                  <a:pt x="18909" y="15478"/>
                  <a:pt x="18901" y="15453"/>
                </a:cubicBezTo>
              </a:path>
              <a:path w="4193" h="1886">
                <a:moveTo>
                  <a:pt x="19248" y="14833"/>
                </a:moveTo>
                <a:cubicBezTo>
                  <a:pt x="19318" y="14810"/>
                  <a:pt x="19218" y="14746"/>
                  <a:pt x="19174" y="14734"/>
                </a:cubicBezTo>
                <a:cubicBezTo>
                  <a:pt x="19044" y="14698"/>
                  <a:pt x="19005" y="14875"/>
                  <a:pt x="18976" y="14957"/>
                </a:cubicBezTo>
                <a:cubicBezTo>
                  <a:pt x="18955" y="15016"/>
                  <a:pt x="18951" y="15028"/>
                  <a:pt x="18951" y="15081"/>
                </a:cubicBezTo>
                <a:cubicBezTo>
                  <a:pt x="19069" y="15118"/>
                  <a:pt x="19212" y="15130"/>
                  <a:pt x="19323" y="15180"/>
                </a:cubicBezTo>
                <a:cubicBezTo>
                  <a:pt x="19432" y="15229"/>
                  <a:pt x="19526" y="15353"/>
                  <a:pt x="19521" y="15478"/>
                </a:cubicBezTo>
                <a:cubicBezTo>
                  <a:pt x="19516" y="15588"/>
                  <a:pt x="19462" y="15631"/>
                  <a:pt x="19372" y="15652"/>
                </a:cubicBezTo>
                <a:cubicBezTo>
                  <a:pt x="19332" y="15661"/>
                  <a:pt x="19332" y="15655"/>
                  <a:pt x="19323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50000" y="6392880"/>
            <a:ext cx="1000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19025" y="17760"/>
                </a:moveTo>
                <a:cubicBezTo>
                  <a:pt x="18934" y="17862"/>
                  <a:pt x="18873" y="17848"/>
                  <a:pt x="18752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18040" y="6357960"/>
            <a:ext cx="2098800" cy="428760"/>
          </a:xfrm>
          <a:custGeom>
            <a:avLst/>
            <a:gdLst/>
            <a:ahLst/>
            <a:rect l="l" t="t" r="r" b="b"/>
            <a:pathLst>
              <a:path w="5830" h="1192">
                <a:moveTo>
                  <a:pt x="15677" y="18008"/>
                </a:moveTo>
                <a:cubicBezTo>
                  <a:pt x="15687" y="17984"/>
                  <a:pt x="15691" y="17958"/>
                  <a:pt x="15701" y="17934"/>
                </a:cubicBezTo>
                <a:cubicBezTo>
                  <a:pt x="15585" y="17981"/>
                  <a:pt x="15471" y="18057"/>
                  <a:pt x="15354" y="18107"/>
                </a:cubicBezTo>
                <a:cubicBezTo>
                  <a:pt x="15163" y="18189"/>
                  <a:pt x="14978" y="18240"/>
                  <a:pt x="14784" y="18306"/>
                </a:cubicBezTo>
                <a:cubicBezTo>
                  <a:pt x="14643" y="18354"/>
                  <a:pt x="14509" y="18394"/>
                  <a:pt x="14362" y="18430"/>
                </a:cubicBezTo>
                <a:cubicBezTo>
                  <a:pt x="14259" y="18455"/>
                  <a:pt x="14159" y="18483"/>
                  <a:pt x="14064" y="18529"/>
                </a:cubicBezTo>
                <a:cubicBezTo>
                  <a:pt x="14013" y="18554"/>
                  <a:pt x="14006" y="18554"/>
                  <a:pt x="13940" y="18554"/>
                </a:cubicBezTo>
              </a:path>
              <a:path w="5830" h="1192">
                <a:moveTo>
                  <a:pt x="15032" y="18728"/>
                </a:moveTo>
                <a:cubicBezTo>
                  <a:pt x="15032" y="18683"/>
                  <a:pt x="15023" y="18526"/>
                  <a:pt x="15081" y="18504"/>
                </a:cubicBezTo>
                <a:cubicBezTo>
                  <a:pt x="15105" y="18495"/>
                  <a:pt x="15277" y="18488"/>
                  <a:pt x="15304" y="18529"/>
                </a:cubicBezTo>
                <a:cubicBezTo>
                  <a:pt x="15363" y="18619"/>
                  <a:pt x="15320" y="18735"/>
                  <a:pt x="15304" y="18827"/>
                </a:cubicBezTo>
                <a:cubicBezTo>
                  <a:pt x="15304" y="18835"/>
                  <a:pt x="15304" y="18844"/>
                  <a:pt x="15304" y="18852"/>
                </a:cubicBezTo>
                <a:cubicBezTo>
                  <a:pt x="15462" y="18852"/>
                  <a:pt x="15708" y="18907"/>
                  <a:pt x="15751" y="18777"/>
                </a:cubicBezTo>
              </a:path>
              <a:path w="5830" h="1192">
                <a:moveTo>
                  <a:pt x="15652" y="18281"/>
                </a:moveTo>
                <a:cubicBezTo>
                  <a:pt x="15652" y="18350"/>
                  <a:pt x="15675" y="18415"/>
                  <a:pt x="15701" y="18479"/>
                </a:cubicBezTo>
                <a:cubicBezTo>
                  <a:pt x="15735" y="18562"/>
                  <a:pt x="15747" y="18571"/>
                  <a:pt x="15850" y="18554"/>
                </a:cubicBezTo>
                <a:cubicBezTo>
                  <a:pt x="15955" y="18537"/>
                  <a:pt x="16041" y="18504"/>
                  <a:pt x="16148" y="18504"/>
                </a:cubicBezTo>
              </a:path>
              <a:path w="5830" h="1192">
                <a:moveTo>
                  <a:pt x="15999" y="18207"/>
                </a:moveTo>
                <a:cubicBezTo>
                  <a:pt x="16039" y="18324"/>
                  <a:pt x="16114" y="18442"/>
                  <a:pt x="16173" y="18554"/>
                </a:cubicBezTo>
                <a:cubicBezTo>
                  <a:pt x="16190" y="18585"/>
                  <a:pt x="16252" y="18713"/>
                  <a:pt x="16272" y="18653"/>
                </a:cubicBezTo>
                <a:cubicBezTo>
                  <a:pt x="16272" y="18628"/>
                  <a:pt x="16272" y="18620"/>
                  <a:pt x="16272" y="18604"/>
                </a:cubicBezTo>
              </a:path>
              <a:path w="5830" h="1192">
                <a:moveTo>
                  <a:pt x="16743" y="18380"/>
                </a:moveTo>
                <a:cubicBezTo>
                  <a:pt x="16761" y="18508"/>
                  <a:pt x="16826" y="18606"/>
                  <a:pt x="16867" y="18728"/>
                </a:cubicBezTo>
                <a:cubicBezTo>
                  <a:pt x="16879" y="18763"/>
                  <a:pt x="16889" y="18884"/>
                  <a:pt x="16917" y="18827"/>
                </a:cubicBezTo>
              </a:path>
              <a:path w="5830" h="1192">
                <a:moveTo>
                  <a:pt x="16694" y="18405"/>
                </a:moveTo>
                <a:cubicBezTo>
                  <a:pt x="16699" y="18358"/>
                  <a:pt x="16708" y="18197"/>
                  <a:pt x="16768" y="18182"/>
                </a:cubicBezTo>
                <a:cubicBezTo>
                  <a:pt x="16892" y="18151"/>
                  <a:pt x="17047" y="18227"/>
                  <a:pt x="17115" y="18331"/>
                </a:cubicBezTo>
                <a:cubicBezTo>
                  <a:pt x="17168" y="18413"/>
                  <a:pt x="17120" y="18518"/>
                  <a:pt x="17041" y="18554"/>
                </a:cubicBezTo>
                <a:cubicBezTo>
                  <a:pt x="16939" y="18601"/>
                  <a:pt x="16917" y="18569"/>
                  <a:pt x="16917" y="18479"/>
                </a:cubicBezTo>
              </a:path>
              <a:path w="5830" h="1192">
                <a:moveTo>
                  <a:pt x="17239" y="17909"/>
                </a:moveTo>
                <a:cubicBezTo>
                  <a:pt x="17262" y="18022"/>
                  <a:pt x="17347" y="18123"/>
                  <a:pt x="17388" y="18231"/>
                </a:cubicBezTo>
                <a:cubicBezTo>
                  <a:pt x="17406" y="18279"/>
                  <a:pt x="17428" y="18353"/>
                  <a:pt x="17438" y="18405"/>
                </a:cubicBezTo>
              </a:path>
              <a:path w="5830" h="1192">
                <a:moveTo>
                  <a:pt x="17884" y="18008"/>
                </a:moveTo>
                <a:cubicBezTo>
                  <a:pt x="17760" y="17994"/>
                  <a:pt x="17679" y="17972"/>
                  <a:pt x="17636" y="18132"/>
                </a:cubicBezTo>
                <a:cubicBezTo>
                  <a:pt x="17596" y="18284"/>
                  <a:pt x="17725" y="18383"/>
                  <a:pt x="17859" y="18405"/>
                </a:cubicBezTo>
                <a:cubicBezTo>
                  <a:pt x="17976" y="18425"/>
                  <a:pt x="18003" y="18396"/>
                  <a:pt x="18083" y="18331"/>
                </a:cubicBezTo>
              </a:path>
              <a:path w="5830" h="1192">
                <a:moveTo>
                  <a:pt x="17835" y="17983"/>
                </a:moveTo>
                <a:cubicBezTo>
                  <a:pt x="17911" y="18081"/>
                  <a:pt x="17994" y="18167"/>
                  <a:pt x="18083" y="18256"/>
                </a:cubicBezTo>
                <a:cubicBezTo>
                  <a:pt x="18108" y="18281"/>
                  <a:pt x="18132" y="18306"/>
                  <a:pt x="18157" y="18331"/>
                </a:cubicBezTo>
              </a:path>
              <a:path w="5830" h="1192">
                <a:moveTo>
                  <a:pt x="18157" y="17959"/>
                </a:moveTo>
                <a:cubicBezTo>
                  <a:pt x="18187" y="18063"/>
                  <a:pt x="18256" y="18185"/>
                  <a:pt x="18306" y="18281"/>
                </a:cubicBezTo>
                <a:cubicBezTo>
                  <a:pt x="18314" y="18289"/>
                  <a:pt x="18323" y="18298"/>
                  <a:pt x="18331" y="18306"/>
                </a:cubicBezTo>
                <a:cubicBezTo>
                  <a:pt x="18312" y="18232"/>
                  <a:pt x="18276" y="18117"/>
                  <a:pt x="18281" y="18033"/>
                </a:cubicBezTo>
                <a:cubicBezTo>
                  <a:pt x="18287" y="17922"/>
                  <a:pt x="18401" y="17788"/>
                  <a:pt x="18504" y="17909"/>
                </a:cubicBezTo>
                <a:cubicBezTo>
                  <a:pt x="18572" y="17989"/>
                  <a:pt x="18597" y="18132"/>
                  <a:pt x="18628" y="18231"/>
                </a:cubicBezTo>
                <a:cubicBezTo>
                  <a:pt x="18636" y="18256"/>
                  <a:pt x="18645" y="18281"/>
                  <a:pt x="18653" y="18306"/>
                </a:cubicBezTo>
              </a:path>
              <a:path w="5830" h="1192">
                <a:moveTo>
                  <a:pt x="18653" y="17661"/>
                </a:moveTo>
                <a:cubicBezTo>
                  <a:pt x="18711" y="17680"/>
                  <a:pt x="18706" y="17800"/>
                  <a:pt x="18728" y="17859"/>
                </a:cubicBezTo>
                <a:cubicBezTo>
                  <a:pt x="18780" y="17996"/>
                  <a:pt x="18863" y="18111"/>
                  <a:pt x="19025" y="18083"/>
                </a:cubicBezTo>
                <a:cubicBezTo>
                  <a:pt x="19070" y="18075"/>
                  <a:pt x="19139" y="17987"/>
                  <a:pt x="19174" y="17959"/>
                </a:cubicBezTo>
              </a:path>
              <a:path w="5830" h="1192">
                <a:moveTo>
                  <a:pt x="19621" y="17686"/>
                </a:moveTo>
                <a:cubicBezTo>
                  <a:pt x="19559" y="17655"/>
                  <a:pt x="19504" y="17699"/>
                  <a:pt x="19447" y="17735"/>
                </a:cubicBezTo>
                <a:cubicBezTo>
                  <a:pt x="19399" y="17759"/>
                  <a:pt x="19382" y="17765"/>
                  <a:pt x="19397" y="17810"/>
                </a:cubicBezTo>
                <a:cubicBezTo>
                  <a:pt x="19430" y="17853"/>
                  <a:pt x="19549" y="17898"/>
                  <a:pt x="19621" y="17909"/>
                </a:cubicBezTo>
                <a:cubicBezTo>
                  <a:pt x="19676" y="17917"/>
                  <a:pt x="19801" y="17964"/>
                  <a:pt x="19769" y="18058"/>
                </a:cubicBezTo>
                <a:cubicBezTo>
                  <a:pt x="19750" y="18112"/>
                  <a:pt x="19537" y="18268"/>
                  <a:pt x="19496" y="18182"/>
                </a:cubicBezTo>
                <a:cubicBezTo>
                  <a:pt x="19488" y="18141"/>
                  <a:pt x="19480" y="18099"/>
                  <a:pt x="19472" y="180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27800" y="1589040"/>
            <a:ext cx="473040" cy="9720"/>
          </a:xfrm>
          <a:custGeom>
            <a:avLst/>
            <a:gdLst/>
            <a:ahLst/>
            <a:rect l="l" t="t" r="r" b="b"/>
            <a:pathLst>
              <a:path w="1316" h="26">
                <a:moveTo>
                  <a:pt x="15354" y="4440"/>
                </a:moveTo>
                <a:cubicBezTo>
                  <a:pt x="15420" y="4432"/>
                  <a:pt x="15487" y="4423"/>
                  <a:pt x="15553" y="4415"/>
                </a:cubicBezTo>
              </a:path>
              <a:path w="1316" h="26">
                <a:moveTo>
                  <a:pt x="16669" y="4415"/>
                </a:moveTo>
                <a:cubicBezTo>
                  <a:pt x="16652" y="4415"/>
                  <a:pt x="16636" y="4415"/>
                  <a:pt x="16619" y="44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19760" y="1177920"/>
            <a:ext cx="2287440" cy="957240"/>
          </a:xfrm>
          <a:custGeom>
            <a:avLst/>
            <a:gdLst/>
            <a:ahLst/>
            <a:rect l="l" t="t" r="r" b="b"/>
            <a:pathLst>
              <a:path w="6351" h="2655">
                <a:moveTo>
                  <a:pt x="13767" y="3572"/>
                </a:moveTo>
                <a:cubicBezTo>
                  <a:pt x="13767" y="3699"/>
                  <a:pt x="13746" y="3778"/>
                  <a:pt x="13692" y="3894"/>
                </a:cubicBezTo>
                <a:cubicBezTo>
                  <a:pt x="13684" y="3911"/>
                  <a:pt x="13675" y="3927"/>
                  <a:pt x="13667" y="3944"/>
                </a:cubicBezTo>
                <a:cubicBezTo>
                  <a:pt x="13785" y="3924"/>
                  <a:pt x="13897" y="3871"/>
                  <a:pt x="14015" y="3845"/>
                </a:cubicBezTo>
                <a:cubicBezTo>
                  <a:pt x="14023" y="3845"/>
                  <a:pt x="14031" y="3845"/>
                  <a:pt x="14039" y="3845"/>
                </a:cubicBezTo>
              </a:path>
              <a:path w="6351" h="2655">
                <a:moveTo>
                  <a:pt x="14064" y="3274"/>
                </a:moveTo>
                <a:cubicBezTo>
                  <a:pt x="14017" y="3578"/>
                  <a:pt x="14008" y="3887"/>
                  <a:pt x="13965" y="4192"/>
                </a:cubicBezTo>
                <a:cubicBezTo>
                  <a:pt x="13940" y="4370"/>
                  <a:pt x="13924" y="4295"/>
                  <a:pt x="14163" y="4142"/>
                </a:cubicBezTo>
              </a:path>
              <a:path w="6351" h="2655">
                <a:moveTo>
                  <a:pt x="18182" y="4266"/>
                </a:moveTo>
                <a:cubicBezTo>
                  <a:pt x="18116" y="4135"/>
                  <a:pt x="18069" y="4109"/>
                  <a:pt x="17909" y="4093"/>
                </a:cubicBezTo>
                <a:cubicBezTo>
                  <a:pt x="17730" y="4075"/>
                  <a:pt x="17501" y="4116"/>
                  <a:pt x="17363" y="4242"/>
                </a:cubicBezTo>
                <a:cubicBezTo>
                  <a:pt x="17166" y="4421"/>
                  <a:pt x="17035" y="4743"/>
                  <a:pt x="17041" y="5011"/>
                </a:cubicBezTo>
                <a:cubicBezTo>
                  <a:pt x="17043" y="5108"/>
                  <a:pt x="17102" y="5277"/>
                  <a:pt x="17190" y="5333"/>
                </a:cubicBezTo>
                <a:cubicBezTo>
                  <a:pt x="17279" y="5390"/>
                  <a:pt x="17427" y="5514"/>
                  <a:pt x="17537" y="5531"/>
                </a:cubicBezTo>
                <a:cubicBezTo>
                  <a:pt x="17710" y="5558"/>
                  <a:pt x="17838" y="5457"/>
                  <a:pt x="17983" y="5383"/>
                </a:cubicBezTo>
                <a:cubicBezTo>
                  <a:pt x="18105" y="5320"/>
                  <a:pt x="18185" y="5232"/>
                  <a:pt x="18281" y="5135"/>
                </a:cubicBezTo>
                <a:cubicBezTo>
                  <a:pt x="18367" y="5048"/>
                  <a:pt x="18412" y="4936"/>
                  <a:pt x="18430" y="4812"/>
                </a:cubicBezTo>
                <a:cubicBezTo>
                  <a:pt x="18446" y="4699"/>
                  <a:pt x="18425" y="4575"/>
                  <a:pt x="18405" y="4465"/>
                </a:cubicBezTo>
                <a:cubicBezTo>
                  <a:pt x="18383" y="4346"/>
                  <a:pt x="18323" y="4205"/>
                  <a:pt x="18231" y="4118"/>
                </a:cubicBezTo>
                <a:cubicBezTo>
                  <a:pt x="18177" y="4066"/>
                  <a:pt x="18072" y="4045"/>
                  <a:pt x="18008" y="4018"/>
                </a:cubicBezTo>
                <a:cubicBezTo>
                  <a:pt x="17946" y="3992"/>
                  <a:pt x="17902" y="3994"/>
                  <a:pt x="17835" y="3994"/>
                </a:cubicBezTo>
              </a:path>
              <a:path w="6351" h="2655">
                <a:moveTo>
                  <a:pt x="17016" y="3349"/>
                </a:moveTo>
                <a:cubicBezTo>
                  <a:pt x="17103" y="3455"/>
                  <a:pt x="17153" y="3598"/>
                  <a:pt x="17214" y="3721"/>
                </a:cubicBezTo>
                <a:cubicBezTo>
                  <a:pt x="17234" y="3762"/>
                  <a:pt x="17289" y="3907"/>
                  <a:pt x="17289" y="3795"/>
                </a:cubicBezTo>
              </a:path>
              <a:path w="6351" h="2655">
                <a:moveTo>
                  <a:pt x="17413" y="3324"/>
                </a:moveTo>
                <a:cubicBezTo>
                  <a:pt x="17250" y="3370"/>
                  <a:pt x="17192" y="3516"/>
                  <a:pt x="17090" y="3646"/>
                </a:cubicBezTo>
                <a:cubicBezTo>
                  <a:pt x="17025" y="3729"/>
                  <a:pt x="16967" y="3820"/>
                  <a:pt x="16892" y="3894"/>
                </a:cubicBezTo>
                <a:cubicBezTo>
                  <a:pt x="16884" y="3902"/>
                  <a:pt x="16875" y="3911"/>
                  <a:pt x="16867" y="3919"/>
                </a:cubicBezTo>
              </a:path>
              <a:path w="6351" h="2655">
                <a:moveTo>
                  <a:pt x="14932" y="5928"/>
                </a:moveTo>
                <a:cubicBezTo>
                  <a:pt x="14978" y="5871"/>
                  <a:pt x="15012" y="5804"/>
                  <a:pt x="15081" y="5755"/>
                </a:cubicBezTo>
                <a:cubicBezTo>
                  <a:pt x="15219" y="5657"/>
                  <a:pt x="15461" y="5593"/>
                  <a:pt x="15627" y="5581"/>
                </a:cubicBezTo>
                <a:cubicBezTo>
                  <a:pt x="15888" y="5562"/>
                  <a:pt x="16160" y="5560"/>
                  <a:pt x="16421" y="5556"/>
                </a:cubicBezTo>
                <a:cubicBezTo>
                  <a:pt x="16858" y="5550"/>
                  <a:pt x="17300" y="5539"/>
                  <a:pt x="17735" y="5581"/>
                </a:cubicBezTo>
                <a:cubicBezTo>
                  <a:pt x="17970" y="5604"/>
                  <a:pt x="18219" y="5662"/>
                  <a:pt x="18455" y="5655"/>
                </a:cubicBezTo>
                <a:cubicBezTo>
                  <a:pt x="18655" y="5649"/>
                  <a:pt x="18840" y="5624"/>
                  <a:pt x="19025" y="5556"/>
                </a:cubicBezTo>
                <a:cubicBezTo>
                  <a:pt x="19118" y="5522"/>
                  <a:pt x="19238" y="5489"/>
                  <a:pt x="19273" y="5383"/>
                </a:cubicBezTo>
                <a:cubicBezTo>
                  <a:pt x="19300" y="5301"/>
                  <a:pt x="19279" y="5276"/>
                  <a:pt x="19224" y="5283"/>
                </a:cubicBezTo>
                <a:cubicBezTo>
                  <a:pt x="19124" y="5295"/>
                  <a:pt x="19107" y="5371"/>
                  <a:pt x="19050" y="5432"/>
                </a:cubicBezTo>
                <a:cubicBezTo>
                  <a:pt x="19061" y="5352"/>
                  <a:pt x="19067" y="5329"/>
                  <a:pt x="19100" y="5259"/>
                </a:cubicBezTo>
                <a:cubicBezTo>
                  <a:pt x="19156" y="5300"/>
                  <a:pt x="19260" y="5407"/>
                  <a:pt x="19348" y="5407"/>
                </a:cubicBezTo>
                <a:cubicBezTo>
                  <a:pt x="19372" y="5407"/>
                  <a:pt x="19380" y="5407"/>
                  <a:pt x="19372" y="5383"/>
                </a:cubicBezTo>
              </a:path>
              <a:path w="6351" h="2655">
                <a:moveTo>
                  <a:pt x="19472" y="3324"/>
                </a:moveTo>
                <a:cubicBezTo>
                  <a:pt x="19452" y="3463"/>
                  <a:pt x="19389" y="3587"/>
                  <a:pt x="19348" y="3721"/>
                </a:cubicBezTo>
                <a:cubicBezTo>
                  <a:pt x="19317" y="3825"/>
                  <a:pt x="19310" y="3917"/>
                  <a:pt x="19348" y="4018"/>
                </a:cubicBezTo>
                <a:cubicBezTo>
                  <a:pt x="19384" y="4113"/>
                  <a:pt x="19405" y="4123"/>
                  <a:pt x="19496" y="4142"/>
                </a:cubicBezTo>
                <a:cubicBezTo>
                  <a:pt x="19642" y="4173"/>
                  <a:pt x="19706" y="4150"/>
                  <a:pt x="19844" y="4118"/>
                </a:cubicBezTo>
                <a:cubicBezTo>
                  <a:pt x="19922" y="4100"/>
                  <a:pt x="19945" y="4076"/>
                  <a:pt x="19993" y="4018"/>
                </a:cubicBezTo>
                <a:cubicBezTo>
                  <a:pt x="20037" y="3965"/>
                  <a:pt x="20020" y="3900"/>
                  <a:pt x="19968" y="3870"/>
                </a:cubicBezTo>
                <a:cubicBezTo>
                  <a:pt x="19912" y="3838"/>
                  <a:pt x="19811" y="3785"/>
                  <a:pt x="19745" y="3820"/>
                </a:cubicBezTo>
                <a:cubicBezTo>
                  <a:pt x="19651" y="3870"/>
                  <a:pt x="19604" y="4020"/>
                  <a:pt x="19621" y="4118"/>
                </a:cubicBezTo>
                <a:cubicBezTo>
                  <a:pt x="19627" y="4152"/>
                  <a:pt x="19645" y="4202"/>
                  <a:pt x="19645" y="41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46760" y="1928880"/>
            <a:ext cx="3251160" cy="152280"/>
          </a:xfrm>
          <a:custGeom>
            <a:avLst/>
            <a:gdLst/>
            <a:ahLst/>
            <a:rect l="l" t="t" r="r" b="b"/>
            <a:pathLst>
              <a:path w="9030" h="422">
                <a:moveTo>
                  <a:pt x="13767" y="5407"/>
                </a:moveTo>
                <a:cubicBezTo>
                  <a:pt x="13810" y="5397"/>
                  <a:pt x="13797" y="5391"/>
                  <a:pt x="13841" y="5383"/>
                </a:cubicBezTo>
                <a:cubicBezTo>
                  <a:pt x="13974" y="5359"/>
                  <a:pt x="14101" y="5358"/>
                  <a:pt x="14238" y="5358"/>
                </a:cubicBezTo>
                <a:cubicBezTo>
                  <a:pt x="14463" y="5358"/>
                  <a:pt x="14692" y="5372"/>
                  <a:pt x="14908" y="5383"/>
                </a:cubicBezTo>
                <a:cubicBezTo>
                  <a:pt x="15012" y="5388"/>
                  <a:pt x="15111" y="5381"/>
                  <a:pt x="15205" y="5383"/>
                </a:cubicBezTo>
                <a:cubicBezTo>
                  <a:pt x="15669" y="5391"/>
                  <a:pt x="16136" y="5383"/>
                  <a:pt x="16594" y="5407"/>
                </a:cubicBezTo>
                <a:cubicBezTo>
                  <a:pt x="16738" y="5415"/>
                  <a:pt x="16874" y="5390"/>
                  <a:pt x="17016" y="5383"/>
                </a:cubicBezTo>
                <a:cubicBezTo>
                  <a:pt x="17128" y="5378"/>
                  <a:pt x="17254" y="5387"/>
                  <a:pt x="17363" y="5407"/>
                </a:cubicBezTo>
                <a:cubicBezTo>
                  <a:pt x="17539" y="5440"/>
                  <a:pt x="17705" y="5496"/>
                  <a:pt x="17884" y="5507"/>
                </a:cubicBezTo>
                <a:cubicBezTo>
                  <a:pt x="18046" y="5517"/>
                  <a:pt x="18194" y="5536"/>
                  <a:pt x="18355" y="5556"/>
                </a:cubicBezTo>
                <a:cubicBezTo>
                  <a:pt x="18511" y="5575"/>
                  <a:pt x="18669" y="5579"/>
                  <a:pt x="18827" y="5581"/>
                </a:cubicBezTo>
                <a:cubicBezTo>
                  <a:pt x="19399" y="5589"/>
                  <a:pt x="19967" y="5595"/>
                  <a:pt x="20538" y="5631"/>
                </a:cubicBezTo>
                <a:cubicBezTo>
                  <a:pt x="21068" y="5665"/>
                  <a:pt x="21595" y="5748"/>
                  <a:pt x="22126" y="5755"/>
                </a:cubicBezTo>
                <a:cubicBezTo>
                  <a:pt x="22336" y="5758"/>
                  <a:pt x="22542" y="5762"/>
                  <a:pt x="22746" y="5779"/>
                </a:cubicBezTo>
                <a:cubicBezTo>
                  <a:pt x="22754" y="5779"/>
                  <a:pt x="22763" y="5779"/>
                  <a:pt x="22771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90 even only AND PW 92 even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0440" y="342720"/>
            <a:ext cx="795816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9:  Fractions Ex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3840" y="3593880"/>
            <a:ext cx="785628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multip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s using models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4616280"/>
            <a:ext cx="1258920" cy="54000"/>
          </a:xfrm>
          <a:custGeom>
            <a:avLst/>
            <a:gdLst/>
            <a:ahLst/>
            <a:rect l="l" t="t" r="r" b="b"/>
            <a:pathLst>
              <a:path w="3499" h="150">
                <a:moveTo>
                  <a:pt x="10393" y="12824"/>
                </a:moveTo>
                <a:cubicBezTo>
                  <a:pt x="10439" y="12838"/>
                  <a:pt x="10556" y="12849"/>
                  <a:pt x="10641" y="12849"/>
                </a:cubicBezTo>
                <a:cubicBezTo>
                  <a:pt x="10850" y="12849"/>
                  <a:pt x="11055" y="12889"/>
                  <a:pt x="11261" y="12923"/>
                </a:cubicBezTo>
                <a:cubicBezTo>
                  <a:pt x="11451" y="12954"/>
                  <a:pt x="11592" y="12952"/>
                  <a:pt x="11782" y="12948"/>
                </a:cubicBezTo>
                <a:cubicBezTo>
                  <a:pt x="11944" y="12944"/>
                  <a:pt x="12095" y="12969"/>
                  <a:pt x="12254" y="12973"/>
                </a:cubicBezTo>
                <a:cubicBezTo>
                  <a:pt x="12413" y="12977"/>
                  <a:pt x="12546" y="12955"/>
                  <a:pt x="12700" y="12923"/>
                </a:cubicBezTo>
                <a:cubicBezTo>
                  <a:pt x="12887" y="12884"/>
                  <a:pt x="13055" y="12874"/>
                  <a:pt x="13246" y="12874"/>
                </a:cubicBezTo>
                <a:cubicBezTo>
                  <a:pt x="13431" y="12874"/>
                  <a:pt x="13612" y="12863"/>
                  <a:pt x="13791" y="12874"/>
                </a:cubicBezTo>
                <a:cubicBezTo>
                  <a:pt x="13849" y="12874"/>
                  <a:pt x="13858" y="12874"/>
                  <a:pt x="13891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301680"/>
            <a:ext cx="8226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Students will multiply fractions using models and equa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rows of 6 means   4 x 6 = 24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ould multiply because you have multiple groups of the same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36576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is proble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of the 6 plants in each row were tulips.  How many tulips did they pl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model and equation to solve this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4160" y="1554120"/>
            <a:ext cx="160200" cy="27000"/>
          </a:xfrm>
          <a:custGeom>
            <a:avLst/>
            <a:gdLst/>
            <a:ahLst/>
            <a:rect l="l" t="t" r="r" b="b"/>
            <a:pathLst>
              <a:path w="447" h="75">
                <a:moveTo>
                  <a:pt x="12204" y="4390"/>
                </a:moveTo>
                <a:cubicBezTo>
                  <a:pt x="12303" y="4390"/>
                  <a:pt x="12403" y="4390"/>
                  <a:pt x="12502" y="4390"/>
                </a:cubicBezTo>
                <a:cubicBezTo>
                  <a:pt x="12712" y="4390"/>
                  <a:pt x="12358" y="4366"/>
                  <a:pt x="12353" y="4366"/>
                </a:cubicBezTo>
                <a:cubicBezTo>
                  <a:pt x="12271" y="4366"/>
                  <a:pt x="12221" y="4366"/>
                  <a:pt x="12303" y="4366"/>
                </a:cubicBezTo>
                <a:cubicBezTo>
                  <a:pt x="12316" y="4364"/>
                  <a:pt x="12802" y="4255"/>
                  <a:pt x="12576" y="43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87680" y="1562040"/>
            <a:ext cx="322200" cy="46080"/>
          </a:xfrm>
          <a:custGeom>
            <a:avLst/>
            <a:gdLst/>
            <a:ahLst/>
            <a:rect l="l" t="t" r="r" b="b"/>
            <a:pathLst>
              <a:path w="894" h="125">
                <a:moveTo>
                  <a:pt x="4688" y="4465"/>
                </a:moveTo>
                <a:cubicBezTo>
                  <a:pt x="4912" y="4405"/>
                  <a:pt x="5126" y="4415"/>
                  <a:pt x="5358" y="4415"/>
                </a:cubicBezTo>
                <a:cubicBezTo>
                  <a:pt x="5503" y="4415"/>
                  <a:pt x="5680" y="4433"/>
                  <a:pt x="5432" y="4415"/>
                </a:cubicBezTo>
                <a:cubicBezTo>
                  <a:pt x="5204" y="4398"/>
                  <a:pt x="5012" y="4390"/>
                  <a:pt x="4787" y="4415"/>
                </a:cubicBezTo>
                <a:cubicBezTo>
                  <a:pt x="4994" y="4415"/>
                  <a:pt x="5200" y="4415"/>
                  <a:pt x="5407" y="4415"/>
                </a:cubicBezTo>
                <a:cubicBezTo>
                  <a:pt x="5213" y="4415"/>
                  <a:pt x="5005" y="4409"/>
                  <a:pt x="4812" y="4390"/>
                </a:cubicBezTo>
                <a:cubicBezTo>
                  <a:pt x="4520" y="4361"/>
                  <a:pt x="5263" y="4371"/>
                  <a:pt x="5308" y="4366"/>
                </a:cubicBezTo>
                <a:cubicBezTo>
                  <a:pt x="5403" y="4342"/>
                  <a:pt x="5439" y="4331"/>
                  <a:pt x="5333" y="43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5280" y="3848040"/>
            <a:ext cx="946440" cy="625680"/>
          </a:xfrm>
          <a:custGeom>
            <a:avLst/>
            <a:gdLst/>
            <a:ahLst/>
            <a:rect l="l" t="t" r="r" b="b"/>
            <a:pathLst>
              <a:path w="2631" h="1737">
                <a:moveTo>
                  <a:pt x="347" y="10716"/>
                </a:moveTo>
                <a:cubicBezTo>
                  <a:pt x="347" y="10708"/>
                  <a:pt x="347" y="10699"/>
                  <a:pt x="347" y="10691"/>
                </a:cubicBezTo>
                <a:cubicBezTo>
                  <a:pt x="380" y="10702"/>
                  <a:pt x="409" y="10753"/>
                  <a:pt x="446" y="10790"/>
                </a:cubicBezTo>
                <a:cubicBezTo>
                  <a:pt x="509" y="10853"/>
                  <a:pt x="538" y="10788"/>
                  <a:pt x="595" y="10765"/>
                </a:cubicBezTo>
                <a:cubicBezTo>
                  <a:pt x="649" y="10743"/>
                  <a:pt x="685" y="10784"/>
                  <a:pt x="719" y="10815"/>
                </a:cubicBezTo>
                <a:cubicBezTo>
                  <a:pt x="745" y="10840"/>
                  <a:pt x="801" y="10887"/>
                  <a:pt x="843" y="10864"/>
                </a:cubicBezTo>
                <a:cubicBezTo>
                  <a:pt x="888" y="10840"/>
                  <a:pt x="953" y="10864"/>
                  <a:pt x="1017" y="10864"/>
                </a:cubicBezTo>
                <a:cubicBezTo>
                  <a:pt x="1042" y="10864"/>
                  <a:pt x="1050" y="10864"/>
                  <a:pt x="1067" y="10864"/>
                </a:cubicBezTo>
              </a:path>
              <a:path w="2631" h="1737">
                <a:moveTo>
                  <a:pt x="1141" y="12378"/>
                </a:moveTo>
                <a:cubicBezTo>
                  <a:pt x="1239" y="12378"/>
                  <a:pt x="1319" y="12384"/>
                  <a:pt x="1414" y="12402"/>
                </a:cubicBezTo>
                <a:cubicBezTo>
                  <a:pt x="1485" y="12416"/>
                  <a:pt x="1548" y="12392"/>
                  <a:pt x="1612" y="12378"/>
                </a:cubicBezTo>
                <a:cubicBezTo>
                  <a:pt x="1709" y="12356"/>
                  <a:pt x="1814" y="12375"/>
                  <a:pt x="1910" y="12353"/>
                </a:cubicBezTo>
                <a:cubicBezTo>
                  <a:pt x="1949" y="12344"/>
                  <a:pt x="1995" y="12331"/>
                  <a:pt x="2034" y="12328"/>
                </a:cubicBezTo>
                <a:cubicBezTo>
                  <a:pt x="2131" y="12321"/>
                  <a:pt x="2217" y="12332"/>
                  <a:pt x="2307" y="12353"/>
                </a:cubicBezTo>
                <a:cubicBezTo>
                  <a:pt x="2344" y="12362"/>
                  <a:pt x="2393" y="12353"/>
                  <a:pt x="2431" y="12353"/>
                </a:cubicBezTo>
              </a:path>
              <a:path w="2631" h="1737">
                <a:moveTo>
                  <a:pt x="1290" y="12328"/>
                </a:moveTo>
                <a:cubicBezTo>
                  <a:pt x="1386" y="12373"/>
                  <a:pt x="1471" y="12395"/>
                  <a:pt x="1588" y="12402"/>
                </a:cubicBezTo>
                <a:cubicBezTo>
                  <a:pt x="1765" y="12412"/>
                  <a:pt x="1982" y="12400"/>
                  <a:pt x="2158" y="12378"/>
                </a:cubicBezTo>
                <a:cubicBezTo>
                  <a:pt x="2285" y="12362"/>
                  <a:pt x="2405" y="12322"/>
                  <a:pt x="2530" y="12303"/>
                </a:cubicBezTo>
                <a:cubicBezTo>
                  <a:pt x="2622" y="12289"/>
                  <a:pt x="2649" y="12272"/>
                  <a:pt x="2729" y="12229"/>
                </a:cubicBezTo>
                <a:cubicBezTo>
                  <a:pt x="2783" y="12200"/>
                  <a:pt x="2841" y="12148"/>
                  <a:pt x="2877" y="12105"/>
                </a:cubicBezTo>
                <a:cubicBezTo>
                  <a:pt x="2901" y="12077"/>
                  <a:pt x="2971" y="11979"/>
                  <a:pt x="2977" y="11931"/>
                </a:cubicBezTo>
                <a:cubicBezTo>
                  <a:pt x="2987" y="11852"/>
                  <a:pt x="2973" y="11757"/>
                  <a:pt x="2952" y="11683"/>
                </a:cubicBezTo>
                <a:cubicBezTo>
                  <a:pt x="2936" y="11629"/>
                  <a:pt x="2882" y="11545"/>
                  <a:pt x="2853" y="11509"/>
                </a:cubicBezTo>
                <a:cubicBezTo>
                  <a:pt x="2812" y="11458"/>
                  <a:pt x="2724" y="11386"/>
                  <a:pt x="2679" y="11361"/>
                </a:cubicBezTo>
                <a:cubicBezTo>
                  <a:pt x="2560" y="11294"/>
                  <a:pt x="2463" y="11282"/>
                  <a:pt x="2332" y="11261"/>
                </a:cubicBezTo>
                <a:cubicBezTo>
                  <a:pt x="2161" y="11233"/>
                  <a:pt x="1984" y="11216"/>
                  <a:pt x="1811" y="11212"/>
                </a:cubicBezTo>
                <a:cubicBezTo>
                  <a:pt x="1648" y="11208"/>
                  <a:pt x="1445" y="11183"/>
                  <a:pt x="1290" y="11237"/>
                </a:cubicBezTo>
                <a:cubicBezTo>
                  <a:pt x="1135" y="11291"/>
                  <a:pt x="988" y="11400"/>
                  <a:pt x="868" y="11509"/>
                </a:cubicBezTo>
                <a:cubicBezTo>
                  <a:pt x="745" y="11620"/>
                  <a:pt x="643" y="11722"/>
                  <a:pt x="595" y="11881"/>
                </a:cubicBezTo>
                <a:cubicBezTo>
                  <a:pt x="549" y="12033"/>
                  <a:pt x="611" y="12090"/>
                  <a:pt x="695" y="12204"/>
                </a:cubicBezTo>
                <a:cubicBezTo>
                  <a:pt x="791" y="12334"/>
                  <a:pt x="902" y="12408"/>
                  <a:pt x="1067" y="12427"/>
                </a:cubicBezTo>
                <a:cubicBezTo>
                  <a:pt x="1168" y="12438"/>
                  <a:pt x="1264" y="12409"/>
                  <a:pt x="1364" y="12402"/>
                </a:cubicBezTo>
              </a:path>
              <a:path w="2631" h="1737">
                <a:moveTo>
                  <a:pt x="1240" y="12328"/>
                </a:moveTo>
                <a:cubicBezTo>
                  <a:pt x="1384" y="12280"/>
                  <a:pt x="1559" y="12303"/>
                  <a:pt x="1712" y="12303"/>
                </a:cubicBezTo>
                <a:cubicBezTo>
                  <a:pt x="1970" y="12303"/>
                  <a:pt x="2225" y="12333"/>
                  <a:pt x="2480" y="12353"/>
                </a:cubicBezTo>
                <a:cubicBezTo>
                  <a:pt x="2505" y="12353"/>
                  <a:pt x="2530" y="12353"/>
                  <a:pt x="2555" y="12353"/>
                </a:cubicBezTo>
                <a:cubicBezTo>
                  <a:pt x="2264" y="12353"/>
                  <a:pt x="1977" y="12340"/>
                  <a:pt x="1687" y="12328"/>
                </a:cubicBezTo>
                <a:cubicBezTo>
                  <a:pt x="1676" y="12328"/>
                  <a:pt x="1278" y="12328"/>
                  <a:pt x="1538" y="12328"/>
                </a:cubicBezTo>
                <a:cubicBezTo>
                  <a:pt x="1887" y="12306"/>
                  <a:pt x="2281" y="12238"/>
                  <a:pt x="2629" y="12278"/>
                </a:cubicBezTo>
                <a:cubicBezTo>
                  <a:pt x="2741" y="12291"/>
                  <a:pt x="2467" y="12334"/>
                  <a:pt x="2356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5920" y="5224320"/>
            <a:ext cx="206280" cy="23184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546" y="14585"/>
                </a:moveTo>
                <a:cubicBezTo>
                  <a:pt x="491" y="14603"/>
                  <a:pt x="590" y="14834"/>
                  <a:pt x="595" y="14858"/>
                </a:cubicBezTo>
                <a:cubicBezTo>
                  <a:pt x="612" y="14937"/>
                  <a:pt x="632" y="15026"/>
                  <a:pt x="645" y="15106"/>
                </a:cubicBezTo>
              </a:path>
              <a:path w="572" h="646">
                <a:moveTo>
                  <a:pt x="397" y="15056"/>
                </a:moveTo>
                <a:cubicBezTo>
                  <a:pt x="489" y="14939"/>
                  <a:pt x="605" y="14814"/>
                  <a:pt x="719" y="14734"/>
                </a:cubicBezTo>
                <a:cubicBezTo>
                  <a:pt x="744" y="14734"/>
                  <a:pt x="752" y="14734"/>
                  <a:pt x="769" y="14734"/>
                </a:cubicBezTo>
              </a:path>
              <a:path w="572" h="646">
                <a:moveTo>
                  <a:pt x="695" y="14511"/>
                </a:moveTo>
                <a:cubicBezTo>
                  <a:pt x="614" y="14707"/>
                  <a:pt x="569" y="14911"/>
                  <a:pt x="496" y="15106"/>
                </a:cubicBezTo>
                <a:cubicBezTo>
                  <a:pt x="473" y="15129"/>
                  <a:pt x="465" y="15133"/>
                  <a:pt x="471" y="15156"/>
                </a:cubicBezTo>
              </a:path>
              <a:path w="572" h="646">
                <a:moveTo>
                  <a:pt x="322" y="14858"/>
                </a:moveTo>
                <a:cubicBezTo>
                  <a:pt x="482" y="14842"/>
                  <a:pt x="659" y="14848"/>
                  <a:pt x="819" y="14883"/>
                </a:cubicBezTo>
                <a:cubicBezTo>
                  <a:pt x="859" y="14903"/>
                  <a:pt x="865" y="14912"/>
                  <a:pt x="893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38240" y="5537160"/>
            <a:ext cx="2062440" cy="1106640"/>
          </a:xfrm>
          <a:custGeom>
            <a:avLst/>
            <a:gdLst/>
            <a:ahLst/>
            <a:rect l="l" t="t" r="r" b="b"/>
            <a:pathLst>
              <a:path w="5730" h="3077">
                <a:moveTo>
                  <a:pt x="7466" y="15677"/>
                </a:moveTo>
                <a:cubicBezTo>
                  <a:pt x="7310" y="15694"/>
                  <a:pt x="7295" y="15761"/>
                  <a:pt x="7243" y="15900"/>
                </a:cubicBezTo>
                <a:cubicBezTo>
                  <a:pt x="7326" y="15975"/>
                  <a:pt x="7639" y="16073"/>
                  <a:pt x="7590" y="15825"/>
                </a:cubicBezTo>
                <a:cubicBezTo>
                  <a:pt x="7568" y="15712"/>
                  <a:pt x="7394" y="15732"/>
                  <a:pt x="7317" y="15726"/>
                </a:cubicBezTo>
              </a:path>
              <a:path w="5730" h="3077">
                <a:moveTo>
                  <a:pt x="8186" y="15825"/>
                </a:moveTo>
                <a:cubicBezTo>
                  <a:pt x="8032" y="15814"/>
                  <a:pt x="7976" y="15848"/>
                  <a:pt x="7938" y="15999"/>
                </a:cubicBezTo>
                <a:cubicBezTo>
                  <a:pt x="8009" y="16013"/>
                  <a:pt x="8406" y="16048"/>
                  <a:pt x="8334" y="15850"/>
                </a:cubicBezTo>
                <a:cubicBezTo>
                  <a:pt x="8238" y="15803"/>
                  <a:pt x="8209" y="15786"/>
                  <a:pt x="8136" y="15801"/>
                </a:cubicBezTo>
              </a:path>
              <a:path w="5730" h="3077">
                <a:moveTo>
                  <a:pt x="8806" y="15776"/>
                </a:moveTo>
                <a:cubicBezTo>
                  <a:pt x="8726" y="15841"/>
                  <a:pt x="8704" y="15851"/>
                  <a:pt x="8682" y="15949"/>
                </a:cubicBezTo>
                <a:cubicBezTo>
                  <a:pt x="8803" y="15966"/>
                  <a:pt x="8844" y="15955"/>
                  <a:pt x="8954" y="15900"/>
                </a:cubicBezTo>
                <a:cubicBezTo>
                  <a:pt x="8879" y="15810"/>
                  <a:pt x="8879" y="15834"/>
                  <a:pt x="8756" y="15850"/>
                </a:cubicBezTo>
              </a:path>
              <a:path w="5730" h="3077">
                <a:moveTo>
                  <a:pt x="9351" y="15776"/>
                </a:moveTo>
                <a:cubicBezTo>
                  <a:pt x="9241" y="15831"/>
                  <a:pt x="9232" y="15834"/>
                  <a:pt x="9203" y="15949"/>
                </a:cubicBezTo>
                <a:cubicBezTo>
                  <a:pt x="9283" y="15981"/>
                  <a:pt x="9591" y="16075"/>
                  <a:pt x="9575" y="15875"/>
                </a:cubicBezTo>
                <a:cubicBezTo>
                  <a:pt x="9523" y="15798"/>
                  <a:pt x="9503" y="15774"/>
                  <a:pt x="9426" y="15801"/>
                </a:cubicBezTo>
              </a:path>
              <a:path w="5730" h="3077">
                <a:moveTo>
                  <a:pt x="10096" y="15875"/>
                </a:moveTo>
                <a:cubicBezTo>
                  <a:pt x="9958" y="15889"/>
                  <a:pt x="9971" y="15901"/>
                  <a:pt x="9872" y="15999"/>
                </a:cubicBezTo>
                <a:cubicBezTo>
                  <a:pt x="9959" y="16087"/>
                  <a:pt x="10193" y="16050"/>
                  <a:pt x="10294" y="15949"/>
                </a:cubicBezTo>
                <a:cubicBezTo>
                  <a:pt x="10419" y="15824"/>
                  <a:pt x="10007" y="15850"/>
                  <a:pt x="9996" y="15850"/>
                </a:cubicBezTo>
              </a:path>
              <a:path w="5730" h="3077">
                <a:moveTo>
                  <a:pt x="10864" y="15875"/>
                </a:moveTo>
                <a:cubicBezTo>
                  <a:pt x="10785" y="15954"/>
                  <a:pt x="10764" y="15962"/>
                  <a:pt x="10740" y="16024"/>
                </a:cubicBezTo>
                <a:cubicBezTo>
                  <a:pt x="10850" y="16073"/>
                  <a:pt x="11059" y="16071"/>
                  <a:pt x="11112" y="15900"/>
                </a:cubicBezTo>
                <a:cubicBezTo>
                  <a:pt x="11078" y="15794"/>
                  <a:pt x="11038" y="15765"/>
                  <a:pt x="10914" y="15801"/>
                </a:cubicBezTo>
              </a:path>
              <a:path w="5730" h="3077">
                <a:moveTo>
                  <a:pt x="7193" y="16495"/>
                </a:moveTo>
                <a:cubicBezTo>
                  <a:pt x="7177" y="16577"/>
                  <a:pt x="7115" y="16625"/>
                  <a:pt x="7069" y="16694"/>
                </a:cubicBezTo>
                <a:cubicBezTo>
                  <a:pt x="7144" y="16757"/>
                  <a:pt x="7331" y="16773"/>
                  <a:pt x="7367" y="16619"/>
                </a:cubicBezTo>
                <a:cubicBezTo>
                  <a:pt x="7359" y="16594"/>
                  <a:pt x="7350" y="16570"/>
                  <a:pt x="7342" y="16545"/>
                </a:cubicBezTo>
                <a:cubicBezTo>
                  <a:pt x="7329" y="16545"/>
                  <a:pt x="7056" y="16532"/>
                  <a:pt x="7169" y="16570"/>
                </a:cubicBezTo>
              </a:path>
              <a:path w="5730" h="3077">
                <a:moveTo>
                  <a:pt x="7938" y="16495"/>
                </a:moveTo>
                <a:cubicBezTo>
                  <a:pt x="7816" y="16522"/>
                  <a:pt x="7774" y="16575"/>
                  <a:pt x="7739" y="16694"/>
                </a:cubicBezTo>
                <a:cubicBezTo>
                  <a:pt x="7811" y="16698"/>
                  <a:pt x="8174" y="16697"/>
                  <a:pt x="8086" y="16520"/>
                </a:cubicBezTo>
                <a:cubicBezTo>
                  <a:pt x="8009" y="16468"/>
                  <a:pt x="7981" y="16452"/>
                  <a:pt x="7913" y="16470"/>
                </a:cubicBezTo>
              </a:path>
              <a:path w="5730" h="3077">
                <a:moveTo>
                  <a:pt x="8830" y="16470"/>
                </a:moveTo>
                <a:cubicBezTo>
                  <a:pt x="8713" y="16470"/>
                  <a:pt x="8696" y="16499"/>
                  <a:pt x="8632" y="16594"/>
                </a:cubicBezTo>
                <a:cubicBezTo>
                  <a:pt x="8754" y="16672"/>
                  <a:pt x="8927" y="16702"/>
                  <a:pt x="9029" y="16545"/>
                </a:cubicBezTo>
                <a:cubicBezTo>
                  <a:pt x="9104" y="16429"/>
                  <a:pt x="8902" y="16446"/>
                  <a:pt x="8855" y="16446"/>
                </a:cubicBezTo>
              </a:path>
              <a:path w="5730" h="3077">
                <a:moveTo>
                  <a:pt x="9599" y="16470"/>
                </a:moveTo>
                <a:cubicBezTo>
                  <a:pt x="9513" y="16470"/>
                  <a:pt x="9457" y="16499"/>
                  <a:pt x="9401" y="16570"/>
                </a:cubicBezTo>
                <a:cubicBezTo>
                  <a:pt x="9393" y="16586"/>
                  <a:pt x="9384" y="16603"/>
                  <a:pt x="9376" y="16619"/>
                </a:cubicBezTo>
                <a:cubicBezTo>
                  <a:pt x="9463" y="16680"/>
                  <a:pt x="9640" y="16747"/>
                  <a:pt x="9674" y="16570"/>
                </a:cubicBezTo>
                <a:cubicBezTo>
                  <a:pt x="9697" y="16451"/>
                  <a:pt x="9562" y="16495"/>
                  <a:pt x="9500" y="16495"/>
                </a:cubicBezTo>
              </a:path>
              <a:path w="5730" h="3077">
                <a:moveTo>
                  <a:pt x="10220" y="16594"/>
                </a:moveTo>
                <a:cubicBezTo>
                  <a:pt x="10133" y="16619"/>
                  <a:pt x="10057" y="16651"/>
                  <a:pt x="10021" y="16743"/>
                </a:cubicBezTo>
                <a:cubicBezTo>
                  <a:pt x="10021" y="16751"/>
                  <a:pt x="10021" y="16760"/>
                  <a:pt x="10021" y="16768"/>
                </a:cubicBezTo>
                <a:cubicBezTo>
                  <a:pt x="10152" y="16759"/>
                  <a:pt x="10178" y="16752"/>
                  <a:pt x="10269" y="16669"/>
                </a:cubicBezTo>
                <a:cubicBezTo>
                  <a:pt x="10223" y="16554"/>
                  <a:pt x="10159" y="16544"/>
                  <a:pt x="10021" y="16594"/>
                </a:cubicBezTo>
              </a:path>
              <a:path w="5730" h="3077">
                <a:moveTo>
                  <a:pt x="10691" y="16545"/>
                </a:moveTo>
                <a:cubicBezTo>
                  <a:pt x="10619" y="16592"/>
                  <a:pt x="10595" y="16605"/>
                  <a:pt x="10592" y="16669"/>
                </a:cubicBezTo>
                <a:cubicBezTo>
                  <a:pt x="10665" y="16700"/>
                  <a:pt x="11002" y="16783"/>
                  <a:pt x="10939" y="16570"/>
                </a:cubicBezTo>
                <a:cubicBezTo>
                  <a:pt x="10841" y="16505"/>
                  <a:pt x="10788" y="16488"/>
                  <a:pt x="10691" y="16520"/>
                </a:cubicBezTo>
              </a:path>
              <a:path w="5730" h="3077">
                <a:moveTo>
                  <a:pt x="7119" y="17115"/>
                </a:moveTo>
                <a:cubicBezTo>
                  <a:pt x="6998" y="17176"/>
                  <a:pt x="6987" y="17238"/>
                  <a:pt x="6970" y="17363"/>
                </a:cubicBezTo>
                <a:cubicBezTo>
                  <a:pt x="7095" y="17426"/>
                  <a:pt x="7307" y="17447"/>
                  <a:pt x="7342" y="17239"/>
                </a:cubicBezTo>
                <a:cubicBezTo>
                  <a:pt x="7372" y="17062"/>
                  <a:pt x="7179" y="17091"/>
                  <a:pt x="7094" y="17140"/>
                </a:cubicBezTo>
              </a:path>
              <a:path w="5730" h="3077">
                <a:moveTo>
                  <a:pt x="7962" y="17165"/>
                </a:moveTo>
                <a:cubicBezTo>
                  <a:pt x="7835" y="17229"/>
                  <a:pt x="7772" y="17280"/>
                  <a:pt x="7739" y="17413"/>
                </a:cubicBezTo>
                <a:cubicBezTo>
                  <a:pt x="7873" y="17413"/>
                  <a:pt x="8049" y="17438"/>
                  <a:pt x="8086" y="17264"/>
                </a:cubicBezTo>
                <a:cubicBezTo>
                  <a:pt x="8107" y="17163"/>
                  <a:pt x="7997" y="17174"/>
                  <a:pt x="7938" y="17165"/>
                </a:cubicBezTo>
              </a:path>
              <a:path w="5730" h="3077">
                <a:moveTo>
                  <a:pt x="8731" y="17214"/>
                </a:moveTo>
                <a:cubicBezTo>
                  <a:pt x="8634" y="17238"/>
                  <a:pt x="8609" y="17262"/>
                  <a:pt x="8533" y="17338"/>
                </a:cubicBezTo>
                <a:cubicBezTo>
                  <a:pt x="8650" y="17388"/>
                  <a:pt x="8808" y="17369"/>
                  <a:pt x="8905" y="17264"/>
                </a:cubicBezTo>
                <a:cubicBezTo>
                  <a:pt x="9039" y="17119"/>
                  <a:pt x="8738" y="17198"/>
                  <a:pt x="8706" y="17214"/>
                </a:cubicBezTo>
              </a:path>
              <a:path w="5730" h="3077">
                <a:moveTo>
                  <a:pt x="9426" y="17140"/>
                </a:moveTo>
                <a:cubicBezTo>
                  <a:pt x="9339" y="17183"/>
                  <a:pt x="9307" y="17207"/>
                  <a:pt x="9252" y="17289"/>
                </a:cubicBezTo>
                <a:cubicBezTo>
                  <a:pt x="9334" y="17319"/>
                  <a:pt x="9597" y="17403"/>
                  <a:pt x="9624" y="17239"/>
                </a:cubicBezTo>
                <a:cubicBezTo>
                  <a:pt x="9645" y="17112"/>
                  <a:pt x="9490" y="17177"/>
                  <a:pt x="9451" y="17190"/>
                </a:cubicBezTo>
              </a:path>
              <a:path w="5730" h="3077">
                <a:moveTo>
                  <a:pt x="10071" y="17165"/>
                </a:moveTo>
                <a:cubicBezTo>
                  <a:pt x="9991" y="17187"/>
                  <a:pt x="9970" y="17209"/>
                  <a:pt x="9922" y="17264"/>
                </a:cubicBezTo>
                <a:cubicBezTo>
                  <a:pt x="9974" y="17334"/>
                  <a:pt x="10105" y="17324"/>
                  <a:pt x="10170" y="17239"/>
                </a:cubicBezTo>
                <a:cubicBezTo>
                  <a:pt x="10231" y="17160"/>
                  <a:pt x="10042" y="17185"/>
                  <a:pt x="10021" y="17190"/>
                </a:cubicBezTo>
              </a:path>
              <a:path w="5730" h="3077">
                <a:moveTo>
                  <a:pt x="10840" y="17115"/>
                </a:moveTo>
                <a:cubicBezTo>
                  <a:pt x="10755" y="17143"/>
                  <a:pt x="10727" y="17158"/>
                  <a:pt x="10716" y="17239"/>
                </a:cubicBezTo>
                <a:cubicBezTo>
                  <a:pt x="10755" y="17257"/>
                  <a:pt x="11084" y="17252"/>
                  <a:pt x="10964" y="17140"/>
                </a:cubicBezTo>
                <a:cubicBezTo>
                  <a:pt x="10931" y="17132"/>
                  <a:pt x="10897" y="17123"/>
                  <a:pt x="10864" y="17115"/>
                </a:cubicBezTo>
              </a:path>
              <a:path w="5730" h="3077">
                <a:moveTo>
                  <a:pt x="6970" y="17959"/>
                </a:moveTo>
                <a:cubicBezTo>
                  <a:pt x="6970" y="17942"/>
                  <a:pt x="6970" y="17926"/>
                  <a:pt x="6970" y="17909"/>
                </a:cubicBezTo>
                <a:cubicBezTo>
                  <a:pt x="6874" y="17909"/>
                  <a:pt x="6826" y="17989"/>
                  <a:pt x="6821" y="18083"/>
                </a:cubicBezTo>
                <a:cubicBezTo>
                  <a:pt x="6829" y="18091"/>
                  <a:pt x="6838" y="18099"/>
                  <a:pt x="6846" y="18107"/>
                </a:cubicBezTo>
                <a:cubicBezTo>
                  <a:pt x="6956" y="18092"/>
                  <a:pt x="7184" y="18029"/>
                  <a:pt x="7045" y="17859"/>
                </a:cubicBezTo>
                <a:cubicBezTo>
                  <a:pt x="6982" y="17782"/>
                  <a:pt x="6885" y="17848"/>
                  <a:pt x="6945" y="17934"/>
                </a:cubicBezTo>
              </a:path>
              <a:path w="5730" h="3077">
                <a:moveTo>
                  <a:pt x="7789" y="17835"/>
                </a:moveTo>
                <a:cubicBezTo>
                  <a:pt x="7718" y="17918"/>
                  <a:pt x="7686" y="17951"/>
                  <a:pt x="7665" y="18058"/>
                </a:cubicBezTo>
                <a:cubicBezTo>
                  <a:pt x="7793" y="18075"/>
                  <a:pt x="7978" y="18098"/>
                  <a:pt x="7962" y="17909"/>
                </a:cubicBezTo>
                <a:cubicBezTo>
                  <a:pt x="7953" y="17807"/>
                  <a:pt x="7840" y="17871"/>
                  <a:pt x="7789" y="17884"/>
                </a:cubicBezTo>
              </a:path>
              <a:path w="5730" h="3077">
                <a:moveTo>
                  <a:pt x="8905" y="17810"/>
                </a:moveTo>
                <a:cubicBezTo>
                  <a:pt x="8809" y="17791"/>
                  <a:pt x="8738" y="17832"/>
                  <a:pt x="8682" y="17934"/>
                </a:cubicBezTo>
                <a:cubicBezTo>
                  <a:pt x="8682" y="17950"/>
                  <a:pt x="8682" y="17967"/>
                  <a:pt x="8682" y="17983"/>
                </a:cubicBezTo>
                <a:cubicBezTo>
                  <a:pt x="8765" y="18018"/>
                  <a:pt x="9011" y="18055"/>
                  <a:pt x="8979" y="17859"/>
                </a:cubicBezTo>
                <a:cubicBezTo>
                  <a:pt x="8969" y="17799"/>
                  <a:pt x="8871" y="17792"/>
                  <a:pt x="8830" y="17785"/>
                </a:cubicBezTo>
              </a:path>
              <a:path w="5730" h="3077">
                <a:moveTo>
                  <a:pt x="9575" y="17785"/>
                </a:moveTo>
                <a:cubicBezTo>
                  <a:pt x="9484" y="17815"/>
                  <a:pt x="9432" y="17842"/>
                  <a:pt x="9401" y="17934"/>
                </a:cubicBezTo>
                <a:cubicBezTo>
                  <a:pt x="9401" y="17942"/>
                  <a:pt x="9401" y="17951"/>
                  <a:pt x="9401" y="17959"/>
                </a:cubicBezTo>
                <a:cubicBezTo>
                  <a:pt x="9515" y="17967"/>
                  <a:pt x="9684" y="17946"/>
                  <a:pt x="9674" y="17785"/>
                </a:cubicBezTo>
                <a:cubicBezTo>
                  <a:pt x="9668" y="17683"/>
                  <a:pt x="9521" y="17797"/>
                  <a:pt x="9500" y="17810"/>
                </a:cubicBezTo>
              </a:path>
              <a:path w="5730" h="3077">
                <a:moveTo>
                  <a:pt x="10071" y="17711"/>
                </a:moveTo>
                <a:cubicBezTo>
                  <a:pt x="10000" y="17741"/>
                  <a:pt x="9967" y="17777"/>
                  <a:pt x="9922" y="17835"/>
                </a:cubicBezTo>
                <a:cubicBezTo>
                  <a:pt x="9978" y="17985"/>
                  <a:pt x="10155" y="17945"/>
                  <a:pt x="10269" y="17835"/>
                </a:cubicBezTo>
                <a:cubicBezTo>
                  <a:pt x="10376" y="17732"/>
                  <a:pt x="10184" y="17726"/>
                  <a:pt x="10170" y="17735"/>
                </a:cubicBezTo>
              </a:path>
              <a:path w="5730" h="3077">
                <a:moveTo>
                  <a:pt x="10939" y="17711"/>
                </a:moveTo>
                <a:cubicBezTo>
                  <a:pt x="10815" y="17731"/>
                  <a:pt x="10757" y="17762"/>
                  <a:pt x="10716" y="17884"/>
                </a:cubicBezTo>
                <a:cubicBezTo>
                  <a:pt x="10821" y="17959"/>
                  <a:pt x="10980" y="18002"/>
                  <a:pt x="11013" y="17810"/>
                </a:cubicBezTo>
                <a:cubicBezTo>
                  <a:pt x="10988" y="17735"/>
                  <a:pt x="10980" y="17711"/>
                  <a:pt x="10914" y="17711"/>
                </a:cubicBezTo>
              </a:path>
              <a:path w="5730" h="3077">
                <a:moveTo>
                  <a:pt x="6524" y="15751"/>
                </a:moveTo>
                <a:cubicBezTo>
                  <a:pt x="6604" y="15711"/>
                  <a:pt x="6682" y="15605"/>
                  <a:pt x="6796" y="15627"/>
                </a:cubicBezTo>
                <a:cubicBezTo>
                  <a:pt x="6844" y="15636"/>
                  <a:pt x="6878" y="15658"/>
                  <a:pt x="6896" y="15701"/>
                </a:cubicBezTo>
                <a:cubicBezTo>
                  <a:pt x="6914" y="15743"/>
                  <a:pt x="6911" y="15842"/>
                  <a:pt x="6871" y="15875"/>
                </a:cubicBezTo>
                <a:cubicBezTo>
                  <a:pt x="6848" y="15894"/>
                  <a:pt x="6832" y="15898"/>
                  <a:pt x="6796" y="15925"/>
                </a:cubicBezTo>
                <a:cubicBezTo>
                  <a:pt x="6840" y="15946"/>
                  <a:pt x="6840" y="15925"/>
                  <a:pt x="6896" y="15925"/>
                </a:cubicBezTo>
                <a:cubicBezTo>
                  <a:pt x="6938" y="15925"/>
                  <a:pt x="6984" y="15944"/>
                  <a:pt x="6995" y="15999"/>
                </a:cubicBezTo>
                <a:cubicBezTo>
                  <a:pt x="7009" y="16071"/>
                  <a:pt x="6993" y="16118"/>
                  <a:pt x="6970" y="16173"/>
                </a:cubicBezTo>
                <a:cubicBezTo>
                  <a:pt x="6937" y="16250"/>
                  <a:pt x="6911" y="16269"/>
                  <a:pt x="6821" y="16297"/>
                </a:cubicBezTo>
                <a:cubicBezTo>
                  <a:pt x="6779" y="16310"/>
                  <a:pt x="6787" y="16277"/>
                  <a:pt x="6772" y="16321"/>
                </a:cubicBezTo>
              </a:path>
              <a:path w="5730" h="3077">
                <a:moveTo>
                  <a:pt x="6573" y="16446"/>
                </a:moveTo>
                <a:cubicBezTo>
                  <a:pt x="6589" y="16494"/>
                  <a:pt x="6603" y="16454"/>
                  <a:pt x="6648" y="16470"/>
                </a:cubicBezTo>
                <a:cubicBezTo>
                  <a:pt x="6699" y="16488"/>
                  <a:pt x="6698" y="16495"/>
                  <a:pt x="6747" y="16495"/>
                </a:cubicBezTo>
                <a:cubicBezTo>
                  <a:pt x="6747" y="16543"/>
                  <a:pt x="6746" y="16604"/>
                  <a:pt x="6722" y="16644"/>
                </a:cubicBezTo>
                <a:cubicBezTo>
                  <a:pt x="6700" y="16680"/>
                  <a:pt x="6628" y="16694"/>
                  <a:pt x="6672" y="16694"/>
                </a:cubicBezTo>
                <a:cubicBezTo>
                  <a:pt x="6708" y="16694"/>
                  <a:pt x="6799" y="16691"/>
                  <a:pt x="6821" y="16718"/>
                </a:cubicBezTo>
                <a:cubicBezTo>
                  <a:pt x="6827" y="16725"/>
                  <a:pt x="6850" y="16856"/>
                  <a:pt x="6846" y="16867"/>
                </a:cubicBezTo>
                <a:cubicBezTo>
                  <a:pt x="6829" y="16918"/>
                  <a:pt x="6733" y="16921"/>
                  <a:pt x="6697" y="16942"/>
                </a:cubicBezTo>
              </a:path>
              <a:path w="5730" h="3077">
                <a:moveTo>
                  <a:pt x="6424" y="16148"/>
                </a:moveTo>
                <a:cubicBezTo>
                  <a:pt x="6412" y="16198"/>
                  <a:pt x="6371" y="16244"/>
                  <a:pt x="6350" y="16297"/>
                </a:cubicBezTo>
                <a:cubicBezTo>
                  <a:pt x="6326" y="16357"/>
                  <a:pt x="6282" y="16432"/>
                  <a:pt x="6276" y="16495"/>
                </a:cubicBezTo>
                <a:cubicBezTo>
                  <a:pt x="6276" y="16503"/>
                  <a:pt x="6276" y="16512"/>
                  <a:pt x="6276" y="16520"/>
                </a:cubicBezTo>
                <a:cubicBezTo>
                  <a:pt x="6322" y="16520"/>
                  <a:pt x="6340" y="16514"/>
                  <a:pt x="6375" y="16545"/>
                </a:cubicBezTo>
                <a:cubicBezTo>
                  <a:pt x="6407" y="16573"/>
                  <a:pt x="6443" y="16574"/>
                  <a:pt x="6474" y="16594"/>
                </a:cubicBezTo>
                <a:cubicBezTo>
                  <a:pt x="6482" y="16602"/>
                  <a:pt x="6491" y="16611"/>
                  <a:pt x="6499" y="16619"/>
                </a:cubicBezTo>
              </a:path>
              <a:path w="5730" h="3077">
                <a:moveTo>
                  <a:pt x="5928" y="16197"/>
                </a:moveTo>
                <a:cubicBezTo>
                  <a:pt x="5949" y="16208"/>
                  <a:pt x="5929" y="16240"/>
                  <a:pt x="5904" y="16272"/>
                </a:cubicBezTo>
                <a:cubicBezTo>
                  <a:pt x="5843" y="16349"/>
                  <a:pt x="5778" y="16390"/>
                  <a:pt x="5755" y="16495"/>
                </a:cubicBezTo>
                <a:cubicBezTo>
                  <a:pt x="5741" y="16558"/>
                  <a:pt x="5766" y="16612"/>
                  <a:pt x="5779" y="16669"/>
                </a:cubicBezTo>
                <a:cubicBezTo>
                  <a:pt x="5790" y="16719"/>
                  <a:pt x="5902" y="16735"/>
                  <a:pt x="5953" y="16718"/>
                </a:cubicBezTo>
                <a:cubicBezTo>
                  <a:pt x="5970" y="16713"/>
                  <a:pt x="6027" y="16671"/>
                  <a:pt x="6028" y="16669"/>
                </a:cubicBezTo>
                <a:cubicBezTo>
                  <a:pt x="6028" y="16636"/>
                  <a:pt x="6028" y="16619"/>
                  <a:pt x="6028" y="16594"/>
                </a:cubicBezTo>
                <a:cubicBezTo>
                  <a:pt x="5963" y="16594"/>
                  <a:pt x="5938" y="16604"/>
                  <a:pt x="5879" y="16619"/>
                </a:cubicBezTo>
                <a:cubicBezTo>
                  <a:pt x="5871" y="16619"/>
                  <a:pt x="5862" y="16619"/>
                  <a:pt x="5854" y="16619"/>
                </a:cubicBezTo>
              </a:path>
              <a:path w="5730" h="3077">
                <a:moveTo>
                  <a:pt x="6400" y="17115"/>
                </a:moveTo>
                <a:cubicBezTo>
                  <a:pt x="6429" y="17071"/>
                  <a:pt x="6476" y="17076"/>
                  <a:pt x="6499" y="17140"/>
                </a:cubicBezTo>
                <a:cubicBezTo>
                  <a:pt x="6513" y="17178"/>
                  <a:pt x="6506" y="17260"/>
                  <a:pt x="6474" y="17264"/>
                </a:cubicBezTo>
                <a:cubicBezTo>
                  <a:pt x="6449" y="17264"/>
                  <a:pt x="6441" y="17264"/>
                  <a:pt x="6449" y="17289"/>
                </a:cubicBezTo>
                <a:cubicBezTo>
                  <a:pt x="6471" y="17255"/>
                  <a:pt x="6497" y="17264"/>
                  <a:pt x="6548" y="17264"/>
                </a:cubicBezTo>
                <a:cubicBezTo>
                  <a:pt x="6599" y="17264"/>
                  <a:pt x="6597" y="17270"/>
                  <a:pt x="6623" y="17314"/>
                </a:cubicBezTo>
                <a:cubicBezTo>
                  <a:pt x="6666" y="17388"/>
                  <a:pt x="6641" y="17389"/>
                  <a:pt x="6623" y="17462"/>
                </a:cubicBezTo>
                <a:cubicBezTo>
                  <a:pt x="6610" y="17512"/>
                  <a:pt x="6567" y="17512"/>
                  <a:pt x="6524" y="17537"/>
                </a:cubicBezTo>
                <a:cubicBezTo>
                  <a:pt x="6499" y="17562"/>
                  <a:pt x="6491" y="17570"/>
                  <a:pt x="6474" y="17587"/>
                </a:cubicBezTo>
              </a:path>
              <a:path w="5730" h="3077">
                <a:moveTo>
                  <a:pt x="6449" y="17686"/>
                </a:moveTo>
                <a:cubicBezTo>
                  <a:pt x="6507" y="17672"/>
                  <a:pt x="6557" y="17627"/>
                  <a:pt x="6623" y="17611"/>
                </a:cubicBezTo>
                <a:cubicBezTo>
                  <a:pt x="6648" y="17611"/>
                  <a:pt x="6656" y="17611"/>
                  <a:pt x="6672" y="17611"/>
                </a:cubicBezTo>
                <a:cubicBezTo>
                  <a:pt x="6691" y="17643"/>
                  <a:pt x="6736" y="17718"/>
                  <a:pt x="6722" y="17760"/>
                </a:cubicBezTo>
                <a:cubicBezTo>
                  <a:pt x="6703" y="17818"/>
                  <a:pt x="6641" y="17814"/>
                  <a:pt x="6623" y="17835"/>
                </a:cubicBezTo>
                <a:cubicBezTo>
                  <a:pt x="6623" y="17859"/>
                  <a:pt x="6623" y="17867"/>
                  <a:pt x="6598" y="17859"/>
                </a:cubicBezTo>
                <a:cubicBezTo>
                  <a:pt x="6631" y="17859"/>
                  <a:pt x="6749" y="17839"/>
                  <a:pt x="6772" y="17884"/>
                </a:cubicBezTo>
                <a:cubicBezTo>
                  <a:pt x="6790" y="17919"/>
                  <a:pt x="6826" y="18050"/>
                  <a:pt x="6772" y="18083"/>
                </a:cubicBezTo>
                <a:cubicBezTo>
                  <a:pt x="6743" y="18100"/>
                  <a:pt x="6553" y="18221"/>
                  <a:pt x="6524" y="18132"/>
                </a:cubicBezTo>
                <a:cubicBezTo>
                  <a:pt x="6524" y="18107"/>
                  <a:pt x="6524" y="18083"/>
                  <a:pt x="6524" y="18058"/>
                </a:cubicBezTo>
              </a:path>
              <a:path w="5730" h="3077">
                <a:moveTo>
                  <a:pt x="6276" y="17388"/>
                </a:moveTo>
                <a:cubicBezTo>
                  <a:pt x="6268" y="17438"/>
                  <a:pt x="6247" y="17520"/>
                  <a:pt x="6226" y="17562"/>
                </a:cubicBezTo>
                <a:cubicBezTo>
                  <a:pt x="6197" y="17620"/>
                  <a:pt x="6197" y="17600"/>
                  <a:pt x="6226" y="17636"/>
                </a:cubicBezTo>
                <a:cubicBezTo>
                  <a:pt x="6277" y="17699"/>
                  <a:pt x="6338" y="17791"/>
                  <a:pt x="6400" y="17835"/>
                </a:cubicBezTo>
                <a:cubicBezTo>
                  <a:pt x="6428" y="17835"/>
                  <a:pt x="6438" y="17837"/>
                  <a:pt x="6449" y="17859"/>
                </a:cubicBezTo>
              </a:path>
              <a:path w="5730" h="3077">
                <a:moveTo>
                  <a:pt x="5879" y="17314"/>
                </a:moveTo>
                <a:cubicBezTo>
                  <a:pt x="5905" y="17327"/>
                  <a:pt x="5858" y="17368"/>
                  <a:pt x="5829" y="17413"/>
                </a:cubicBezTo>
                <a:cubicBezTo>
                  <a:pt x="5769" y="17507"/>
                  <a:pt x="5714" y="17644"/>
                  <a:pt x="5755" y="17760"/>
                </a:cubicBezTo>
                <a:cubicBezTo>
                  <a:pt x="5773" y="17811"/>
                  <a:pt x="5897" y="17897"/>
                  <a:pt x="5953" y="17884"/>
                </a:cubicBezTo>
                <a:cubicBezTo>
                  <a:pt x="5975" y="17879"/>
                  <a:pt x="6099" y="17794"/>
                  <a:pt x="6102" y="17785"/>
                </a:cubicBezTo>
                <a:cubicBezTo>
                  <a:pt x="6135" y="17696"/>
                  <a:pt x="6073" y="17744"/>
                  <a:pt x="6052" y="17760"/>
                </a:cubicBezTo>
              </a:path>
              <a:path w="5730" h="3077">
                <a:moveTo>
                  <a:pt x="5432" y="17462"/>
                </a:moveTo>
                <a:cubicBezTo>
                  <a:pt x="5440" y="17539"/>
                  <a:pt x="5431" y="17664"/>
                  <a:pt x="5457" y="17735"/>
                </a:cubicBezTo>
                <a:cubicBezTo>
                  <a:pt x="5465" y="17743"/>
                  <a:pt x="5474" y="17752"/>
                  <a:pt x="5482" y="17760"/>
                </a:cubicBezTo>
              </a:path>
              <a:path w="5730" h="3077">
                <a:moveTo>
                  <a:pt x="5432" y="17587"/>
                </a:moveTo>
                <a:cubicBezTo>
                  <a:pt x="5463" y="17535"/>
                  <a:pt x="5523" y="17504"/>
                  <a:pt x="5581" y="17487"/>
                </a:cubicBezTo>
                <a:cubicBezTo>
                  <a:pt x="5589" y="17487"/>
                  <a:pt x="5598" y="17487"/>
                  <a:pt x="5606" y="17487"/>
                </a:cubicBezTo>
              </a:path>
              <a:path w="5730" h="3077">
                <a:moveTo>
                  <a:pt x="5407" y="17835"/>
                </a:moveTo>
                <a:cubicBezTo>
                  <a:pt x="5347" y="17835"/>
                  <a:pt x="5462" y="17835"/>
                  <a:pt x="5482" y="17835"/>
                </a:cubicBezTo>
                <a:cubicBezTo>
                  <a:pt x="5607" y="17835"/>
                  <a:pt x="5768" y="17800"/>
                  <a:pt x="5879" y="17810"/>
                </a:cubicBezTo>
                <a:cubicBezTo>
                  <a:pt x="5947" y="17816"/>
                  <a:pt x="6005" y="17835"/>
                  <a:pt x="6077" y="17835"/>
                </a:cubicBezTo>
                <a:cubicBezTo>
                  <a:pt x="6144" y="17835"/>
                  <a:pt x="6158" y="17831"/>
                  <a:pt x="6226" y="17835"/>
                </a:cubicBezTo>
                <a:cubicBezTo>
                  <a:pt x="6297" y="17839"/>
                  <a:pt x="6340" y="17839"/>
                  <a:pt x="6400" y="17859"/>
                </a:cubicBezTo>
                <a:cubicBezTo>
                  <a:pt x="6439" y="17872"/>
                  <a:pt x="6465" y="17884"/>
                  <a:pt x="6499" y="17909"/>
                </a:cubicBezTo>
              </a:path>
              <a:path w="5730" h="3077">
                <a:moveTo>
                  <a:pt x="5581" y="18033"/>
                </a:moveTo>
                <a:cubicBezTo>
                  <a:pt x="5626" y="18092"/>
                  <a:pt x="5631" y="18181"/>
                  <a:pt x="5655" y="18256"/>
                </a:cubicBezTo>
                <a:cubicBezTo>
                  <a:pt x="5663" y="18280"/>
                  <a:pt x="5691" y="18444"/>
                  <a:pt x="5705" y="18455"/>
                </a:cubicBezTo>
                <a:cubicBezTo>
                  <a:pt x="5745" y="18455"/>
                  <a:pt x="5764" y="18444"/>
                  <a:pt x="5779" y="18405"/>
                </a:cubicBezTo>
              </a:path>
              <a:path w="5730" h="3077">
                <a:moveTo>
                  <a:pt x="5953" y="18033"/>
                </a:moveTo>
                <a:cubicBezTo>
                  <a:pt x="5990" y="17933"/>
                  <a:pt x="5988" y="17923"/>
                  <a:pt x="6077" y="17884"/>
                </a:cubicBezTo>
                <a:cubicBezTo>
                  <a:pt x="6123" y="18002"/>
                  <a:pt x="6164" y="18104"/>
                  <a:pt x="6176" y="18231"/>
                </a:cubicBezTo>
                <a:cubicBezTo>
                  <a:pt x="6182" y="18296"/>
                  <a:pt x="6192" y="18317"/>
                  <a:pt x="6152" y="18331"/>
                </a:cubicBezTo>
                <a:cubicBezTo>
                  <a:pt x="6143" y="18294"/>
                  <a:pt x="6115" y="18269"/>
                  <a:pt x="6077" y="18256"/>
                </a:cubicBezTo>
                <a:cubicBezTo>
                  <a:pt x="6041" y="18244"/>
                  <a:pt x="6037" y="18205"/>
                  <a:pt x="6028" y="18157"/>
                </a:cubicBezTo>
                <a:cubicBezTo>
                  <a:pt x="6098" y="18157"/>
                  <a:pt x="6109" y="18213"/>
                  <a:pt x="6176" y="18231"/>
                </a:cubicBezTo>
                <a:cubicBezTo>
                  <a:pt x="6227" y="18245"/>
                  <a:pt x="6255" y="18266"/>
                  <a:pt x="6300" y="18281"/>
                </a:cubicBezTo>
                <a:cubicBezTo>
                  <a:pt x="6336" y="18293"/>
                  <a:pt x="6341" y="18306"/>
                  <a:pt x="6400" y="18306"/>
                </a:cubicBezTo>
                <a:cubicBezTo>
                  <a:pt x="6408" y="18306"/>
                  <a:pt x="6416" y="18306"/>
                  <a:pt x="6424" y="18306"/>
                </a:cubicBezTo>
              </a:path>
              <a:path w="5730" h="3077">
                <a:moveTo>
                  <a:pt x="9079" y="15503"/>
                </a:moveTo>
                <a:cubicBezTo>
                  <a:pt x="9079" y="15592"/>
                  <a:pt x="9091" y="15675"/>
                  <a:pt x="9103" y="15751"/>
                </a:cubicBezTo>
                <a:cubicBezTo>
                  <a:pt x="9115" y="15826"/>
                  <a:pt x="9122" y="15958"/>
                  <a:pt x="9128" y="15999"/>
                </a:cubicBezTo>
                <a:cubicBezTo>
                  <a:pt x="9134" y="16040"/>
                  <a:pt x="9099" y="16057"/>
                  <a:pt x="9103" y="16098"/>
                </a:cubicBezTo>
                <a:cubicBezTo>
                  <a:pt x="9106" y="16130"/>
                  <a:pt x="9128" y="16176"/>
                  <a:pt x="9128" y="16222"/>
                </a:cubicBezTo>
                <a:cubicBezTo>
                  <a:pt x="9076" y="16222"/>
                  <a:pt x="9043" y="16204"/>
                  <a:pt x="9004" y="16197"/>
                </a:cubicBezTo>
                <a:cubicBezTo>
                  <a:pt x="8971" y="16191"/>
                  <a:pt x="8930" y="16177"/>
                  <a:pt x="8905" y="16173"/>
                </a:cubicBezTo>
                <a:cubicBezTo>
                  <a:pt x="8781" y="16153"/>
                  <a:pt x="8642" y="16183"/>
                  <a:pt x="8533" y="16197"/>
                </a:cubicBezTo>
                <a:cubicBezTo>
                  <a:pt x="8513" y="16200"/>
                  <a:pt x="8450" y="16183"/>
                  <a:pt x="8409" y="16197"/>
                </a:cubicBezTo>
                <a:cubicBezTo>
                  <a:pt x="8380" y="16207"/>
                  <a:pt x="8338" y="16209"/>
                  <a:pt x="8310" y="16222"/>
                </a:cubicBezTo>
                <a:cubicBezTo>
                  <a:pt x="8275" y="16238"/>
                  <a:pt x="8286" y="16245"/>
                  <a:pt x="8235" y="16247"/>
                </a:cubicBezTo>
                <a:cubicBezTo>
                  <a:pt x="8173" y="16250"/>
                  <a:pt x="8144" y="16269"/>
                  <a:pt x="8086" y="16272"/>
                </a:cubicBezTo>
                <a:cubicBezTo>
                  <a:pt x="8049" y="16274"/>
                  <a:pt x="7989" y="16297"/>
                  <a:pt x="7987" y="16297"/>
                </a:cubicBezTo>
                <a:cubicBezTo>
                  <a:pt x="7940" y="16304"/>
                  <a:pt x="7882" y="16316"/>
                  <a:pt x="7838" y="16321"/>
                </a:cubicBezTo>
                <a:cubicBezTo>
                  <a:pt x="7777" y="16328"/>
                  <a:pt x="7725" y="16343"/>
                  <a:pt x="7665" y="16346"/>
                </a:cubicBezTo>
                <a:cubicBezTo>
                  <a:pt x="7611" y="16349"/>
                  <a:pt x="7594" y="16368"/>
                  <a:pt x="7541" y="16371"/>
                </a:cubicBezTo>
                <a:cubicBezTo>
                  <a:pt x="7458" y="16375"/>
                  <a:pt x="7364" y="16371"/>
                  <a:pt x="7317" y="16346"/>
                </a:cubicBezTo>
                <a:cubicBezTo>
                  <a:pt x="7268" y="16320"/>
                  <a:pt x="7245" y="16308"/>
                  <a:pt x="7218" y="16247"/>
                </a:cubicBezTo>
                <a:cubicBezTo>
                  <a:pt x="7193" y="16191"/>
                  <a:pt x="7138" y="16105"/>
                  <a:pt x="7119" y="16049"/>
                </a:cubicBezTo>
                <a:cubicBezTo>
                  <a:pt x="7091" y="15965"/>
                  <a:pt x="7034" y="15840"/>
                  <a:pt x="7020" y="15751"/>
                </a:cubicBezTo>
                <a:cubicBezTo>
                  <a:pt x="7010" y="15683"/>
                  <a:pt x="6998" y="15592"/>
                  <a:pt x="6970" y="15528"/>
                </a:cubicBezTo>
                <a:cubicBezTo>
                  <a:pt x="6951" y="15483"/>
                  <a:pt x="6951" y="15501"/>
                  <a:pt x="6945" y="15429"/>
                </a:cubicBezTo>
                <a:cubicBezTo>
                  <a:pt x="6945" y="15421"/>
                  <a:pt x="6945" y="15412"/>
                  <a:pt x="6945" y="15404"/>
                </a:cubicBezTo>
                <a:cubicBezTo>
                  <a:pt x="7020" y="15398"/>
                  <a:pt x="7077" y="15397"/>
                  <a:pt x="7144" y="15404"/>
                </a:cubicBezTo>
                <a:cubicBezTo>
                  <a:pt x="7214" y="15411"/>
                  <a:pt x="7275" y="15412"/>
                  <a:pt x="7342" y="15429"/>
                </a:cubicBezTo>
                <a:cubicBezTo>
                  <a:pt x="7427" y="15451"/>
                  <a:pt x="7476" y="15429"/>
                  <a:pt x="7565" y="15429"/>
                </a:cubicBezTo>
                <a:cubicBezTo>
                  <a:pt x="7687" y="15429"/>
                  <a:pt x="7819" y="15426"/>
                  <a:pt x="7938" y="15404"/>
                </a:cubicBezTo>
                <a:cubicBezTo>
                  <a:pt x="8034" y="15386"/>
                  <a:pt x="8110" y="15379"/>
                  <a:pt x="8210" y="15379"/>
                </a:cubicBezTo>
                <a:cubicBezTo>
                  <a:pt x="8287" y="15379"/>
                  <a:pt x="8355" y="15404"/>
                  <a:pt x="8434" y="15404"/>
                </a:cubicBezTo>
                <a:cubicBezTo>
                  <a:pt x="8610" y="15404"/>
                  <a:pt x="8786" y="15407"/>
                  <a:pt x="8954" y="15379"/>
                </a:cubicBezTo>
                <a:cubicBezTo>
                  <a:pt x="8984" y="15374"/>
                  <a:pt x="9023" y="15379"/>
                  <a:pt x="9054" y="15379"/>
                </a:cubicBezTo>
              </a:path>
              <a:path w="5730" h="3077">
                <a:moveTo>
                  <a:pt x="9153" y="16148"/>
                </a:moveTo>
                <a:cubicBezTo>
                  <a:pt x="9169" y="16196"/>
                  <a:pt x="9187" y="16247"/>
                  <a:pt x="9203" y="16297"/>
                </a:cubicBezTo>
                <a:cubicBezTo>
                  <a:pt x="9216" y="16338"/>
                  <a:pt x="9221" y="16378"/>
                  <a:pt x="9227" y="16421"/>
                </a:cubicBezTo>
                <a:cubicBezTo>
                  <a:pt x="9253" y="16606"/>
                  <a:pt x="9219" y="16821"/>
                  <a:pt x="9203" y="16991"/>
                </a:cubicBezTo>
                <a:cubicBezTo>
                  <a:pt x="9196" y="17059"/>
                  <a:pt x="9166" y="17100"/>
                  <a:pt x="9153" y="17165"/>
                </a:cubicBezTo>
                <a:cubicBezTo>
                  <a:pt x="9143" y="17214"/>
                  <a:pt x="9133" y="17293"/>
                  <a:pt x="9128" y="17338"/>
                </a:cubicBezTo>
                <a:cubicBezTo>
                  <a:pt x="9120" y="17416"/>
                  <a:pt x="9111" y="17487"/>
                  <a:pt x="9103" y="17562"/>
                </a:cubicBezTo>
                <a:cubicBezTo>
                  <a:pt x="9093" y="17660"/>
                  <a:pt x="9088" y="17766"/>
                  <a:pt x="9079" y="17859"/>
                </a:cubicBezTo>
                <a:cubicBezTo>
                  <a:pt x="9071" y="17947"/>
                  <a:pt x="9097" y="18036"/>
                  <a:pt x="9103" y="18107"/>
                </a:cubicBezTo>
                <a:cubicBezTo>
                  <a:pt x="9108" y="18172"/>
                  <a:pt x="9103" y="18240"/>
                  <a:pt x="9103" y="18306"/>
                </a:cubicBezTo>
                <a:cubicBezTo>
                  <a:pt x="8983" y="18306"/>
                  <a:pt x="8861" y="18293"/>
                  <a:pt x="8756" y="18281"/>
                </a:cubicBezTo>
                <a:cubicBezTo>
                  <a:pt x="8678" y="18272"/>
                  <a:pt x="8574" y="18263"/>
                  <a:pt x="8508" y="18256"/>
                </a:cubicBezTo>
                <a:cubicBezTo>
                  <a:pt x="8442" y="18249"/>
                  <a:pt x="8363" y="18237"/>
                  <a:pt x="8310" y="18231"/>
                </a:cubicBezTo>
                <a:cubicBezTo>
                  <a:pt x="8099" y="18207"/>
                  <a:pt x="7856" y="18268"/>
                  <a:pt x="7665" y="18256"/>
                </a:cubicBezTo>
                <a:cubicBezTo>
                  <a:pt x="7614" y="18253"/>
                  <a:pt x="7565" y="18242"/>
                  <a:pt x="7516" y="18231"/>
                </a:cubicBezTo>
                <a:cubicBezTo>
                  <a:pt x="7462" y="18219"/>
                  <a:pt x="7464" y="18216"/>
                  <a:pt x="7417" y="18182"/>
                </a:cubicBezTo>
                <a:cubicBezTo>
                  <a:pt x="7363" y="18143"/>
                  <a:pt x="7367" y="18135"/>
                  <a:pt x="7293" y="18107"/>
                </a:cubicBezTo>
                <a:cubicBezTo>
                  <a:pt x="7233" y="18084"/>
                  <a:pt x="7196" y="18084"/>
                  <a:pt x="7144" y="18132"/>
                </a:cubicBezTo>
                <a:cubicBezTo>
                  <a:pt x="7086" y="18186"/>
                  <a:pt x="7053" y="18219"/>
                  <a:pt x="6995" y="18256"/>
                </a:cubicBezTo>
                <a:cubicBezTo>
                  <a:pt x="6947" y="18287"/>
                  <a:pt x="6931" y="18297"/>
                  <a:pt x="6871" y="18306"/>
                </a:cubicBezTo>
                <a:cubicBezTo>
                  <a:pt x="6836" y="18311"/>
                  <a:pt x="6783" y="18334"/>
                  <a:pt x="6772" y="18331"/>
                </a:cubicBezTo>
                <a:cubicBezTo>
                  <a:pt x="6731" y="18318"/>
                  <a:pt x="6716" y="18297"/>
                  <a:pt x="6697" y="18256"/>
                </a:cubicBezTo>
                <a:cubicBezTo>
                  <a:pt x="6671" y="18201"/>
                  <a:pt x="6655" y="18126"/>
                  <a:pt x="6648" y="18058"/>
                </a:cubicBezTo>
                <a:cubicBezTo>
                  <a:pt x="6643" y="18010"/>
                  <a:pt x="6626" y="17945"/>
                  <a:pt x="6623" y="17909"/>
                </a:cubicBezTo>
                <a:cubicBezTo>
                  <a:pt x="6618" y="17859"/>
                  <a:pt x="6596" y="17800"/>
                  <a:pt x="6598" y="17760"/>
                </a:cubicBezTo>
                <a:cubicBezTo>
                  <a:pt x="6600" y="17706"/>
                  <a:pt x="6611" y="17725"/>
                  <a:pt x="6623" y="17686"/>
                </a:cubicBezTo>
                <a:cubicBezTo>
                  <a:pt x="6626" y="17675"/>
                  <a:pt x="6641" y="17599"/>
                  <a:pt x="6648" y="17587"/>
                </a:cubicBezTo>
                <a:cubicBezTo>
                  <a:pt x="6665" y="17558"/>
                  <a:pt x="6677" y="17548"/>
                  <a:pt x="6722" y="17537"/>
                </a:cubicBezTo>
                <a:cubicBezTo>
                  <a:pt x="6764" y="17526"/>
                  <a:pt x="6829" y="17517"/>
                  <a:pt x="6871" y="17512"/>
                </a:cubicBezTo>
                <a:cubicBezTo>
                  <a:pt x="6909" y="17508"/>
                  <a:pt x="6997" y="17508"/>
                  <a:pt x="7020" y="17512"/>
                </a:cubicBezTo>
                <a:cubicBezTo>
                  <a:pt x="7075" y="17522"/>
                  <a:pt x="7110" y="17535"/>
                  <a:pt x="7169" y="17537"/>
                </a:cubicBezTo>
                <a:cubicBezTo>
                  <a:pt x="7230" y="17539"/>
                  <a:pt x="7260" y="17556"/>
                  <a:pt x="7317" y="17562"/>
                </a:cubicBezTo>
                <a:cubicBezTo>
                  <a:pt x="7544" y="17587"/>
                  <a:pt x="7794" y="17557"/>
                  <a:pt x="8012" y="17537"/>
                </a:cubicBezTo>
                <a:cubicBezTo>
                  <a:pt x="8179" y="17522"/>
                  <a:pt x="8350" y="17548"/>
                  <a:pt x="8508" y="17562"/>
                </a:cubicBezTo>
                <a:cubicBezTo>
                  <a:pt x="8586" y="17569"/>
                  <a:pt x="8714" y="17582"/>
                  <a:pt x="8756" y="17587"/>
                </a:cubicBezTo>
                <a:cubicBezTo>
                  <a:pt x="8796" y="17592"/>
                  <a:pt x="8898" y="17610"/>
                  <a:pt x="8905" y="17611"/>
                </a:cubicBezTo>
                <a:cubicBezTo>
                  <a:pt x="8946" y="17616"/>
                  <a:pt x="8964" y="17581"/>
                  <a:pt x="9004" y="17587"/>
                </a:cubicBezTo>
                <a:cubicBezTo>
                  <a:pt x="9031" y="17591"/>
                  <a:pt x="9016" y="17630"/>
                  <a:pt x="9054" y="17587"/>
                </a:cubicBezTo>
                <a:cubicBezTo>
                  <a:pt x="9054" y="17579"/>
                  <a:pt x="9054" y="17570"/>
                  <a:pt x="9054" y="17562"/>
                </a:cubicBezTo>
              </a:path>
              <a:path w="5730" h="3077">
                <a:moveTo>
                  <a:pt x="9203" y="17016"/>
                </a:moveTo>
                <a:cubicBezTo>
                  <a:pt x="9082" y="17016"/>
                  <a:pt x="8969" y="17026"/>
                  <a:pt x="8855" y="17041"/>
                </a:cubicBezTo>
                <a:cubicBezTo>
                  <a:pt x="8801" y="17048"/>
                  <a:pt x="8755" y="17028"/>
                  <a:pt x="8706" y="17016"/>
                </a:cubicBezTo>
                <a:cubicBezTo>
                  <a:pt x="8666" y="17006"/>
                  <a:pt x="8622" y="17002"/>
                  <a:pt x="8582" y="16991"/>
                </a:cubicBezTo>
                <a:cubicBezTo>
                  <a:pt x="8537" y="16979"/>
                  <a:pt x="8478" y="16980"/>
                  <a:pt x="8434" y="16966"/>
                </a:cubicBezTo>
                <a:cubicBezTo>
                  <a:pt x="8390" y="16953"/>
                  <a:pt x="8362" y="16944"/>
                  <a:pt x="8310" y="16942"/>
                </a:cubicBezTo>
                <a:cubicBezTo>
                  <a:pt x="8251" y="16940"/>
                  <a:pt x="8206" y="16924"/>
                  <a:pt x="8161" y="16917"/>
                </a:cubicBezTo>
                <a:cubicBezTo>
                  <a:pt x="8094" y="16906"/>
                  <a:pt x="8026" y="16903"/>
                  <a:pt x="7962" y="16892"/>
                </a:cubicBezTo>
                <a:cubicBezTo>
                  <a:pt x="7804" y="16865"/>
                  <a:pt x="7609" y="16893"/>
                  <a:pt x="7466" y="16917"/>
                </a:cubicBezTo>
                <a:cubicBezTo>
                  <a:pt x="7371" y="16933"/>
                  <a:pt x="7243" y="16884"/>
                  <a:pt x="7169" y="16892"/>
                </a:cubicBezTo>
                <a:cubicBezTo>
                  <a:pt x="7146" y="16895"/>
                  <a:pt x="7092" y="16906"/>
                  <a:pt x="7069" y="16917"/>
                </a:cubicBezTo>
                <a:cubicBezTo>
                  <a:pt x="7040" y="16930"/>
                  <a:pt x="7030" y="16925"/>
                  <a:pt x="6995" y="16942"/>
                </a:cubicBezTo>
                <a:cubicBezTo>
                  <a:pt x="6962" y="16958"/>
                  <a:pt x="6970" y="16963"/>
                  <a:pt x="6921" y="16966"/>
                </a:cubicBezTo>
                <a:cubicBezTo>
                  <a:pt x="6890" y="16968"/>
                  <a:pt x="6835" y="16951"/>
                  <a:pt x="6821" y="16991"/>
                </a:cubicBezTo>
                <a:cubicBezTo>
                  <a:pt x="6793" y="17070"/>
                  <a:pt x="6842" y="17183"/>
                  <a:pt x="6846" y="17264"/>
                </a:cubicBezTo>
                <a:cubicBezTo>
                  <a:pt x="6848" y="17311"/>
                  <a:pt x="6858" y="17366"/>
                  <a:pt x="6871" y="17413"/>
                </a:cubicBezTo>
                <a:cubicBezTo>
                  <a:pt x="6884" y="17459"/>
                  <a:pt x="6903" y="17476"/>
                  <a:pt x="6921" y="17512"/>
                </a:cubicBezTo>
              </a:path>
              <a:path w="5730" h="3077">
                <a:moveTo>
                  <a:pt x="7367" y="16371"/>
                </a:moveTo>
                <a:cubicBezTo>
                  <a:pt x="7359" y="16371"/>
                  <a:pt x="7350" y="16371"/>
                  <a:pt x="7342" y="16371"/>
                </a:cubicBezTo>
                <a:cubicBezTo>
                  <a:pt x="7327" y="16327"/>
                  <a:pt x="7304" y="16344"/>
                  <a:pt x="7268" y="16371"/>
                </a:cubicBezTo>
                <a:cubicBezTo>
                  <a:pt x="7213" y="16329"/>
                  <a:pt x="7228" y="16364"/>
                  <a:pt x="7169" y="16371"/>
                </a:cubicBezTo>
                <a:cubicBezTo>
                  <a:pt x="7132" y="16375"/>
                  <a:pt x="7097" y="16377"/>
                  <a:pt x="7069" y="16396"/>
                </a:cubicBezTo>
                <a:cubicBezTo>
                  <a:pt x="7016" y="16432"/>
                  <a:pt x="7020" y="16489"/>
                  <a:pt x="7020" y="16545"/>
                </a:cubicBezTo>
                <a:cubicBezTo>
                  <a:pt x="7020" y="16601"/>
                  <a:pt x="6995" y="16615"/>
                  <a:pt x="6995" y="16669"/>
                </a:cubicBezTo>
                <a:cubicBezTo>
                  <a:pt x="6995" y="16719"/>
                  <a:pt x="6984" y="16727"/>
                  <a:pt x="6970" y="16768"/>
                </a:cubicBezTo>
                <a:cubicBezTo>
                  <a:pt x="6959" y="16801"/>
                  <a:pt x="6970" y="16857"/>
                  <a:pt x="6970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70800" y="5732640"/>
            <a:ext cx="81000" cy="241200"/>
          </a:xfrm>
          <a:custGeom>
            <a:avLst/>
            <a:gdLst/>
            <a:ahLst/>
            <a:rect l="l" t="t" r="r" b="b"/>
            <a:pathLst>
              <a:path w="224" h="670">
                <a:moveTo>
                  <a:pt x="18529" y="15925"/>
                </a:moveTo>
                <a:cubicBezTo>
                  <a:pt x="18667" y="16076"/>
                  <a:pt x="18752" y="16301"/>
                  <a:pt x="18752" y="16520"/>
                </a:cubicBezTo>
                <a:cubicBezTo>
                  <a:pt x="18733" y="16580"/>
                  <a:pt x="18714" y="16615"/>
                  <a:pt x="18752" y="165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72040" y="5661000"/>
            <a:ext cx="428760" cy="617400"/>
          </a:xfrm>
          <a:custGeom>
            <a:avLst/>
            <a:gdLst/>
            <a:ahLst/>
            <a:rect l="l" t="t" r="r" b="b"/>
            <a:pathLst>
              <a:path w="1192" h="1713">
                <a:moveTo>
                  <a:pt x="14709" y="15726"/>
                </a:moveTo>
                <a:cubicBezTo>
                  <a:pt x="14778" y="15749"/>
                  <a:pt x="14688" y="16061"/>
                  <a:pt x="14684" y="16123"/>
                </a:cubicBezTo>
                <a:cubicBezTo>
                  <a:pt x="14684" y="16239"/>
                  <a:pt x="14684" y="16255"/>
                  <a:pt x="14684" y="16321"/>
                </a:cubicBezTo>
              </a:path>
              <a:path w="1192" h="1713">
                <a:moveTo>
                  <a:pt x="14089" y="16520"/>
                </a:moveTo>
                <a:cubicBezTo>
                  <a:pt x="14411" y="16550"/>
                  <a:pt x="14730" y="16583"/>
                  <a:pt x="15056" y="16594"/>
                </a:cubicBezTo>
                <a:cubicBezTo>
                  <a:pt x="15208" y="16599"/>
                  <a:pt x="15272" y="16544"/>
                  <a:pt x="15255" y="16644"/>
                </a:cubicBezTo>
              </a:path>
              <a:path w="1192" h="1713">
                <a:moveTo>
                  <a:pt x="14412" y="16818"/>
                </a:moveTo>
                <a:cubicBezTo>
                  <a:pt x="14482" y="16789"/>
                  <a:pt x="14547" y="16731"/>
                  <a:pt x="14635" y="16718"/>
                </a:cubicBezTo>
                <a:cubicBezTo>
                  <a:pt x="14700" y="16708"/>
                  <a:pt x="14857" y="16732"/>
                  <a:pt x="14808" y="16842"/>
                </a:cubicBezTo>
                <a:cubicBezTo>
                  <a:pt x="14721" y="17035"/>
                  <a:pt x="14566" y="17092"/>
                  <a:pt x="14412" y="17214"/>
                </a:cubicBezTo>
                <a:cubicBezTo>
                  <a:pt x="14345" y="17267"/>
                  <a:pt x="14258" y="17359"/>
                  <a:pt x="14238" y="17438"/>
                </a:cubicBezTo>
                <a:cubicBezTo>
                  <a:pt x="14326" y="17385"/>
                  <a:pt x="14358" y="17310"/>
                  <a:pt x="14486" y="17289"/>
                </a:cubicBezTo>
                <a:cubicBezTo>
                  <a:pt x="14624" y="17266"/>
                  <a:pt x="14601" y="17385"/>
                  <a:pt x="14709" y="17413"/>
                </a:cubicBezTo>
                <a:cubicBezTo>
                  <a:pt x="14779" y="17431"/>
                  <a:pt x="14827" y="17402"/>
                  <a:pt x="14883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24360" y="5769000"/>
            <a:ext cx="303480" cy="482400"/>
          </a:xfrm>
          <a:custGeom>
            <a:avLst/>
            <a:gdLst/>
            <a:ahLst/>
            <a:rect l="l" t="t" r="r" b="b"/>
            <a:pathLst>
              <a:path w="844" h="1340">
                <a:moveTo>
                  <a:pt x="16148" y="16520"/>
                </a:moveTo>
                <a:cubicBezTo>
                  <a:pt x="16090" y="16497"/>
                  <a:pt x="16074" y="16482"/>
                  <a:pt x="16024" y="16520"/>
                </a:cubicBezTo>
                <a:cubicBezTo>
                  <a:pt x="15899" y="16614"/>
                  <a:pt x="15918" y="16706"/>
                  <a:pt x="15949" y="16818"/>
                </a:cubicBezTo>
                <a:cubicBezTo>
                  <a:pt x="16112" y="16850"/>
                  <a:pt x="16346" y="16833"/>
                  <a:pt x="16272" y="16570"/>
                </a:cubicBezTo>
                <a:cubicBezTo>
                  <a:pt x="16255" y="16562"/>
                  <a:pt x="16239" y="16553"/>
                  <a:pt x="16222" y="16545"/>
                </a:cubicBezTo>
                <a:cubicBezTo>
                  <a:pt x="16103" y="16569"/>
                  <a:pt x="16331" y="16608"/>
                  <a:pt x="16396" y="16545"/>
                </a:cubicBezTo>
                <a:cubicBezTo>
                  <a:pt x="16543" y="16402"/>
                  <a:pt x="16495" y="16232"/>
                  <a:pt x="16495" y="16049"/>
                </a:cubicBezTo>
                <a:cubicBezTo>
                  <a:pt x="16448" y="16033"/>
                  <a:pt x="16448" y="16511"/>
                  <a:pt x="16446" y="16570"/>
                </a:cubicBezTo>
                <a:cubicBezTo>
                  <a:pt x="16442" y="16700"/>
                  <a:pt x="16390" y="17293"/>
                  <a:pt x="16570" y="17363"/>
                </a:cubicBezTo>
                <a:cubicBezTo>
                  <a:pt x="16595" y="17355"/>
                  <a:pt x="16619" y="17346"/>
                  <a:pt x="16644" y="17338"/>
                </a:cubicBezTo>
                <a:cubicBezTo>
                  <a:pt x="16742" y="17151"/>
                  <a:pt x="16819" y="16971"/>
                  <a:pt x="16545" y="16892"/>
                </a:cubicBezTo>
                <a:cubicBezTo>
                  <a:pt x="16446" y="16892"/>
                  <a:pt x="16429" y="16892"/>
                  <a:pt x="16371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0240" y="5697360"/>
            <a:ext cx="928800" cy="598680"/>
          </a:xfrm>
          <a:custGeom>
            <a:avLst/>
            <a:gdLst/>
            <a:ahLst/>
            <a:rect l="l" t="t" r="r" b="b"/>
            <a:pathLst>
              <a:path w="2580" h="1663">
                <a:moveTo>
                  <a:pt x="18182" y="16619"/>
                </a:moveTo>
                <a:cubicBezTo>
                  <a:pt x="18222" y="16538"/>
                  <a:pt x="18277" y="16883"/>
                  <a:pt x="18281" y="16917"/>
                </a:cubicBezTo>
                <a:cubicBezTo>
                  <a:pt x="18281" y="16950"/>
                  <a:pt x="18281" y="16983"/>
                  <a:pt x="18281" y="17016"/>
                </a:cubicBezTo>
                <a:cubicBezTo>
                  <a:pt x="18198" y="16809"/>
                  <a:pt x="18124" y="16572"/>
                  <a:pt x="18207" y="16346"/>
                </a:cubicBezTo>
                <a:cubicBezTo>
                  <a:pt x="18232" y="16313"/>
                  <a:pt x="18256" y="16280"/>
                  <a:pt x="18281" y="16247"/>
                </a:cubicBezTo>
                <a:cubicBezTo>
                  <a:pt x="18426" y="16283"/>
                  <a:pt x="18617" y="16413"/>
                  <a:pt x="18455" y="16594"/>
                </a:cubicBezTo>
                <a:cubicBezTo>
                  <a:pt x="18369" y="16691"/>
                  <a:pt x="18025" y="16710"/>
                  <a:pt x="18083" y="16594"/>
                </a:cubicBezTo>
                <a:cubicBezTo>
                  <a:pt x="18099" y="16586"/>
                  <a:pt x="18116" y="16578"/>
                  <a:pt x="18132" y="16570"/>
                </a:cubicBezTo>
              </a:path>
              <a:path w="2580" h="1663">
                <a:moveTo>
                  <a:pt x="19199" y="16197"/>
                </a:moveTo>
                <a:cubicBezTo>
                  <a:pt x="19138" y="16052"/>
                  <a:pt x="19050" y="15960"/>
                  <a:pt x="18926" y="16148"/>
                </a:cubicBezTo>
                <a:cubicBezTo>
                  <a:pt x="18793" y="16350"/>
                  <a:pt x="18847" y="16429"/>
                  <a:pt x="18951" y="16594"/>
                </a:cubicBezTo>
                <a:cubicBezTo>
                  <a:pt x="19107" y="16501"/>
                  <a:pt x="19102" y="16461"/>
                  <a:pt x="19149" y="16272"/>
                </a:cubicBezTo>
                <a:cubicBezTo>
                  <a:pt x="19093" y="16286"/>
                  <a:pt x="19055" y="16485"/>
                  <a:pt x="19199" y="16520"/>
                </a:cubicBezTo>
                <a:cubicBezTo>
                  <a:pt x="19341" y="16554"/>
                  <a:pt x="19367" y="16243"/>
                  <a:pt x="19348" y="16371"/>
                </a:cubicBezTo>
                <a:cubicBezTo>
                  <a:pt x="19348" y="16430"/>
                  <a:pt x="19345" y="16456"/>
                  <a:pt x="19323" y="16495"/>
                </a:cubicBezTo>
                <a:cubicBezTo>
                  <a:pt x="19331" y="16495"/>
                  <a:pt x="19340" y="16495"/>
                  <a:pt x="19348" y="16495"/>
                </a:cubicBezTo>
                <a:cubicBezTo>
                  <a:pt x="19333" y="16405"/>
                  <a:pt x="19316" y="16166"/>
                  <a:pt x="19422" y="16098"/>
                </a:cubicBezTo>
                <a:cubicBezTo>
                  <a:pt x="19592" y="15989"/>
                  <a:pt x="19656" y="16404"/>
                  <a:pt x="19670" y="16470"/>
                </a:cubicBezTo>
                <a:cubicBezTo>
                  <a:pt x="19608" y="16676"/>
                  <a:pt x="19645" y="16491"/>
                  <a:pt x="19645" y="16421"/>
                </a:cubicBezTo>
              </a:path>
              <a:path w="2580" h="1663">
                <a:moveTo>
                  <a:pt x="19745" y="15825"/>
                </a:moveTo>
                <a:cubicBezTo>
                  <a:pt x="19812" y="16020"/>
                  <a:pt x="19823" y="16319"/>
                  <a:pt x="19918" y="16495"/>
                </a:cubicBezTo>
                <a:cubicBezTo>
                  <a:pt x="19935" y="16503"/>
                  <a:pt x="19951" y="16512"/>
                  <a:pt x="19968" y="16520"/>
                </a:cubicBezTo>
                <a:cubicBezTo>
                  <a:pt x="20144" y="16493"/>
                  <a:pt x="20178" y="16468"/>
                  <a:pt x="20166" y="16297"/>
                </a:cubicBezTo>
              </a:path>
              <a:path w="2580" h="1663">
                <a:moveTo>
                  <a:pt x="19645" y="16098"/>
                </a:moveTo>
                <a:cubicBezTo>
                  <a:pt x="19945" y="16017"/>
                  <a:pt x="20201" y="15999"/>
                  <a:pt x="20513" y="15999"/>
                </a:cubicBezTo>
                <a:cubicBezTo>
                  <a:pt x="20446" y="16016"/>
                  <a:pt x="20344" y="16020"/>
                  <a:pt x="20290" y="16073"/>
                </a:cubicBezTo>
                <a:cubicBezTo>
                  <a:pt x="20196" y="16165"/>
                  <a:pt x="20549" y="16081"/>
                  <a:pt x="20662" y="16148"/>
                </a:cubicBezTo>
                <a:cubicBezTo>
                  <a:pt x="20524" y="16243"/>
                  <a:pt x="20471" y="16247"/>
                  <a:pt x="20315" y="16247"/>
                </a:cubicBezTo>
              </a:path>
              <a:path w="2580" h="1663">
                <a:moveTo>
                  <a:pt x="18529" y="17041"/>
                </a:moveTo>
                <a:cubicBezTo>
                  <a:pt x="18469" y="17001"/>
                  <a:pt x="18508" y="16911"/>
                  <a:pt x="18579" y="16867"/>
                </a:cubicBezTo>
                <a:cubicBezTo>
                  <a:pt x="18634" y="16833"/>
                  <a:pt x="18869" y="16740"/>
                  <a:pt x="18827" y="16917"/>
                </a:cubicBezTo>
                <a:cubicBezTo>
                  <a:pt x="18772" y="17149"/>
                  <a:pt x="18579" y="17297"/>
                  <a:pt x="18430" y="17462"/>
                </a:cubicBezTo>
                <a:cubicBezTo>
                  <a:pt x="18402" y="17490"/>
                  <a:pt x="18393" y="17494"/>
                  <a:pt x="18405" y="17438"/>
                </a:cubicBezTo>
                <a:cubicBezTo>
                  <a:pt x="18506" y="17347"/>
                  <a:pt x="18565" y="17271"/>
                  <a:pt x="18703" y="17314"/>
                </a:cubicBezTo>
                <a:cubicBezTo>
                  <a:pt x="18836" y="17356"/>
                  <a:pt x="18762" y="17367"/>
                  <a:pt x="18926" y="17314"/>
                </a:cubicBezTo>
                <a:cubicBezTo>
                  <a:pt x="19003" y="17294"/>
                  <a:pt x="19021" y="17302"/>
                  <a:pt x="19050" y="17264"/>
                </a:cubicBezTo>
              </a:path>
              <a:path w="2580" h="1663">
                <a:moveTo>
                  <a:pt x="19248" y="16842"/>
                </a:moveTo>
                <a:cubicBezTo>
                  <a:pt x="19222" y="16916"/>
                  <a:pt x="19199" y="16954"/>
                  <a:pt x="19174" y="17016"/>
                </a:cubicBezTo>
                <a:cubicBezTo>
                  <a:pt x="19235" y="17042"/>
                  <a:pt x="19458" y="17047"/>
                  <a:pt x="19496" y="16966"/>
                </a:cubicBezTo>
                <a:cubicBezTo>
                  <a:pt x="19496" y="16925"/>
                  <a:pt x="19496" y="16883"/>
                  <a:pt x="19496" y="16842"/>
                </a:cubicBezTo>
              </a:path>
              <a:path w="2580" h="1663">
                <a:moveTo>
                  <a:pt x="19372" y="16644"/>
                </a:moveTo>
                <a:cubicBezTo>
                  <a:pt x="19346" y="16894"/>
                  <a:pt x="19323" y="17137"/>
                  <a:pt x="19323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5960" y="6384960"/>
            <a:ext cx="1106280" cy="366840"/>
          </a:xfrm>
          <a:custGeom>
            <a:avLst/>
            <a:gdLst/>
            <a:ahLst/>
            <a:rect l="l" t="t" r="r" b="b"/>
            <a:pathLst>
              <a:path w="3077" h="1018">
                <a:moveTo>
                  <a:pt x="14709" y="18306"/>
                </a:moveTo>
                <a:cubicBezTo>
                  <a:pt x="14861" y="18259"/>
                  <a:pt x="15151" y="18113"/>
                  <a:pt x="15304" y="18207"/>
                </a:cubicBezTo>
                <a:cubicBezTo>
                  <a:pt x="15296" y="18215"/>
                  <a:pt x="15288" y="18223"/>
                  <a:pt x="15280" y="18231"/>
                </a:cubicBezTo>
              </a:path>
              <a:path w="3077" h="1018">
                <a:moveTo>
                  <a:pt x="16297" y="18033"/>
                </a:moveTo>
                <a:cubicBezTo>
                  <a:pt x="16268" y="18206"/>
                  <a:pt x="16189" y="18392"/>
                  <a:pt x="16073" y="18529"/>
                </a:cubicBezTo>
                <a:cubicBezTo>
                  <a:pt x="16033" y="18549"/>
                  <a:pt x="16007" y="18558"/>
                  <a:pt x="16049" y="18554"/>
                </a:cubicBezTo>
              </a:path>
              <a:path w="3077" h="1018">
                <a:moveTo>
                  <a:pt x="16942" y="18405"/>
                </a:moveTo>
                <a:cubicBezTo>
                  <a:pt x="16942" y="18380"/>
                  <a:pt x="16942" y="18372"/>
                  <a:pt x="16917" y="18380"/>
                </a:cubicBezTo>
              </a:path>
              <a:path w="3077" h="1018">
                <a:moveTo>
                  <a:pt x="16917" y="18355"/>
                </a:moveTo>
                <a:lnTo>
                  <a:pt x="16917" y="18355"/>
                </a:lnTo>
              </a:path>
              <a:path w="3077" h="1018">
                <a:moveTo>
                  <a:pt x="15478" y="18479"/>
                </a:moveTo>
                <a:lnTo>
                  <a:pt x="15478" y="18479"/>
                </a:lnTo>
              </a:path>
              <a:path w="3077" h="1018">
                <a:moveTo>
                  <a:pt x="15453" y="18752"/>
                </a:moveTo>
                <a:lnTo>
                  <a:pt x="15453" y="18752"/>
                </a:lnTo>
                <a:lnTo>
                  <a:pt x="15453" y="18752"/>
                </a:lnTo>
              </a:path>
              <a:path w="3077" h="1018">
                <a:moveTo>
                  <a:pt x="17785" y="17735"/>
                </a:moveTo>
                <a:lnTo>
                  <a:pt x="17785" y="17735"/>
                </a:lnTo>
              </a:path>
              <a:path w="3077" h="1018">
                <a:moveTo>
                  <a:pt x="17785" y="18083"/>
                </a:moveTo>
                <a:lnTo>
                  <a:pt x="17785" y="18083"/>
                </a:lnTo>
                <a:lnTo>
                  <a:pt x="17785" y="18083"/>
                </a:lnTo>
              </a:path>
              <a:path w="3077" h="1018">
                <a:moveTo>
                  <a:pt x="17785" y="18083"/>
                </a:moveTo>
                <a:lnTo>
                  <a:pt x="17785" y="1808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41920" y="6483240"/>
            <a:ext cx="160200" cy="196920"/>
          </a:xfrm>
          <a:custGeom>
            <a:avLst/>
            <a:gdLst/>
            <a:ahLst/>
            <a:rect l="l" t="t" r="r" b="b"/>
            <a:pathLst>
              <a:path w="448" h="547">
                <a:moveTo>
                  <a:pt x="13469" y="18008"/>
                </a:moveTo>
                <a:cubicBezTo>
                  <a:pt x="13438" y="18089"/>
                  <a:pt x="13454" y="18123"/>
                  <a:pt x="13469" y="18207"/>
                </a:cubicBezTo>
                <a:cubicBezTo>
                  <a:pt x="13488" y="18319"/>
                  <a:pt x="13494" y="18416"/>
                  <a:pt x="13494" y="18529"/>
                </a:cubicBezTo>
              </a:path>
              <a:path w="448" h="547">
                <a:moveTo>
                  <a:pt x="13246" y="18430"/>
                </a:moveTo>
                <a:cubicBezTo>
                  <a:pt x="13348" y="18430"/>
                  <a:pt x="13398" y="18410"/>
                  <a:pt x="13494" y="18380"/>
                </a:cubicBezTo>
                <a:cubicBezTo>
                  <a:pt x="13568" y="18361"/>
                  <a:pt x="13575" y="18353"/>
                  <a:pt x="13618" y="18355"/>
                </a:cubicBezTo>
              </a:path>
              <a:path w="448" h="547">
                <a:moveTo>
                  <a:pt x="13593" y="18058"/>
                </a:moveTo>
                <a:cubicBezTo>
                  <a:pt x="13518" y="18114"/>
                  <a:pt x="13466" y="18281"/>
                  <a:pt x="13419" y="18380"/>
                </a:cubicBezTo>
                <a:cubicBezTo>
                  <a:pt x="13412" y="18396"/>
                  <a:pt x="13345" y="18585"/>
                  <a:pt x="13345" y="18529"/>
                </a:cubicBezTo>
              </a:path>
              <a:path w="448" h="547">
                <a:moveTo>
                  <a:pt x="13171" y="18207"/>
                </a:moveTo>
                <a:cubicBezTo>
                  <a:pt x="13270" y="18231"/>
                  <a:pt x="13408" y="18315"/>
                  <a:pt x="13494" y="18380"/>
                </a:cubicBezTo>
                <a:cubicBezTo>
                  <a:pt x="13591" y="18453"/>
                  <a:pt x="13536" y="18455"/>
                  <a:pt x="13618" y="184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87960" y="6188040"/>
            <a:ext cx="1608120" cy="615960"/>
          </a:xfrm>
          <a:custGeom>
            <a:avLst/>
            <a:gdLst/>
            <a:ahLst/>
            <a:rect l="l" t="t" r="r" b="b"/>
            <a:pathLst>
              <a:path w="4465" h="1712">
                <a:moveTo>
                  <a:pt x="14957" y="17785"/>
                </a:moveTo>
                <a:cubicBezTo>
                  <a:pt x="14971" y="17947"/>
                  <a:pt x="15017" y="18095"/>
                  <a:pt x="15032" y="18256"/>
                </a:cubicBezTo>
              </a:path>
              <a:path w="4465" h="1712">
                <a:moveTo>
                  <a:pt x="14932" y="18479"/>
                </a:moveTo>
                <a:cubicBezTo>
                  <a:pt x="15053" y="18494"/>
                  <a:pt x="15185" y="18495"/>
                  <a:pt x="15156" y="18653"/>
                </a:cubicBezTo>
                <a:cubicBezTo>
                  <a:pt x="15127" y="18811"/>
                  <a:pt x="15011" y="18857"/>
                  <a:pt x="14883" y="18802"/>
                </a:cubicBezTo>
                <a:cubicBezTo>
                  <a:pt x="14958" y="18678"/>
                  <a:pt x="15075" y="18656"/>
                  <a:pt x="15230" y="18703"/>
                </a:cubicBezTo>
                <a:cubicBezTo>
                  <a:pt x="15264" y="18713"/>
                  <a:pt x="15275" y="18762"/>
                  <a:pt x="15304" y="18777"/>
                </a:cubicBezTo>
              </a:path>
              <a:path w="4465" h="1712">
                <a:moveTo>
                  <a:pt x="16024" y="18182"/>
                </a:moveTo>
                <a:cubicBezTo>
                  <a:pt x="16038" y="18224"/>
                  <a:pt x="16104" y="18285"/>
                  <a:pt x="16148" y="18331"/>
                </a:cubicBezTo>
                <a:cubicBezTo>
                  <a:pt x="16191" y="18376"/>
                  <a:pt x="16250" y="18411"/>
                  <a:pt x="16272" y="18455"/>
                </a:cubicBezTo>
              </a:path>
              <a:path w="4465" h="1712">
                <a:moveTo>
                  <a:pt x="17090" y="17835"/>
                </a:moveTo>
                <a:cubicBezTo>
                  <a:pt x="17082" y="17827"/>
                  <a:pt x="17074" y="17818"/>
                  <a:pt x="17066" y="17810"/>
                </a:cubicBezTo>
                <a:cubicBezTo>
                  <a:pt x="17092" y="17673"/>
                  <a:pt x="17215" y="17721"/>
                  <a:pt x="17264" y="17835"/>
                </a:cubicBezTo>
                <a:cubicBezTo>
                  <a:pt x="17353" y="18042"/>
                  <a:pt x="17215" y="18174"/>
                  <a:pt x="17041" y="18207"/>
                </a:cubicBezTo>
                <a:cubicBezTo>
                  <a:pt x="17006" y="18207"/>
                  <a:pt x="16993" y="18198"/>
                  <a:pt x="16991" y="18157"/>
                </a:cubicBezTo>
                <a:cubicBezTo>
                  <a:pt x="17103" y="18079"/>
                  <a:pt x="17158" y="18082"/>
                  <a:pt x="17289" y="18107"/>
                </a:cubicBezTo>
                <a:cubicBezTo>
                  <a:pt x="17322" y="18107"/>
                  <a:pt x="17331" y="18115"/>
                  <a:pt x="17314" y="18157"/>
                </a:cubicBezTo>
              </a:path>
              <a:path w="4465" h="1712">
                <a:moveTo>
                  <a:pt x="17413" y="17661"/>
                </a:moveTo>
                <a:cubicBezTo>
                  <a:pt x="17413" y="17744"/>
                  <a:pt x="17413" y="17826"/>
                  <a:pt x="17413" y="17909"/>
                </a:cubicBezTo>
                <a:cubicBezTo>
                  <a:pt x="17536" y="17890"/>
                  <a:pt x="17659" y="17857"/>
                  <a:pt x="17686" y="17711"/>
                </a:cubicBezTo>
                <a:cubicBezTo>
                  <a:pt x="17686" y="17678"/>
                  <a:pt x="17686" y="17644"/>
                  <a:pt x="17686" y="17611"/>
                </a:cubicBezTo>
              </a:path>
              <a:path w="4465" h="1712">
                <a:moveTo>
                  <a:pt x="17661" y="17512"/>
                </a:moveTo>
                <a:cubicBezTo>
                  <a:pt x="17661" y="17704"/>
                  <a:pt x="17682" y="17891"/>
                  <a:pt x="17686" y="18083"/>
                </a:cubicBezTo>
                <a:cubicBezTo>
                  <a:pt x="17686" y="18116"/>
                  <a:pt x="17686" y="18149"/>
                  <a:pt x="17686" y="18182"/>
                </a:cubicBezTo>
              </a:path>
              <a:path w="4465" h="1712">
                <a:moveTo>
                  <a:pt x="16917" y="18355"/>
                </a:moveTo>
                <a:cubicBezTo>
                  <a:pt x="16978" y="18343"/>
                  <a:pt x="17030" y="18291"/>
                  <a:pt x="17090" y="18281"/>
                </a:cubicBezTo>
                <a:cubicBezTo>
                  <a:pt x="17193" y="18263"/>
                  <a:pt x="17312" y="18257"/>
                  <a:pt x="17413" y="18231"/>
                </a:cubicBezTo>
                <a:cubicBezTo>
                  <a:pt x="17491" y="18211"/>
                  <a:pt x="17584" y="18206"/>
                  <a:pt x="17661" y="18182"/>
                </a:cubicBezTo>
                <a:cubicBezTo>
                  <a:pt x="17709" y="18167"/>
                  <a:pt x="17766" y="18173"/>
                  <a:pt x="17810" y="18157"/>
                </a:cubicBezTo>
                <a:cubicBezTo>
                  <a:pt x="17861" y="18139"/>
                  <a:pt x="17860" y="18132"/>
                  <a:pt x="17909" y="18132"/>
                </a:cubicBezTo>
              </a:path>
              <a:path w="4465" h="1712">
                <a:moveTo>
                  <a:pt x="17388" y="18455"/>
                </a:moveTo>
                <a:cubicBezTo>
                  <a:pt x="17415" y="18419"/>
                  <a:pt x="17405" y="18416"/>
                  <a:pt x="17438" y="18405"/>
                </a:cubicBezTo>
                <a:cubicBezTo>
                  <a:pt x="17438" y="18506"/>
                  <a:pt x="17417" y="18602"/>
                  <a:pt x="17413" y="18703"/>
                </a:cubicBezTo>
                <a:cubicBezTo>
                  <a:pt x="17413" y="18744"/>
                  <a:pt x="17413" y="18752"/>
                  <a:pt x="17413" y="18777"/>
                </a:cubicBezTo>
              </a:path>
              <a:path w="4465" h="1712">
                <a:moveTo>
                  <a:pt x="15974" y="18479"/>
                </a:moveTo>
                <a:cubicBezTo>
                  <a:pt x="15936" y="18479"/>
                  <a:pt x="16063" y="18377"/>
                  <a:pt x="16098" y="18355"/>
                </a:cubicBezTo>
                <a:cubicBezTo>
                  <a:pt x="16189" y="18300"/>
                  <a:pt x="16278" y="18239"/>
                  <a:pt x="16371" y="18182"/>
                </a:cubicBezTo>
                <a:cubicBezTo>
                  <a:pt x="16415" y="18160"/>
                  <a:pt x="16427" y="18157"/>
                  <a:pt x="16446" y="18132"/>
                </a:cubicBezTo>
                <a:cubicBezTo>
                  <a:pt x="16577" y="18065"/>
                  <a:pt x="16324" y="18216"/>
                  <a:pt x="16297" y="18231"/>
                </a:cubicBezTo>
                <a:cubicBezTo>
                  <a:pt x="16172" y="18301"/>
                  <a:pt x="16048" y="18355"/>
                  <a:pt x="15925" y="18430"/>
                </a:cubicBezTo>
                <a:cubicBezTo>
                  <a:pt x="15858" y="18471"/>
                  <a:pt x="15797" y="18497"/>
                  <a:pt x="15726" y="18529"/>
                </a:cubicBezTo>
                <a:cubicBezTo>
                  <a:pt x="15758" y="18550"/>
                  <a:pt x="15859" y="18468"/>
                  <a:pt x="15925" y="18430"/>
                </a:cubicBezTo>
                <a:cubicBezTo>
                  <a:pt x="16056" y="18354"/>
                  <a:pt x="16187" y="18277"/>
                  <a:pt x="16321" y="18207"/>
                </a:cubicBezTo>
                <a:cubicBezTo>
                  <a:pt x="16362" y="18187"/>
                  <a:pt x="16368" y="18178"/>
                  <a:pt x="16396" y="18182"/>
                </a:cubicBezTo>
                <a:cubicBezTo>
                  <a:pt x="16278" y="18221"/>
                  <a:pt x="16184" y="18322"/>
                  <a:pt x="16073" y="18380"/>
                </a:cubicBezTo>
                <a:cubicBezTo>
                  <a:pt x="15963" y="18424"/>
                  <a:pt x="15934" y="18433"/>
                  <a:pt x="15875" y="18479"/>
                </a:cubicBezTo>
                <a:cubicBezTo>
                  <a:pt x="15769" y="18543"/>
                  <a:pt x="15986" y="18407"/>
                  <a:pt x="16098" y="18355"/>
                </a:cubicBezTo>
                <a:cubicBezTo>
                  <a:pt x="16216" y="18300"/>
                  <a:pt x="16330" y="18243"/>
                  <a:pt x="16446" y="18182"/>
                </a:cubicBezTo>
                <a:cubicBezTo>
                  <a:pt x="16535" y="18167"/>
                  <a:pt x="16488" y="18159"/>
                  <a:pt x="16446" y="18182"/>
                </a:cubicBezTo>
                <a:cubicBezTo>
                  <a:pt x="16299" y="18263"/>
                  <a:pt x="16174" y="18334"/>
                  <a:pt x="16024" y="18405"/>
                </a:cubicBezTo>
                <a:cubicBezTo>
                  <a:pt x="15941" y="18447"/>
                  <a:pt x="15925" y="18455"/>
                  <a:pt x="15875" y="18479"/>
                </a:cubicBezTo>
                <a:cubicBezTo>
                  <a:pt x="15821" y="18479"/>
                  <a:pt x="16015" y="18384"/>
                  <a:pt x="16024" y="18380"/>
                </a:cubicBezTo>
                <a:cubicBezTo>
                  <a:pt x="16114" y="18336"/>
                  <a:pt x="16232" y="18254"/>
                  <a:pt x="16321" y="18231"/>
                </a:cubicBezTo>
              </a:path>
              <a:path w="4465" h="1712">
                <a:moveTo>
                  <a:pt x="15776" y="18132"/>
                </a:moveTo>
                <a:cubicBezTo>
                  <a:pt x="15814" y="18074"/>
                  <a:pt x="15953" y="18119"/>
                  <a:pt x="16024" y="18132"/>
                </a:cubicBezTo>
                <a:cubicBezTo>
                  <a:pt x="16179" y="18161"/>
                  <a:pt x="16334" y="18248"/>
                  <a:pt x="16470" y="18331"/>
                </a:cubicBezTo>
                <a:cubicBezTo>
                  <a:pt x="16530" y="18368"/>
                  <a:pt x="16510" y="18380"/>
                  <a:pt x="16421" y="18331"/>
                </a:cubicBezTo>
                <a:cubicBezTo>
                  <a:pt x="16249" y="18288"/>
                  <a:pt x="16153" y="18219"/>
                  <a:pt x="15999" y="18132"/>
                </a:cubicBezTo>
                <a:cubicBezTo>
                  <a:pt x="15962" y="18111"/>
                  <a:pt x="15827" y="18082"/>
                  <a:pt x="15900" y="18058"/>
                </a:cubicBezTo>
                <a:cubicBezTo>
                  <a:pt x="16025" y="18183"/>
                  <a:pt x="16157" y="18274"/>
                  <a:pt x="16297" y="18380"/>
                </a:cubicBezTo>
                <a:cubicBezTo>
                  <a:pt x="16355" y="18424"/>
                  <a:pt x="16397" y="18456"/>
                  <a:pt x="16446" y="18504"/>
                </a:cubicBezTo>
                <a:cubicBezTo>
                  <a:pt x="16305" y="18377"/>
                  <a:pt x="16159" y="18260"/>
                  <a:pt x="15999" y="18157"/>
                </a:cubicBezTo>
                <a:cubicBezTo>
                  <a:pt x="15926" y="18110"/>
                  <a:pt x="15790" y="18044"/>
                  <a:pt x="15850" y="18107"/>
                </a:cubicBezTo>
                <a:cubicBezTo>
                  <a:pt x="15995" y="18259"/>
                  <a:pt x="16181" y="18373"/>
                  <a:pt x="16346" y="18504"/>
                </a:cubicBezTo>
                <a:cubicBezTo>
                  <a:pt x="16387" y="18529"/>
                  <a:pt x="16468" y="18554"/>
                  <a:pt x="16421" y="18554"/>
                </a:cubicBezTo>
                <a:cubicBezTo>
                  <a:pt x="16279" y="18422"/>
                  <a:pt x="16140" y="18312"/>
                  <a:pt x="15949" y="18256"/>
                </a:cubicBezTo>
                <a:cubicBezTo>
                  <a:pt x="15815" y="18217"/>
                  <a:pt x="16091" y="18326"/>
                  <a:pt x="16098" y="18331"/>
                </a:cubicBezTo>
                <a:cubicBezTo>
                  <a:pt x="16143" y="18364"/>
                  <a:pt x="16206" y="18450"/>
                  <a:pt x="16247" y="18455"/>
                </a:cubicBezTo>
                <a:cubicBezTo>
                  <a:pt x="16255" y="18455"/>
                  <a:pt x="16264" y="18455"/>
                  <a:pt x="16272" y="18455"/>
                </a:cubicBezTo>
              </a:path>
              <a:path w="4465" h="1712">
                <a:moveTo>
                  <a:pt x="15825" y="18455"/>
                </a:moveTo>
                <a:cubicBezTo>
                  <a:pt x="15993" y="18380"/>
                  <a:pt x="16158" y="18316"/>
                  <a:pt x="16321" y="18231"/>
                </a:cubicBezTo>
                <a:cubicBezTo>
                  <a:pt x="16383" y="18199"/>
                  <a:pt x="16463" y="18175"/>
                  <a:pt x="16495" y="18132"/>
                </a:cubicBezTo>
                <a:cubicBezTo>
                  <a:pt x="16449" y="18250"/>
                  <a:pt x="16282" y="18299"/>
                  <a:pt x="16173" y="18355"/>
                </a:cubicBezTo>
                <a:cubicBezTo>
                  <a:pt x="16048" y="18419"/>
                  <a:pt x="15923" y="18464"/>
                  <a:pt x="15801" y="18529"/>
                </a:cubicBezTo>
                <a:cubicBezTo>
                  <a:pt x="15683" y="18529"/>
                  <a:pt x="15948" y="18416"/>
                  <a:pt x="16049" y="18355"/>
                </a:cubicBezTo>
                <a:cubicBezTo>
                  <a:pt x="16204" y="18261"/>
                  <a:pt x="16349" y="18165"/>
                  <a:pt x="16495" y="18058"/>
                </a:cubicBezTo>
                <a:cubicBezTo>
                  <a:pt x="16526" y="18027"/>
                  <a:pt x="16601" y="17931"/>
                  <a:pt x="16520" y="18008"/>
                </a:cubicBezTo>
                <a:cubicBezTo>
                  <a:pt x="16358" y="18163"/>
                  <a:pt x="16142" y="18286"/>
                  <a:pt x="15949" y="18405"/>
                </a:cubicBezTo>
                <a:cubicBezTo>
                  <a:pt x="15892" y="18440"/>
                  <a:pt x="15965" y="18387"/>
                  <a:pt x="16024" y="18355"/>
                </a:cubicBezTo>
                <a:cubicBezTo>
                  <a:pt x="16181" y="18266"/>
                  <a:pt x="16381" y="18092"/>
                  <a:pt x="16545" y="18033"/>
                </a:cubicBezTo>
                <a:cubicBezTo>
                  <a:pt x="16545" y="18041"/>
                  <a:pt x="16545" y="18050"/>
                  <a:pt x="16545" y="18058"/>
                </a:cubicBezTo>
              </a:path>
              <a:path w="4465" h="1712">
                <a:moveTo>
                  <a:pt x="15751" y="18579"/>
                </a:moveTo>
                <a:cubicBezTo>
                  <a:pt x="15858" y="18561"/>
                  <a:pt x="15923" y="18492"/>
                  <a:pt x="16024" y="18455"/>
                </a:cubicBezTo>
                <a:cubicBezTo>
                  <a:pt x="16156" y="18406"/>
                  <a:pt x="16290" y="18378"/>
                  <a:pt x="16421" y="18331"/>
                </a:cubicBezTo>
                <a:cubicBezTo>
                  <a:pt x="16500" y="18303"/>
                  <a:pt x="16570" y="18236"/>
                  <a:pt x="16644" y="18207"/>
                </a:cubicBezTo>
                <a:cubicBezTo>
                  <a:pt x="16669" y="18207"/>
                  <a:pt x="16677" y="18207"/>
                  <a:pt x="16694" y="18207"/>
                </a:cubicBezTo>
                <a:cubicBezTo>
                  <a:pt x="16544" y="18225"/>
                  <a:pt x="16457" y="18285"/>
                  <a:pt x="16321" y="18355"/>
                </a:cubicBezTo>
                <a:cubicBezTo>
                  <a:pt x="16210" y="18412"/>
                  <a:pt x="16047" y="18429"/>
                  <a:pt x="15949" y="18504"/>
                </a:cubicBezTo>
                <a:cubicBezTo>
                  <a:pt x="15887" y="18551"/>
                  <a:pt x="15983" y="18504"/>
                  <a:pt x="16024" y="18479"/>
                </a:cubicBezTo>
                <a:cubicBezTo>
                  <a:pt x="16188" y="18381"/>
                  <a:pt x="16339" y="18266"/>
                  <a:pt x="16495" y="18157"/>
                </a:cubicBezTo>
                <a:cubicBezTo>
                  <a:pt x="16565" y="18109"/>
                  <a:pt x="16595" y="18076"/>
                  <a:pt x="16669" y="18058"/>
                </a:cubicBezTo>
                <a:cubicBezTo>
                  <a:pt x="16446" y="18190"/>
                  <a:pt x="16206" y="18289"/>
                  <a:pt x="15974" y="18405"/>
                </a:cubicBezTo>
                <a:cubicBezTo>
                  <a:pt x="15940" y="18422"/>
                  <a:pt x="15723" y="18479"/>
                  <a:pt x="15776" y="18479"/>
                </a:cubicBezTo>
              </a:path>
              <a:path w="4465" h="1712">
                <a:moveTo>
                  <a:pt x="15354" y="18678"/>
                </a:moveTo>
                <a:cubicBezTo>
                  <a:pt x="15391" y="18678"/>
                  <a:pt x="15458" y="18694"/>
                  <a:pt x="15478" y="18653"/>
                </a:cubicBezTo>
                <a:cubicBezTo>
                  <a:pt x="15478" y="18645"/>
                  <a:pt x="15478" y="18636"/>
                  <a:pt x="15478" y="18628"/>
                </a:cubicBezTo>
              </a:path>
              <a:path w="4465" h="1712">
                <a:moveTo>
                  <a:pt x="15577" y="18628"/>
                </a:moveTo>
                <a:cubicBezTo>
                  <a:pt x="15638" y="18612"/>
                  <a:pt x="15666" y="18604"/>
                  <a:pt x="15726" y="18604"/>
                </a:cubicBezTo>
                <a:cubicBezTo>
                  <a:pt x="15726" y="18710"/>
                  <a:pt x="15686" y="18713"/>
                  <a:pt x="15652" y="18802"/>
                </a:cubicBezTo>
                <a:cubicBezTo>
                  <a:pt x="15652" y="18810"/>
                  <a:pt x="15652" y="18819"/>
                  <a:pt x="15652" y="18827"/>
                </a:cubicBezTo>
                <a:cubicBezTo>
                  <a:pt x="15724" y="18820"/>
                  <a:pt x="15789" y="18784"/>
                  <a:pt x="15850" y="18777"/>
                </a:cubicBezTo>
                <a:cubicBezTo>
                  <a:pt x="15858" y="18777"/>
                  <a:pt x="15867" y="18777"/>
                  <a:pt x="15875" y="18777"/>
                </a:cubicBezTo>
              </a:path>
              <a:path w="4465" h="1712">
                <a:moveTo>
                  <a:pt x="14610" y="18628"/>
                </a:moveTo>
                <a:cubicBezTo>
                  <a:pt x="14742" y="18628"/>
                  <a:pt x="14905" y="18634"/>
                  <a:pt x="15032" y="18653"/>
                </a:cubicBezTo>
                <a:cubicBezTo>
                  <a:pt x="15291" y="18692"/>
                  <a:pt x="15542" y="18796"/>
                  <a:pt x="15801" y="18827"/>
                </a:cubicBezTo>
                <a:cubicBezTo>
                  <a:pt x="15855" y="18833"/>
                  <a:pt x="15918" y="18827"/>
                  <a:pt x="15974" y="18827"/>
                </a:cubicBezTo>
              </a:path>
              <a:path w="4465" h="1712">
                <a:moveTo>
                  <a:pt x="14412" y="18579"/>
                </a:moveTo>
                <a:cubicBezTo>
                  <a:pt x="14412" y="18690"/>
                  <a:pt x="14402" y="18797"/>
                  <a:pt x="14436" y="18901"/>
                </a:cubicBezTo>
              </a:path>
              <a:path w="4465" h="1712">
                <a:moveTo>
                  <a:pt x="17735" y="17934"/>
                </a:moveTo>
                <a:cubicBezTo>
                  <a:pt x="17774" y="17904"/>
                  <a:pt x="17839" y="17876"/>
                  <a:pt x="17884" y="17859"/>
                </a:cubicBezTo>
                <a:cubicBezTo>
                  <a:pt x="17892" y="17859"/>
                  <a:pt x="17901" y="17859"/>
                  <a:pt x="17909" y="17859"/>
                </a:cubicBezTo>
              </a:path>
              <a:path w="4465" h="1712">
                <a:moveTo>
                  <a:pt x="18132" y="17810"/>
                </a:moveTo>
                <a:cubicBezTo>
                  <a:pt x="18255" y="17830"/>
                  <a:pt x="18128" y="17989"/>
                  <a:pt x="18083" y="18058"/>
                </a:cubicBezTo>
                <a:cubicBezTo>
                  <a:pt x="17924" y="18304"/>
                  <a:pt x="18195" y="18069"/>
                  <a:pt x="18281" y="18008"/>
                </a:cubicBezTo>
              </a:path>
              <a:path w="4465" h="1712">
                <a:moveTo>
                  <a:pt x="16818" y="18182"/>
                </a:moveTo>
                <a:cubicBezTo>
                  <a:pt x="17157" y="17987"/>
                  <a:pt x="17524" y="17950"/>
                  <a:pt x="17909" y="17884"/>
                </a:cubicBezTo>
                <a:cubicBezTo>
                  <a:pt x="18057" y="17859"/>
                  <a:pt x="18207" y="17833"/>
                  <a:pt x="18355" y="17810"/>
                </a:cubicBezTo>
              </a:path>
              <a:path w="4465" h="1712">
                <a:moveTo>
                  <a:pt x="16793" y="17239"/>
                </a:moveTo>
                <a:cubicBezTo>
                  <a:pt x="16801" y="17379"/>
                  <a:pt x="16810" y="17497"/>
                  <a:pt x="16793" y="17636"/>
                </a:cubicBezTo>
              </a:path>
              <a:path w="4465" h="1712">
                <a:moveTo>
                  <a:pt x="16991" y="17239"/>
                </a:moveTo>
                <a:cubicBezTo>
                  <a:pt x="17042" y="17189"/>
                  <a:pt x="17060" y="17173"/>
                  <a:pt x="17115" y="17190"/>
                </a:cubicBezTo>
                <a:cubicBezTo>
                  <a:pt x="17168" y="17312"/>
                  <a:pt x="17112" y="17437"/>
                  <a:pt x="17016" y="17537"/>
                </a:cubicBezTo>
                <a:cubicBezTo>
                  <a:pt x="16991" y="17554"/>
                  <a:pt x="16967" y="17570"/>
                  <a:pt x="16942" y="17587"/>
                </a:cubicBezTo>
                <a:cubicBezTo>
                  <a:pt x="17048" y="17617"/>
                  <a:pt x="17192" y="17553"/>
                  <a:pt x="17314" y="17537"/>
                </a:cubicBezTo>
                <a:cubicBezTo>
                  <a:pt x="17355" y="17537"/>
                  <a:pt x="17371" y="17529"/>
                  <a:pt x="17363" y="17562"/>
                </a:cubicBezTo>
              </a:path>
              <a:path w="4465" h="1712">
                <a:moveTo>
                  <a:pt x="15825" y="18132"/>
                </a:moveTo>
                <a:cubicBezTo>
                  <a:pt x="15759" y="18132"/>
                  <a:pt x="15987" y="18176"/>
                  <a:pt x="15999" y="18182"/>
                </a:cubicBezTo>
                <a:cubicBezTo>
                  <a:pt x="16154" y="18266"/>
                  <a:pt x="16307" y="18332"/>
                  <a:pt x="16470" y="18405"/>
                </a:cubicBezTo>
                <a:cubicBezTo>
                  <a:pt x="16510" y="18423"/>
                  <a:pt x="16649" y="18484"/>
                  <a:pt x="16669" y="18504"/>
                </a:cubicBezTo>
                <a:cubicBezTo>
                  <a:pt x="16669" y="18512"/>
                  <a:pt x="16669" y="18521"/>
                  <a:pt x="16669" y="18529"/>
                </a:cubicBezTo>
                <a:cubicBezTo>
                  <a:pt x="16653" y="18481"/>
                  <a:pt x="16526" y="18430"/>
                  <a:pt x="16470" y="18405"/>
                </a:cubicBezTo>
                <a:cubicBezTo>
                  <a:pt x="16305" y="18330"/>
                  <a:pt x="16158" y="18245"/>
                  <a:pt x="15999" y="18157"/>
                </a:cubicBezTo>
                <a:cubicBezTo>
                  <a:pt x="15926" y="18117"/>
                  <a:pt x="15851" y="18092"/>
                  <a:pt x="15776" y="18058"/>
                </a:cubicBezTo>
                <a:cubicBezTo>
                  <a:pt x="15718" y="17971"/>
                  <a:pt x="15925" y="18141"/>
                  <a:pt x="15949" y="18157"/>
                </a:cubicBezTo>
                <a:cubicBezTo>
                  <a:pt x="16133" y="18275"/>
                  <a:pt x="16306" y="18380"/>
                  <a:pt x="16495" y="18479"/>
                </a:cubicBezTo>
                <a:cubicBezTo>
                  <a:pt x="16553" y="18509"/>
                  <a:pt x="16675" y="18587"/>
                  <a:pt x="16619" y="18554"/>
                </a:cubicBezTo>
                <a:cubicBezTo>
                  <a:pt x="16594" y="18537"/>
                  <a:pt x="16570" y="18521"/>
                  <a:pt x="16545" y="18504"/>
                </a:cubicBezTo>
                <a:cubicBezTo>
                  <a:pt x="16351" y="18364"/>
                  <a:pt x="16153" y="18233"/>
                  <a:pt x="15949" y="18107"/>
                </a:cubicBezTo>
                <a:cubicBezTo>
                  <a:pt x="15835" y="18039"/>
                  <a:pt x="15803" y="18019"/>
                  <a:pt x="15726" y="17983"/>
                </a:cubicBezTo>
                <a:cubicBezTo>
                  <a:pt x="15683" y="17983"/>
                  <a:pt x="15821" y="18068"/>
                  <a:pt x="15850" y="18083"/>
                </a:cubicBezTo>
                <a:cubicBezTo>
                  <a:pt x="16062" y="18193"/>
                  <a:pt x="16295" y="18297"/>
                  <a:pt x="16495" y="18430"/>
                </a:cubicBezTo>
                <a:cubicBezTo>
                  <a:pt x="16564" y="18476"/>
                  <a:pt x="16528" y="18479"/>
                  <a:pt x="16594" y="18479"/>
                </a:cubicBezTo>
              </a:path>
              <a:path w="4465" h="1712">
                <a:moveTo>
                  <a:pt x="18455" y="18157"/>
                </a:moveTo>
                <a:cubicBezTo>
                  <a:pt x="18556" y="18149"/>
                  <a:pt x="18651" y="18115"/>
                  <a:pt x="18752" y="18107"/>
                </a:cubicBezTo>
                <a:cubicBezTo>
                  <a:pt x="18777" y="18107"/>
                  <a:pt x="18785" y="18107"/>
                  <a:pt x="18802" y="18107"/>
                </a:cubicBezTo>
              </a:path>
              <a:path w="4465" h="1712">
                <a:moveTo>
                  <a:pt x="18529" y="18355"/>
                </a:moveTo>
                <a:cubicBezTo>
                  <a:pt x="18626" y="18355"/>
                  <a:pt x="18709" y="18346"/>
                  <a:pt x="18802" y="18331"/>
                </a:cubicBezTo>
                <a:cubicBezTo>
                  <a:pt x="18833" y="18326"/>
                  <a:pt x="18846" y="18314"/>
                  <a:pt x="18876" y="183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616960" y="5527800"/>
            <a:ext cx="63360" cy="17280"/>
          </a:xfrm>
          <a:custGeom>
            <a:avLst/>
            <a:gdLst/>
            <a:ahLst/>
            <a:rect l="l" t="t" r="r" b="b"/>
            <a:pathLst>
              <a:path w="174" h="51">
                <a:moveTo>
                  <a:pt x="23937" y="15404"/>
                </a:moveTo>
                <a:cubicBezTo>
                  <a:pt x="23996" y="15374"/>
                  <a:pt x="24086" y="15371"/>
                  <a:pt x="24085" y="153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420040" y="5322960"/>
            <a:ext cx="706320" cy="1116000"/>
          </a:xfrm>
          <a:custGeom>
            <a:avLst/>
            <a:gdLst/>
            <a:ahLst/>
            <a:rect l="l" t="t" r="r" b="b"/>
            <a:pathLst>
              <a:path w="1960" h="3101">
                <a:moveTo>
                  <a:pt x="23837" y="15602"/>
                </a:moveTo>
                <a:cubicBezTo>
                  <a:pt x="23882" y="15610"/>
                  <a:pt x="24118" y="15591"/>
                  <a:pt x="24135" y="15602"/>
                </a:cubicBezTo>
                <a:cubicBezTo>
                  <a:pt x="24135" y="15610"/>
                  <a:pt x="24135" y="15619"/>
                  <a:pt x="24135" y="15627"/>
                </a:cubicBezTo>
              </a:path>
              <a:path w="1960" h="3101">
                <a:moveTo>
                  <a:pt x="24606" y="15825"/>
                </a:moveTo>
                <a:cubicBezTo>
                  <a:pt x="24635" y="15797"/>
                  <a:pt x="24669" y="15762"/>
                  <a:pt x="24681" y="15726"/>
                </a:cubicBezTo>
                <a:cubicBezTo>
                  <a:pt x="24687" y="15707"/>
                  <a:pt x="24681" y="15672"/>
                  <a:pt x="24681" y="15652"/>
                </a:cubicBezTo>
                <a:cubicBezTo>
                  <a:pt x="24719" y="15665"/>
                  <a:pt x="24725" y="15830"/>
                  <a:pt x="24730" y="15875"/>
                </a:cubicBezTo>
                <a:cubicBezTo>
                  <a:pt x="24739" y="15956"/>
                  <a:pt x="24743" y="15937"/>
                  <a:pt x="24705" y="15925"/>
                </a:cubicBezTo>
              </a:path>
              <a:path w="1960" h="3101">
                <a:moveTo>
                  <a:pt x="24383" y="15528"/>
                </a:moveTo>
                <a:cubicBezTo>
                  <a:pt x="24403" y="15448"/>
                  <a:pt x="24506" y="15471"/>
                  <a:pt x="24581" y="15478"/>
                </a:cubicBezTo>
                <a:cubicBezTo>
                  <a:pt x="24791" y="15498"/>
                  <a:pt x="24991" y="15478"/>
                  <a:pt x="25202" y="15478"/>
                </a:cubicBezTo>
                <a:cubicBezTo>
                  <a:pt x="25243" y="15478"/>
                  <a:pt x="25251" y="15478"/>
                  <a:pt x="25276" y="15478"/>
                </a:cubicBezTo>
              </a:path>
              <a:path w="1960" h="3101">
                <a:moveTo>
                  <a:pt x="24581" y="14833"/>
                </a:moveTo>
                <a:cubicBezTo>
                  <a:pt x="24581" y="14734"/>
                  <a:pt x="24581" y="14982"/>
                  <a:pt x="24581" y="15081"/>
                </a:cubicBezTo>
                <a:cubicBezTo>
                  <a:pt x="24581" y="15131"/>
                  <a:pt x="24581" y="15180"/>
                  <a:pt x="24581" y="15230"/>
                </a:cubicBezTo>
                <a:cubicBezTo>
                  <a:pt x="24627" y="15215"/>
                  <a:pt x="24642" y="15149"/>
                  <a:pt x="24681" y="15081"/>
                </a:cubicBezTo>
              </a:path>
              <a:path w="1960" h="3101">
                <a:moveTo>
                  <a:pt x="24854" y="14808"/>
                </a:moveTo>
                <a:cubicBezTo>
                  <a:pt x="24896" y="14784"/>
                  <a:pt x="24976" y="14761"/>
                  <a:pt x="25028" y="14784"/>
                </a:cubicBezTo>
                <a:cubicBezTo>
                  <a:pt x="25169" y="14846"/>
                  <a:pt x="25032" y="14986"/>
                  <a:pt x="24978" y="15032"/>
                </a:cubicBezTo>
                <a:cubicBezTo>
                  <a:pt x="24913" y="15075"/>
                  <a:pt x="24893" y="15081"/>
                  <a:pt x="24879" y="15131"/>
                </a:cubicBezTo>
                <a:cubicBezTo>
                  <a:pt x="24970" y="15131"/>
                  <a:pt x="25061" y="15131"/>
                  <a:pt x="25152" y="15131"/>
                </a:cubicBezTo>
              </a:path>
              <a:path w="1960" h="3101">
                <a:moveTo>
                  <a:pt x="24408" y="15503"/>
                </a:moveTo>
                <a:cubicBezTo>
                  <a:pt x="24323" y="15503"/>
                  <a:pt x="24522" y="15462"/>
                  <a:pt x="24606" y="15453"/>
                </a:cubicBezTo>
                <a:cubicBezTo>
                  <a:pt x="24819" y="15430"/>
                  <a:pt x="25050" y="15465"/>
                  <a:pt x="25251" y="15429"/>
                </a:cubicBezTo>
                <a:cubicBezTo>
                  <a:pt x="25280" y="15424"/>
                  <a:pt x="25320" y="15429"/>
                  <a:pt x="25350" y="15429"/>
                </a:cubicBezTo>
              </a:path>
              <a:path w="1960" h="3101">
                <a:moveTo>
                  <a:pt x="24730" y="15850"/>
                </a:moveTo>
                <a:cubicBezTo>
                  <a:pt x="24740" y="15819"/>
                  <a:pt x="24755" y="15743"/>
                  <a:pt x="24755" y="15776"/>
                </a:cubicBezTo>
                <a:cubicBezTo>
                  <a:pt x="24755" y="15858"/>
                  <a:pt x="24768" y="15893"/>
                  <a:pt x="24755" y="15974"/>
                </a:cubicBezTo>
                <a:cubicBezTo>
                  <a:pt x="24755" y="15943"/>
                  <a:pt x="24729" y="15857"/>
                  <a:pt x="24730" y="15850"/>
                </a:cubicBezTo>
                <a:cubicBezTo>
                  <a:pt x="24739" y="15805"/>
                  <a:pt x="24730" y="15760"/>
                  <a:pt x="24730" y="15701"/>
                </a:cubicBezTo>
                <a:cubicBezTo>
                  <a:pt x="24730" y="15718"/>
                  <a:pt x="24730" y="16025"/>
                  <a:pt x="24730" y="15949"/>
                </a:cubicBezTo>
                <a:cubicBezTo>
                  <a:pt x="24730" y="15941"/>
                  <a:pt x="24730" y="15933"/>
                  <a:pt x="24730" y="15925"/>
                </a:cubicBezTo>
                <a:cubicBezTo>
                  <a:pt x="24703" y="15827"/>
                  <a:pt x="24698" y="15773"/>
                  <a:pt x="24730" y="15677"/>
                </a:cubicBezTo>
                <a:cubicBezTo>
                  <a:pt x="24766" y="15604"/>
                  <a:pt x="24730" y="15859"/>
                  <a:pt x="24730" y="15875"/>
                </a:cubicBezTo>
                <a:cubicBezTo>
                  <a:pt x="24726" y="16031"/>
                  <a:pt x="24712" y="15996"/>
                  <a:pt x="24755" y="15925"/>
                </a:cubicBezTo>
              </a:path>
              <a:path w="1960" h="3101">
                <a:moveTo>
                  <a:pt x="25177" y="15701"/>
                </a:moveTo>
                <a:cubicBezTo>
                  <a:pt x="25210" y="15669"/>
                  <a:pt x="25284" y="15677"/>
                  <a:pt x="25350" y="15677"/>
                </a:cubicBezTo>
              </a:path>
              <a:path w="1960" h="3101">
                <a:moveTo>
                  <a:pt x="25127" y="15875"/>
                </a:moveTo>
                <a:cubicBezTo>
                  <a:pt x="25193" y="15875"/>
                  <a:pt x="25260" y="15875"/>
                  <a:pt x="25326" y="15875"/>
                </a:cubicBezTo>
              </a:path>
              <a:path w="1960" h="3101">
                <a:moveTo>
                  <a:pt x="23837" y="16694"/>
                </a:moveTo>
                <a:cubicBezTo>
                  <a:pt x="23913" y="16744"/>
                  <a:pt x="23878" y="17000"/>
                  <a:pt x="23887" y="17090"/>
                </a:cubicBezTo>
                <a:cubicBezTo>
                  <a:pt x="23894" y="17157"/>
                  <a:pt x="23856" y="17407"/>
                  <a:pt x="23912" y="17239"/>
                </a:cubicBezTo>
              </a:path>
              <a:path w="1960" h="3101">
                <a:moveTo>
                  <a:pt x="24234" y="16718"/>
                </a:moveTo>
                <a:cubicBezTo>
                  <a:pt x="24290" y="16681"/>
                  <a:pt x="24387" y="16608"/>
                  <a:pt x="24457" y="16619"/>
                </a:cubicBezTo>
                <a:cubicBezTo>
                  <a:pt x="24599" y="16642"/>
                  <a:pt x="24494" y="16858"/>
                  <a:pt x="24457" y="16917"/>
                </a:cubicBezTo>
                <a:cubicBezTo>
                  <a:pt x="24370" y="17056"/>
                  <a:pt x="24247" y="17181"/>
                  <a:pt x="24160" y="17314"/>
                </a:cubicBezTo>
                <a:cubicBezTo>
                  <a:pt x="24137" y="17349"/>
                  <a:pt x="24140" y="17353"/>
                  <a:pt x="24110" y="17363"/>
                </a:cubicBezTo>
                <a:cubicBezTo>
                  <a:pt x="24179" y="17346"/>
                  <a:pt x="24229" y="17279"/>
                  <a:pt x="24309" y="17264"/>
                </a:cubicBezTo>
                <a:cubicBezTo>
                  <a:pt x="24381" y="17251"/>
                  <a:pt x="24470" y="17267"/>
                  <a:pt x="24532" y="17289"/>
                </a:cubicBezTo>
                <a:cubicBezTo>
                  <a:pt x="24580" y="17306"/>
                  <a:pt x="24614" y="17340"/>
                  <a:pt x="24631" y="17289"/>
                </a:cubicBezTo>
              </a:path>
              <a:path w="1960" h="3101">
                <a:moveTo>
                  <a:pt x="23713" y="17686"/>
                </a:moveTo>
                <a:cubicBezTo>
                  <a:pt x="23846" y="17765"/>
                  <a:pt x="23961" y="17811"/>
                  <a:pt x="24110" y="17859"/>
                </a:cubicBezTo>
                <a:cubicBezTo>
                  <a:pt x="24240" y="17901"/>
                  <a:pt x="24361" y="17816"/>
                  <a:pt x="24482" y="17760"/>
                </a:cubicBezTo>
                <a:cubicBezTo>
                  <a:pt x="24624" y="17695"/>
                  <a:pt x="24785" y="17614"/>
                  <a:pt x="24904" y="17512"/>
                </a:cubicBezTo>
                <a:cubicBezTo>
                  <a:pt x="25061" y="17377"/>
                  <a:pt x="25200" y="17174"/>
                  <a:pt x="25226" y="16966"/>
                </a:cubicBezTo>
                <a:cubicBezTo>
                  <a:pt x="25235" y="16896"/>
                  <a:pt x="25227" y="16677"/>
                  <a:pt x="25177" y="16619"/>
                </a:cubicBezTo>
                <a:cubicBezTo>
                  <a:pt x="25112" y="16543"/>
                  <a:pt x="25004" y="16510"/>
                  <a:pt x="24929" y="16446"/>
                </a:cubicBezTo>
                <a:cubicBezTo>
                  <a:pt x="24827" y="16359"/>
                  <a:pt x="24732" y="16322"/>
                  <a:pt x="24606" y="16272"/>
                </a:cubicBezTo>
                <a:cubicBezTo>
                  <a:pt x="24430" y="16202"/>
                  <a:pt x="24317" y="16235"/>
                  <a:pt x="24135" y="16247"/>
                </a:cubicBezTo>
                <a:cubicBezTo>
                  <a:pt x="24023" y="16255"/>
                  <a:pt x="23916" y="16267"/>
                  <a:pt x="23812" y="16321"/>
                </a:cubicBezTo>
                <a:cubicBezTo>
                  <a:pt x="23607" y="16427"/>
                  <a:pt x="23414" y="16634"/>
                  <a:pt x="23391" y="16867"/>
                </a:cubicBezTo>
                <a:cubicBezTo>
                  <a:pt x="23373" y="17055"/>
                  <a:pt x="23418" y="17266"/>
                  <a:pt x="23490" y="17438"/>
                </a:cubicBezTo>
                <a:cubicBezTo>
                  <a:pt x="23535" y="17545"/>
                  <a:pt x="23646" y="17675"/>
                  <a:pt x="23763" y="17711"/>
                </a:cubicBezTo>
                <a:cubicBezTo>
                  <a:pt x="23816" y="17727"/>
                  <a:pt x="24180" y="17735"/>
                  <a:pt x="23937" y="17735"/>
                </a:cubicBezTo>
                <a:cubicBezTo>
                  <a:pt x="23879" y="17735"/>
                  <a:pt x="23854" y="17735"/>
                  <a:pt x="23812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42160" y="5205240"/>
            <a:ext cx="17640" cy="268560"/>
          </a:xfrm>
          <a:custGeom>
            <a:avLst/>
            <a:gdLst/>
            <a:ahLst/>
            <a:rect l="l" t="t" r="r" b="b"/>
            <a:pathLst>
              <a:path w="50" h="745">
                <a:moveTo>
                  <a:pt x="21506" y="14461"/>
                </a:moveTo>
                <a:cubicBezTo>
                  <a:pt x="21539" y="14633"/>
                  <a:pt x="21547" y="14747"/>
                  <a:pt x="21530" y="14932"/>
                </a:cubicBezTo>
                <a:cubicBezTo>
                  <a:pt x="21511" y="15089"/>
                  <a:pt x="21503" y="15113"/>
                  <a:pt x="21506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16880" y="5510160"/>
            <a:ext cx="277920" cy="27000"/>
          </a:xfrm>
          <a:custGeom>
            <a:avLst/>
            <a:gdLst/>
            <a:ahLst/>
            <a:rect l="l" t="t" r="r" b="b"/>
            <a:pathLst>
              <a:path w="770" h="76">
                <a:moveTo>
                  <a:pt x="21158" y="15379"/>
                </a:moveTo>
                <a:cubicBezTo>
                  <a:pt x="21397" y="15353"/>
                  <a:pt x="21638" y="15314"/>
                  <a:pt x="21878" y="15304"/>
                </a:cubicBezTo>
                <a:cubicBezTo>
                  <a:pt x="21906" y="15304"/>
                  <a:pt x="21917" y="15306"/>
                  <a:pt x="21927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769160" y="5599080"/>
            <a:ext cx="17640" cy="196920"/>
          </a:xfrm>
          <a:custGeom>
            <a:avLst/>
            <a:gdLst/>
            <a:ahLst/>
            <a:rect l="l" t="t" r="r" b="b"/>
            <a:pathLst>
              <a:path w="51" h="546">
                <a:moveTo>
                  <a:pt x="21630" y="15553"/>
                </a:moveTo>
                <a:cubicBezTo>
                  <a:pt x="21579" y="15669"/>
                  <a:pt x="21583" y="15839"/>
                  <a:pt x="21580" y="15974"/>
                </a:cubicBezTo>
                <a:cubicBezTo>
                  <a:pt x="21579" y="16015"/>
                  <a:pt x="21580" y="16057"/>
                  <a:pt x="21580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01000" y="5500800"/>
            <a:ext cx="115920" cy="14292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22225" y="15280"/>
                </a:moveTo>
                <a:cubicBezTo>
                  <a:pt x="22329" y="15372"/>
                  <a:pt x="22447" y="15524"/>
                  <a:pt x="22523" y="15652"/>
                </a:cubicBezTo>
                <a:cubicBezTo>
                  <a:pt x="22538" y="15678"/>
                  <a:pt x="22533" y="15696"/>
                  <a:pt x="22547" y="156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74000" y="5464080"/>
            <a:ext cx="142920" cy="233280"/>
          </a:xfrm>
          <a:custGeom>
            <a:avLst/>
            <a:gdLst/>
            <a:ahLst/>
            <a:rect l="l" t="t" r="r" b="b"/>
            <a:pathLst>
              <a:path w="397" h="646">
                <a:moveTo>
                  <a:pt x="22547" y="15180"/>
                </a:moveTo>
                <a:cubicBezTo>
                  <a:pt x="22436" y="15417"/>
                  <a:pt x="22288" y="15602"/>
                  <a:pt x="22151" y="15825"/>
                </a:cubicBezTo>
                <a:cubicBezTo>
                  <a:pt x="22159" y="15817"/>
                  <a:pt x="22167" y="15809"/>
                  <a:pt x="22175" y="158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24920" y="5268960"/>
            <a:ext cx="7920" cy="214200"/>
          </a:xfrm>
          <a:custGeom>
            <a:avLst/>
            <a:gdLst/>
            <a:ahLst/>
            <a:rect l="l" t="t" r="r" b="b"/>
            <a:pathLst>
              <a:path w="26" h="596">
                <a:moveTo>
                  <a:pt x="22845" y="14635"/>
                </a:moveTo>
                <a:cubicBezTo>
                  <a:pt x="22872" y="14768"/>
                  <a:pt x="22883" y="14915"/>
                  <a:pt x="22870" y="15056"/>
                </a:cubicBezTo>
                <a:cubicBezTo>
                  <a:pt x="22863" y="15131"/>
                  <a:pt x="22845" y="15255"/>
                  <a:pt x="22845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77120" y="5259240"/>
            <a:ext cx="169920" cy="206640"/>
          </a:xfrm>
          <a:custGeom>
            <a:avLst/>
            <a:gdLst/>
            <a:ahLst/>
            <a:rect l="l" t="t" r="r" b="b"/>
            <a:pathLst>
              <a:path w="472" h="571">
                <a:moveTo>
                  <a:pt x="22994" y="14635"/>
                </a:moveTo>
                <a:cubicBezTo>
                  <a:pt x="23083" y="14627"/>
                  <a:pt x="23294" y="14556"/>
                  <a:pt x="23316" y="14709"/>
                </a:cubicBezTo>
                <a:cubicBezTo>
                  <a:pt x="23339" y="14868"/>
                  <a:pt x="23128" y="15038"/>
                  <a:pt x="23044" y="15156"/>
                </a:cubicBezTo>
                <a:cubicBezTo>
                  <a:pt x="23171" y="15178"/>
                  <a:pt x="23304" y="15137"/>
                  <a:pt x="23440" y="15131"/>
                </a:cubicBezTo>
                <a:cubicBezTo>
                  <a:pt x="23448" y="15131"/>
                  <a:pt x="23457" y="15131"/>
                  <a:pt x="23465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97920" y="5554800"/>
            <a:ext cx="258840" cy="27000"/>
          </a:xfrm>
          <a:custGeom>
            <a:avLst/>
            <a:gdLst/>
            <a:ahLst/>
            <a:rect l="l" t="t" r="r" b="b"/>
            <a:pathLst>
              <a:path w="720" h="75">
                <a:moveTo>
                  <a:pt x="22771" y="15503"/>
                </a:moveTo>
                <a:cubicBezTo>
                  <a:pt x="22962" y="15484"/>
                  <a:pt x="23151" y="15481"/>
                  <a:pt x="23341" y="15453"/>
                </a:cubicBezTo>
                <a:cubicBezTo>
                  <a:pt x="23490" y="15431"/>
                  <a:pt x="23492" y="15383"/>
                  <a:pt x="23465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31120" y="5653080"/>
            <a:ext cx="19080" cy="125280"/>
          </a:xfrm>
          <a:custGeom>
            <a:avLst/>
            <a:gdLst/>
            <a:ahLst/>
            <a:rect l="l" t="t" r="r" b="b"/>
            <a:pathLst>
              <a:path w="50" h="349">
                <a:moveTo>
                  <a:pt x="23143" y="15701"/>
                </a:moveTo>
                <a:cubicBezTo>
                  <a:pt x="23143" y="15780"/>
                  <a:pt x="23136" y="16037"/>
                  <a:pt x="23143" y="16024"/>
                </a:cubicBezTo>
                <a:cubicBezTo>
                  <a:pt x="23159" y="15999"/>
                  <a:pt x="23176" y="15974"/>
                  <a:pt x="23192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Students will multiply fractions using models and equa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solve the problem by dividing by 2 or multiplying by 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½ of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7680" y="3770280"/>
            <a:ext cx="82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 the steps to multiply fr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3680" y="5599080"/>
            <a:ext cx="60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only multiply fractions by 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5280" y="2178000"/>
            <a:ext cx="241560" cy="250920"/>
          </a:xfrm>
          <a:custGeom>
            <a:avLst/>
            <a:gdLst/>
            <a:ahLst/>
            <a:rect l="l" t="t" r="r" b="b"/>
            <a:pathLst>
              <a:path w="671" h="696">
                <a:moveTo>
                  <a:pt x="670" y="6127"/>
                </a:moveTo>
                <a:cubicBezTo>
                  <a:pt x="670" y="6044"/>
                  <a:pt x="695" y="6459"/>
                  <a:pt x="695" y="6474"/>
                </a:cubicBezTo>
                <a:cubicBezTo>
                  <a:pt x="697" y="6565"/>
                  <a:pt x="695" y="6656"/>
                  <a:pt x="695" y="6747"/>
                </a:cubicBezTo>
              </a:path>
              <a:path w="671" h="696">
                <a:moveTo>
                  <a:pt x="372" y="6499"/>
                </a:moveTo>
                <a:cubicBezTo>
                  <a:pt x="490" y="6499"/>
                  <a:pt x="629" y="6425"/>
                  <a:pt x="744" y="6400"/>
                </a:cubicBezTo>
                <a:cubicBezTo>
                  <a:pt x="830" y="6381"/>
                  <a:pt x="930" y="6363"/>
                  <a:pt x="1017" y="6350"/>
                </a:cubicBezTo>
              </a:path>
              <a:path w="671" h="696">
                <a:moveTo>
                  <a:pt x="943" y="6052"/>
                </a:moveTo>
                <a:cubicBezTo>
                  <a:pt x="895" y="6226"/>
                  <a:pt x="771" y="6417"/>
                  <a:pt x="670" y="6573"/>
                </a:cubicBezTo>
                <a:cubicBezTo>
                  <a:pt x="608" y="6668"/>
                  <a:pt x="613" y="6701"/>
                  <a:pt x="571" y="6672"/>
                </a:cubicBezTo>
              </a:path>
              <a:path w="671" h="696">
                <a:moveTo>
                  <a:pt x="347" y="6300"/>
                </a:moveTo>
                <a:cubicBezTo>
                  <a:pt x="498" y="6343"/>
                  <a:pt x="627" y="6454"/>
                  <a:pt x="769" y="6524"/>
                </a:cubicBezTo>
                <a:cubicBezTo>
                  <a:pt x="840" y="6559"/>
                  <a:pt x="942" y="6602"/>
                  <a:pt x="1017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94080" y="4037040"/>
            <a:ext cx="2660760" cy="249120"/>
          </a:xfrm>
          <a:custGeom>
            <a:avLst/>
            <a:gdLst/>
            <a:ahLst/>
            <a:rect l="l" t="t" r="r" b="b"/>
            <a:pathLst>
              <a:path w="7393" h="695">
                <a:moveTo>
                  <a:pt x="9624" y="11534"/>
                </a:moveTo>
                <a:cubicBezTo>
                  <a:pt x="9586" y="11442"/>
                  <a:pt x="9585" y="11417"/>
                  <a:pt x="9500" y="11385"/>
                </a:cubicBezTo>
                <a:cubicBezTo>
                  <a:pt x="9397" y="11549"/>
                  <a:pt x="9432" y="11675"/>
                  <a:pt x="9500" y="11857"/>
                </a:cubicBezTo>
                <a:cubicBezTo>
                  <a:pt x="9508" y="11873"/>
                  <a:pt x="9517" y="11890"/>
                  <a:pt x="9525" y="11906"/>
                </a:cubicBezTo>
              </a:path>
              <a:path w="7393" h="695">
                <a:moveTo>
                  <a:pt x="15205" y="11708"/>
                </a:moveTo>
                <a:cubicBezTo>
                  <a:pt x="15130" y="11670"/>
                  <a:pt x="15058" y="11622"/>
                  <a:pt x="15106" y="11534"/>
                </a:cubicBezTo>
                <a:cubicBezTo>
                  <a:pt x="15161" y="11433"/>
                  <a:pt x="15321" y="11444"/>
                  <a:pt x="15404" y="11485"/>
                </a:cubicBezTo>
                <a:cubicBezTo>
                  <a:pt x="15412" y="11493"/>
                  <a:pt x="15421" y="11501"/>
                  <a:pt x="15429" y="11509"/>
                </a:cubicBezTo>
              </a:path>
              <a:path w="7393" h="695">
                <a:moveTo>
                  <a:pt x="16495" y="11212"/>
                </a:moveTo>
                <a:cubicBezTo>
                  <a:pt x="16522" y="11374"/>
                  <a:pt x="16558" y="11546"/>
                  <a:pt x="16594" y="11708"/>
                </a:cubicBezTo>
                <a:cubicBezTo>
                  <a:pt x="16613" y="11765"/>
                  <a:pt x="16622" y="11772"/>
                  <a:pt x="16619" y="11807"/>
                </a:cubicBezTo>
              </a:path>
              <a:path w="7393" h="695">
                <a:moveTo>
                  <a:pt x="16818" y="11311"/>
                </a:moveTo>
                <a:lnTo>
                  <a:pt x="16818" y="11311"/>
                </a:lnTo>
                <a:lnTo>
                  <a:pt x="16818" y="1131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7880" y="4143240"/>
            <a:ext cx="144360" cy="214560"/>
          </a:xfrm>
          <a:custGeom>
            <a:avLst/>
            <a:gdLst/>
            <a:ahLst/>
            <a:rect l="l" t="t" r="r" b="b"/>
            <a:pathLst>
              <a:path w="398" h="597">
                <a:moveTo>
                  <a:pt x="1910" y="11534"/>
                </a:moveTo>
                <a:cubicBezTo>
                  <a:pt x="1902" y="11526"/>
                  <a:pt x="1893" y="11517"/>
                  <a:pt x="1885" y="11509"/>
                </a:cubicBezTo>
                <a:cubicBezTo>
                  <a:pt x="1906" y="11656"/>
                  <a:pt x="1925" y="11807"/>
                  <a:pt x="1935" y="11956"/>
                </a:cubicBezTo>
                <a:cubicBezTo>
                  <a:pt x="1940" y="12032"/>
                  <a:pt x="1915" y="12075"/>
                  <a:pt x="1960" y="12105"/>
                </a:cubicBezTo>
              </a:path>
              <a:path w="398" h="597">
                <a:moveTo>
                  <a:pt x="2282" y="11956"/>
                </a:moveTo>
                <a:cubicBezTo>
                  <a:pt x="2282" y="11931"/>
                  <a:pt x="2282" y="11923"/>
                  <a:pt x="2282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35000" y="4125960"/>
            <a:ext cx="733320" cy="241200"/>
          </a:xfrm>
          <a:custGeom>
            <a:avLst/>
            <a:gdLst/>
            <a:ahLst/>
            <a:rect l="l" t="t" r="r" b="b"/>
            <a:pathLst>
              <a:path w="2035" h="670">
                <a:moveTo>
                  <a:pt x="2952" y="11881"/>
                </a:moveTo>
                <a:cubicBezTo>
                  <a:pt x="2898" y="11864"/>
                  <a:pt x="2935" y="11855"/>
                  <a:pt x="2902" y="12005"/>
                </a:cubicBezTo>
                <a:cubicBezTo>
                  <a:pt x="2883" y="12079"/>
                  <a:pt x="2875" y="12086"/>
                  <a:pt x="2877" y="12129"/>
                </a:cubicBezTo>
                <a:cubicBezTo>
                  <a:pt x="2893" y="11997"/>
                  <a:pt x="2907" y="11844"/>
                  <a:pt x="3051" y="11782"/>
                </a:cubicBezTo>
                <a:cubicBezTo>
                  <a:pt x="3194" y="11720"/>
                  <a:pt x="3216" y="11960"/>
                  <a:pt x="3225" y="12030"/>
                </a:cubicBezTo>
                <a:cubicBezTo>
                  <a:pt x="3225" y="12111"/>
                  <a:pt x="3216" y="12055"/>
                  <a:pt x="3225" y="12005"/>
                </a:cubicBezTo>
                <a:cubicBezTo>
                  <a:pt x="3250" y="11864"/>
                  <a:pt x="3319" y="11785"/>
                  <a:pt x="3448" y="11733"/>
                </a:cubicBezTo>
                <a:cubicBezTo>
                  <a:pt x="3598" y="11672"/>
                  <a:pt x="3629" y="11865"/>
                  <a:pt x="3646" y="11981"/>
                </a:cubicBezTo>
                <a:cubicBezTo>
                  <a:pt x="3646" y="12039"/>
                  <a:pt x="3646" y="12047"/>
                  <a:pt x="3646" y="12080"/>
                </a:cubicBezTo>
              </a:path>
              <a:path w="2035" h="670">
                <a:moveTo>
                  <a:pt x="4093" y="11832"/>
                </a:moveTo>
                <a:cubicBezTo>
                  <a:pt x="4076" y="11747"/>
                  <a:pt x="4019" y="11702"/>
                  <a:pt x="3919" y="11733"/>
                </a:cubicBezTo>
                <a:cubicBezTo>
                  <a:pt x="3787" y="11774"/>
                  <a:pt x="3813" y="11884"/>
                  <a:pt x="3820" y="11981"/>
                </a:cubicBezTo>
                <a:cubicBezTo>
                  <a:pt x="3948" y="11965"/>
                  <a:pt x="4022" y="11968"/>
                  <a:pt x="4068" y="11832"/>
                </a:cubicBezTo>
                <a:cubicBezTo>
                  <a:pt x="4111" y="11918"/>
                  <a:pt x="4115" y="11993"/>
                  <a:pt x="4192" y="12005"/>
                </a:cubicBezTo>
              </a:path>
              <a:path w="2035" h="670">
                <a:moveTo>
                  <a:pt x="4266" y="11460"/>
                </a:moveTo>
                <a:cubicBezTo>
                  <a:pt x="4289" y="11616"/>
                  <a:pt x="4290" y="11806"/>
                  <a:pt x="4341" y="11956"/>
                </a:cubicBezTo>
                <a:cubicBezTo>
                  <a:pt x="4341" y="11948"/>
                  <a:pt x="4341" y="11939"/>
                  <a:pt x="4341" y="11931"/>
                </a:cubicBezTo>
              </a:path>
              <a:path w="2035" h="670">
                <a:moveTo>
                  <a:pt x="4514" y="11708"/>
                </a:moveTo>
                <a:cubicBezTo>
                  <a:pt x="4465" y="11738"/>
                  <a:pt x="4333" y="11811"/>
                  <a:pt x="4366" y="11906"/>
                </a:cubicBezTo>
                <a:cubicBezTo>
                  <a:pt x="4403" y="12011"/>
                  <a:pt x="4588" y="12072"/>
                  <a:pt x="4688" y="12055"/>
                </a:cubicBezTo>
                <a:cubicBezTo>
                  <a:pt x="4732" y="12033"/>
                  <a:pt x="4743" y="12030"/>
                  <a:pt x="4762" y="12005"/>
                </a:cubicBezTo>
              </a:path>
              <a:path w="2035" h="670">
                <a:moveTo>
                  <a:pt x="4812" y="11956"/>
                </a:moveTo>
                <a:cubicBezTo>
                  <a:pt x="4865" y="11903"/>
                  <a:pt x="4936" y="11875"/>
                  <a:pt x="4887" y="11807"/>
                </a:cubicBezTo>
                <a:cubicBezTo>
                  <a:pt x="4809" y="11793"/>
                  <a:pt x="4619" y="11836"/>
                  <a:pt x="4713" y="11981"/>
                </a:cubicBezTo>
                <a:cubicBezTo>
                  <a:pt x="4794" y="12007"/>
                  <a:pt x="4826" y="12015"/>
                  <a:pt x="4887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17800" y="4197240"/>
            <a:ext cx="527040" cy="133560"/>
          </a:xfrm>
          <a:custGeom>
            <a:avLst/>
            <a:gdLst/>
            <a:ahLst/>
            <a:rect l="l" t="t" r="r" b="b"/>
            <a:pathLst>
              <a:path w="1464" h="373">
                <a:moveTo>
                  <a:pt x="5705" y="11683"/>
                </a:moveTo>
                <a:cubicBezTo>
                  <a:pt x="5632" y="11720"/>
                  <a:pt x="5599" y="11708"/>
                  <a:pt x="5606" y="11757"/>
                </a:cubicBezTo>
                <a:cubicBezTo>
                  <a:pt x="5670" y="11780"/>
                  <a:pt x="5939" y="11834"/>
                  <a:pt x="5854" y="11931"/>
                </a:cubicBezTo>
                <a:cubicBezTo>
                  <a:pt x="5753" y="12048"/>
                  <a:pt x="5591" y="12085"/>
                  <a:pt x="5655" y="11906"/>
                </a:cubicBezTo>
              </a:path>
              <a:path w="1464" h="373">
                <a:moveTo>
                  <a:pt x="6052" y="11658"/>
                </a:moveTo>
                <a:cubicBezTo>
                  <a:pt x="6052" y="11739"/>
                  <a:pt x="6017" y="11970"/>
                  <a:pt x="6127" y="12005"/>
                </a:cubicBezTo>
                <a:cubicBezTo>
                  <a:pt x="6286" y="12055"/>
                  <a:pt x="6264" y="11903"/>
                  <a:pt x="6276" y="11807"/>
                </a:cubicBezTo>
                <a:cubicBezTo>
                  <a:pt x="6194" y="11670"/>
                  <a:pt x="6297" y="11972"/>
                  <a:pt x="6300" y="11981"/>
                </a:cubicBezTo>
                <a:cubicBezTo>
                  <a:pt x="6352" y="12144"/>
                  <a:pt x="6458" y="11887"/>
                  <a:pt x="6474" y="11857"/>
                </a:cubicBezTo>
              </a:path>
              <a:path w="1464" h="373">
                <a:moveTo>
                  <a:pt x="6499" y="11881"/>
                </a:moveTo>
                <a:cubicBezTo>
                  <a:pt x="6518" y="11939"/>
                  <a:pt x="6527" y="11946"/>
                  <a:pt x="6524" y="11981"/>
                </a:cubicBezTo>
                <a:cubicBezTo>
                  <a:pt x="6524" y="11846"/>
                  <a:pt x="6523" y="11783"/>
                  <a:pt x="6672" y="11757"/>
                </a:cubicBezTo>
                <a:cubicBezTo>
                  <a:pt x="6776" y="11757"/>
                  <a:pt x="6812" y="11759"/>
                  <a:pt x="6871" y="11807"/>
                </a:cubicBezTo>
              </a:path>
              <a:path w="1464" h="373">
                <a:moveTo>
                  <a:pt x="6846" y="11857"/>
                </a:moveTo>
                <a:cubicBezTo>
                  <a:pt x="6904" y="11857"/>
                  <a:pt x="7004" y="11886"/>
                  <a:pt x="7020" y="11832"/>
                </a:cubicBezTo>
                <a:cubicBezTo>
                  <a:pt x="7020" y="11815"/>
                  <a:pt x="7020" y="11799"/>
                  <a:pt x="7020" y="11782"/>
                </a:cubicBezTo>
                <a:cubicBezTo>
                  <a:pt x="6977" y="11683"/>
                  <a:pt x="6885" y="11684"/>
                  <a:pt x="6846" y="11807"/>
                </a:cubicBezTo>
                <a:cubicBezTo>
                  <a:pt x="6772" y="12043"/>
                  <a:pt x="6895" y="12026"/>
                  <a:pt x="7069" y="119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13040" y="4152960"/>
            <a:ext cx="339840" cy="169920"/>
          </a:xfrm>
          <a:custGeom>
            <a:avLst/>
            <a:gdLst/>
            <a:ahLst/>
            <a:rect l="l" t="t" r="r" b="b"/>
            <a:pathLst>
              <a:path w="944" h="472">
                <a:moveTo>
                  <a:pt x="8210" y="11832"/>
                </a:moveTo>
                <a:cubicBezTo>
                  <a:pt x="8121" y="11802"/>
                  <a:pt x="8017" y="11708"/>
                  <a:pt x="7913" y="11782"/>
                </a:cubicBezTo>
                <a:cubicBezTo>
                  <a:pt x="7847" y="11869"/>
                  <a:pt x="7827" y="11888"/>
                  <a:pt x="7813" y="11956"/>
                </a:cubicBezTo>
                <a:cubicBezTo>
                  <a:pt x="7980" y="11984"/>
                  <a:pt x="7986" y="11893"/>
                  <a:pt x="8086" y="11857"/>
                </a:cubicBezTo>
                <a:cubicBezTo>
                  <a:pt x="8160" y="11830"/>
                  <a:pt x="8211" y="11960"/>
                  <a:pt x="8285" y="11931"/>
                </a:cubicBezTo>
                <a:cubicBezTo>
                  <a:pt x="8474" y="11856"/>
                  <a:pt x="8441" y="11687"/>
                  <a:pt x="8359" y="11559"/>
                </a:cubicBezTo>
                <a:cubicBezTo>
                  <a:pt x="8359" y="11690"/>
                  <a:pt x="8399" y="11813"/>
                  <a:pt x="8458" y="11931"/>
                </a:cubicBezTo>
                <a:cubicBezTo>
                  <a:pt x="8466" y="11939"/>
                  <a:pt x="8475" y="11948"/>
                  <a:pt x="8483" y="11956"/>
                </a:cubicBezTo>
              </a:path>
              <a:path w="944" h="472">
                <a:moveTo>
                  <a:pt x="8582" y="11534"/>
                </a:moveTo>
                <a:cubicBezTo>
                  <a:pt x="8616" y="11627"/>
                  <a:pt x="8655" y="11954"/>
                  <a:pt x="8731" y="12005"/>
                </a:cubicBezTo>
                <a:cubicBezTo>
                  <a:pt x="8739" y="11997"/>
                  <a:pt x="8748" y="11989"/>
                  <a:pt x="8756" y="119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21000" y="4116240"/>
            <a:ext cx="957240" cy="179640"/>
          </a:xfrm>
          <a:custGeom>
            <a:avLst/>
            <a:gdLst/>
            <a:ahLst/>
            <a:rect l="l" t="t" r="r" b="b"/>
            <a:pathLst>
              <a:path w="2655" h="497">
                <a:moveTo>
                  <a:pt x="9227" y="11733"/>
                </a:moveTo>
                <a:cubicBezTo>
                  <a:pt x="9417" y="11733"/>
                  <a:pt x="9608" y="11733"/>
                  <a:pt x="9798" y="11733"/>
                </a:cubicBezTo>
              </a:path>
              <a:path w="2655" h="497">
                <a:moveTo>
                  <a:pt x="9872" y="11683"/>
                </a:moveTo>
                <a:cubicBezTo>
                  <a:pt x="9744" y="11715"/>
                  <a:pt x="9746" y="11736"/>
                  <a:pt x="9674" y="11857"/>
                </a:cubicBezTo>
                <a:cubicBezTo>
                  <a:pt x="9805" y="11935"/>
                  <a:pt x="9850" y="11914"/>
                  <a:pt x="9922" y="11782"/>
                </a:cubicBezTo>
                <a:cubicBezTo>
                  <a:pt x="9972" y="11911"/>
                  <a:pt x="10037" y="11868"/>
                  <a:pt x="10145" y="11832"/>
                </a:cubicBezTo>
              </a:path>
              <a:path w="2655" h="497">
                <a:moveTo>
                  <a:pt x="10319" y="11633"/>
                </a:moveTo>
                <a:cubicBezTo>
                  <a:pt x="10188" y="11633"/>
                  <a:pt x="10176" y="11671"/>
                  <a:pt x="10120" y="11782"/>
                </a:cubicBezTo>
                <a:cubicBezTo>
                  <a:pt x="10310" y="11901"/>
                  <a:pt x="10322" y="11870"/>
                  <a:pt x="10542" y="11807"/>
                </a:cubicBezTo>
              </a:path>
              <a:path w="2655" h="497">
                <a:moveTo>
                  <a:pt x="10567" y="11435"/>
                </a:moveTo>
                <a:cubicBezTo>
                  <a:pt x="10600" y="11582"/>
                  <a:pt x="10625" y="11752"/>
                  <a:pt x="10691" y="11881"/>
                </a:cubicBezTo>
              </a:path>
              <a:path w="2655" h="497">
                <a:moveTo>
                  <a:pt x="10418" y="11609"/>
                </a:moveTo>
                <a:cubicBezTo>
                  <a:pt x="10568" y="11625"/>
                  <a:pt x="10712" y="11633"/>
                  <a:pt x="10864" y="11633"/>
                </a:cubicBezTo>
                <a:cubicBezTo>
                  <a:pt x="10834" y="11766"/>
                  <a:pt x="10798" y="11856"/>
                  <a:pt x="10964" y="11881"/>
                </a:cubicBezTo>
                <a:cubicBezTo>
                  <a:pt x="11107" y="11902"/>
                  <a:pt x="11191" y="11773"/>
                  <a:pt x="11088" y="11658"/>
                </a:cubicBezTo>
                <a:cubicBezTo>
                  <a:pt x="11001" y="11561"/>
                  <a:pt x="10963" y="11576"/>
                  <a:pt x="10864" y="11609"/>
                </a:cubicBezTo>
              </a:path>
              <a:path w="2655" h="497">
                <a:moveTo>
                  <a:pt x="11286" y="11807"/>
                </a:moveTo>
                <a:cubicBezTo>
                  <a:pt x="11318" y="11881"/>
                  <a:pt x="11301" y="11892"/>
                  <a:pt x="11311" y="11832"/>
                </a:cubicBezTo>
                <a:cubicBezTo>
                  <a:pt x="11334" y="11703"/>
                  <a:pt x="11370" y="11601"/>
                  <a:pt x="11485" y="11559"/>
                </a:cubicBezTo>
              </a:path>
              <a:path w="2655" h="497">
                <a:moveTo>
                  <a:pt x="11733" y="11534"/>
                </a:moveTo>
                <a:cubicBezTo>
                  <a:pt x="11674" y="11576"/>
                  <a:pt x="11616" y="11613"/>
                  <a:pt x="11559" y="11658"/>
                </a:cubicBezTo>
                <a:cubicBezTo>
                  <a:pt x="11676" y="11691"/>
                  <a:pt x="11775" y="11726"/>
                  <a:pt x="11881" y="11782"/>
                </a:cubicBezTo>
                <a:cubicBezTo>
                  <a:pt x="11771" y="11957"/>
                  <a:pt x="11688" y="11928"/>
                  <a:pt x="11509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4160880"/>
            <a:ext cx="401760" cy="125280"/>
          </a:xfrm>
          <a:custGeom>
            <a:avLst/>
            <a:gdLst/>
            <a:ahLst/>
            <a:rect l="l" t="t" r="r" b="b"/>
            <a:pathLst>
              <a:path w="1117" h="348">
                <a:moveTo>
                  <a:pt x="13022" y="11807"/>
                </a:moveTo>
                <a:cubicBezTo>
                  <a:pt x="12974" y="11746"/>
                  <a:pt x="12942" y="11673"/>
                  <a:pt x="12849" y="11683"/>
                </a:cubicBezTo>
                <a:cubicBezTo>
                  <a:pt x="12722" y="11696"/>
                  <a:pt x="12633" y="11919"/>
                  <a:pt x="12774" y="11906"/>
                </a:cubicBezTo>
                <a:cubicBezTo>
                  <a:pt x="12885" y="11862"/>
                  <a:pt x="12918" y="11858"/>
                  <a:pt x="12948" y="11782"/>
                </a:cubicBezTo>
                <a:cubicBezTo>
                  <a:pt x="12914" y="11850"/>
                  <a:pt x="13034" y="11860"/>
                  <a:pt x="13097" y="11832"/>
                </a:cubicBezTo>
                <a:cubicBezTo>
                  <a:pt x="13229" y="11773"/>
                  <a:pt x="13221" y="11622"/>
                  <a:pt x="13221" y="11832"/>
                </a:cubicBezTo>
                <a:cubicBezTo>
                  <a:pt x="13264" y="11818"/>
                  <a:pt x="13216" y="11701"/>
                  <a:pt x="13246" y="11633"/>
                </a:cubicBezTo>
                <a:cubicBezTo>
                  <a:pt x="13285" y="11546"/>
                  <a:pt x="13398" y="11564"/>
                  <a:pt x="13469" y="11559"/>
                </a:cubicBezTo>
              </a:path>
              <a:path w="1117" h="348">
                <a:moveTo>
                  <a:pt x="13543" y="11708"/>
                </a:moveTo>
                <a:cubicBezTo>
                  <a:pt x="13616" y="11697"/>
                  <a:pt x="13674" y="11705"/>
                  <a:pt x="13692" y="11633"/>
                </a:cubicBezTo>
                <a:cubicBezTo>
                  <a:pt x="13592" y="11600"/>
                  <a:pt x="13408" y="11660"/>
                  <a:pt x="13494" y="11832"/>
                </a:cubicBezTo>
                <a:cubicBezTo>
                  <a:pt x="13558" y="11960"/>
                  <a:pt x="13733" y="11877"/>
                  <a:pt x="13816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24320" y="4037040"/>
            <a:ext cx="1366920" cy="241200"/>
          </a:xfrm>
          <a:custGeom>
            <a:avLst/>
            <a:gdLst/>
            <a:ahLst/>
            <a:rect l="l" t="t" r="r" b="b"/>
            <a:pathLst>
              <a:path w="3796" h="670">
                <a:moveTo>
                  <a:pt x="14932" y="11460"/>
                </a:moveTo>
                <a:cubicBezTo>
                  <a:pt x="14947" y="11320"/>
                  <a:pt x="14885" y="11275"/>
                  <a:pt x="14759" y="11212"/>
                </a:cubicBezTo>
                <a:cubicBezTo>
                  <a:pt x="14652" y="11409"/>
                  <a:pt x="14696" y="11567"/>
                  <a:pt x="14759" y="11782"/>
                </a:cubicBezTo>
                <a:cubicBezTo>
                  <a:pt x="14776" y="11841"/>
                  <a:pt x="14815" y="11893"/>
                  <a:pt x="14759" y="11857"/>
                </a:cubicBezTo>
              </a:path>
              <a:path w="3796" h="670">
                <a:moveTo>
                  <a:pt x="14511" y="11609"/>
                </a:moveTo>
                <a:cubicBezTo>
                  <a:pt x="14598" y="11617"/>
                  <a:pt x="15055" y="11711"/>
                  <a:pt x="15106" y="11633"/>
                </a:cubicBezTo>
                <a:cubicBezTo>
                  <a:pt x="15156" y="11556"/>
                  <a:pt x="15131" y="11410"/>
                  <a:pt x="15131" y="11410"/>
                </a:cubicBezTo>
                <a:cubicBezTo>
                  <a:pt x="15141" y="11568"/>
                  <a:pt x="15150" y="11728"/>
                  <a:pt x="15180" y="11881"/>
                </a:cubicBezTo>
              </a:path>
              <a:path w="3796" h="670">
                <a:moveTo>
                  <a:pt x="15677" y="11609"/>
                </a:moveTo>
                <a:cubicBezTo>
                  <a:pt x="15660" y="11524"/>
                  <a:pt x="15580" y="11485"/>
                  <a:pt x="15503" y="11584"/>
                </a:cubicBezTo>
                <a:cubicBezTo>
                  <a:pt x="15460" y="11691"/>
                  <a:pt x="15437" y="11715"/>
                  <a:pt x="15478" y="11782"/>
                </a:cubicBezTo>
                <a:cubicBezTo>
                  <a:pt x="15638" y="11765"/>
                  <a:pt x="15701" y="11781"/>
                  <a:pt x="15751" y="11609"/>
                </a:cubicBezTo>
                <a:cubicBezTo>
                  <a:pt x="15751" y="11769"/>
                  <a:pt x="15774" y="11777"/>
                  <a:pt x="15925" y="11807"/>
                </a:cubicBezTo>
              </a:path>
              <a:path w="3796" h="670">
                <a:moveTo>
                  <a:pt x="16197" y="11584"/>
                </a:moveTo>
                <a:cubicBezTo>
                  <a:pt x="16132" y="11465"/>
                  <a:pt x="16013" y="11506"/>
                  <a:pt x="15974" y="11658"/>
                </a:cubicBezTo>
                <a:cubicBezTo>
                  <a:pt x="15894" y="11970"/>
                  <a:pt x="16321" y="11790"/>
                  <a:pt x="16421" y="11733"/>
                </a:cubicBezTo>
              </a:path>
              <a:path w="3796" h="670">
                <a:moveTo>
                  <a:pt x="16321" y="11460"/>
                </a:moveTo>
                <a:cubicBezTo>
                  <a:pt x="16430" y="11475"/>
                  <a:pt x="16771" y="11469"/>
                  <a:pt x="16818" y="11559"/>
                </a:cubicBezTo>
                <a:cubicBezTo>
                  <a:pt x="16848" y="11617"/>
                  <a:pt x="16867" y="11691"/>
                  <a:pt x="16867" y="11757"/>
                </a:cubicBezTo>
              </a:path>
              <a:path w="3796" h="670">
                <a:moveTo>
                  <a:pt x="17165" y="11584"/>
                </a:moveTo>
                <a:cubicBezTo>
                  <a:pt x="17113" y="11532"/>
                  <a:pt x="16992" y="11679"/>
                  <a:pt x="16966" y="11757"/>
                </a:cubicBezTo>
                <a:cubicBezTo>
                  <a:pt x="16966" y="11782"/>
                  <a:pt x="16966" y="11807"/>
                  <a:pt x="16966" y="11832"/>
                </a:cubicBezTo>
                <a:cubicBezTo>
                  <a:pt x="17117" y="11847"/>
                  <a:pt x="17177" y="11846"/>
                  <a:pt x="17314" y="11782"/>
                </a:cubicBezTo>
                <a:cubicBezTo>
                  <a:pt x="17279" y="11697"/>
                  <a:pt x="17264" y="11609"/>
                  <a:pt x="17165" y="11584"/>
                </a:cubicBezTo>
              </a:path>
              <a:path w="3796" h="670">
                <a:moveTo>
                  <a:pt x="17413" y="11708"/>
                </a:moveTo>
                <a:cubicBezTo>
                  <a:pt x="17452" y="11747"/>
                  <a:pt x="17468" y="11748"/>
                  <a:pt x="17462" y="11782"/>
                </a:cubicBezTo>
                <a:cubicBezTo>
                  <a:pt x="17491" y="11711"/>
                  <a:pt x="17457" y="11619"/>
                  <a:pt x="17537" y="11534"/>
                </a:cubicBezTo>
                <a:cubicBezTo>
                  <a:pt x="17682" y="11380"/>
                  <a:pt x="17747" y="11643"/>
                  <a:pt x="17760" y="11733"/>
                </a:cubicBezTo>
                <a:cubicBezTo>
                  <a:pt x="17760" y="11794"/>
                  <a:pt x="17769" y="11810"/>
                  <a:pt x="17735" y="11832"/>
                </a:cubicBezTo>
              </a:path>
              <a:path w="3796" h="670">
                <a:moveTo>
                  <a:pt x="18132" y="11435"/>
                </a:moveTo>
                <a:cubicBezTo>
                  <a:pt x="18042" y="11444"/>
                  <a:pt x="18005" y="11459"/>
                  <a:pt x="17934" y="11509"/>
                </a:cubicBezTo>
                <a:cubicBezTo>
                  <a:pt x="18058" y="11593"/>
                  <a:pt x="18219" y="11589"/>
                  <a:pt x="18306" y="11708"/>
                </a:cubicBezTo>
                <a:cubicBezTo>
                  <a:pt x="18382" y="11811"/>
                  <a:pt x="18047" y="11762"/>
                  <a:pt x="18033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1760" y="4518000"/>
            <a:ext cx="2813040" cy="233280"/>
          </a:xfrm>
          <a:custGeom>
            <a:avLst/>
            <a:gdLst/>
            <a:ahLst/>
            <a:rect l="l" t="t" r="r" b="b"/>
            <a:pathLst>
              <a:path w="7815" h="646">
                <a:moveTo>
                  <a:pt x="2654" y="12973"/>
                </a:moveTo>
                <a:lnTo>
                  <a:pt x="2654" y="12973"/>
                </a:lnTo>
                <a:lnTo>
                  <a:pt x="2654" y="12973"/>
                </a:lnTo>
              </a:path>
              <a:path w="7815" h="646">
                <a:moveTo>
                  <a:pt x="1339" y="12774"/>
                </a:moveTo>
                <a:cubicBezTo>
                  <a:pt x="1269" y="12903"/>
                  <a:pt x="1232" y="13026"/>
                  <a:pt x="1290" y="13171"/>
                </a:cubicBezTo>
                <a:cubicBezTo>
                  <a:pt x="1298" y="13179"/>
                  <a:pt x="1307" y="13188"/>
                  <a:pt x="1315" y="13196"/>
                </a:cubicBezTo>
              </a:path>
              <a:path w="7815" h="646">
                <a:moveTo>
                  <a:pt x="1116" y="12898"/>
                </a:moveTo>
                <a:cubicBezTo>
                  <a:pt x="1243" y="12936"/>
                  <a:pt x="1370" y="13049"/>
                  <a:pt x="1488" y="13072"/>
                </a:cubicBezTo>
                <a:cubicBezTo>
                  <a:pt x="1521" y="13072"/>
                  <a:pt x="1555" y="13072"/>
                  <a:pt x="1588" y="13072"/>
                </a:cubicBezTo>
              </a:path>
              <a:path w="7815" h="646">
                <a:moveTo>
                  <a:pt x="6921" y="12650"/>
                </a:moveTo>
                <a:cubicBezTo>
                  <a:pt x="6929" y="12650"/>
                  <a:pt x="6937" y="12650"/>
                  <a:pt x="6945" y="12650"/>
                </a:cubicBezTo>
              </a:path>
              <a:path w="7815" h="646">
                <a:moveTo>
                  <a:pt x="6945" y="12650"/>
                </a:moveTo>
                <a:lnTo>
                  <a:pt x="6945" y="12650"/>
                </a:lnTo>
              </a:path>
              <a:path w="7815" h="646">
                <a:moveTo>
                  <a:pt x="8062" y="12824"/>
                </a:moveTo>
                <a:cubicBezTo>
                  <a:pt x="8261" y="12810"/>
                  <a:pt x="8398" y="12878"/>
                  <a:pt x="8558" y="12998"/>
                </a:cubicBezTo>
                <a:cubicBezTo>
                  <a:pt x="8418" y="13072"/>
                  <a:pt x="8347" y="13060"/>
                  <a:pt x="8186" y="13047"/>
                </a:cubicBezTo>
              </a:path>
              <a:path w="7815" h="646">
                <a:moveTo>
                  <a:pt x="8930" y="12923"/>
                </a:moveTo>
                <a:cubicBezTo>
                  <a:pt x="8930" y="12956"/>
                  <a:pt x="8930" y="12989"/>
                  <a:pt x="8930" y="13022"/>
                </a:cubicBezTo>
              </a:path>
              <a:path w="7815" h="646">
                <a:moveTo>
                  <a:pt x="8830" y="12551"/>
                </a:moveTo>
                <a:cubicBezTo>
                  <a:pt x="8838" y="12551"/>
                  <a:pt x="8847" y="12551"/>
                  <a:pt x="8855" y="12551"/>
                </a:cubicBezTo>
              </a:path>
              <a:path w="7815" h="646">
                <a:moveTo>
                  <a:pt x="8855" y="12551"/>
                </a:moveTo>
                <a:lnTo>
                  <a:pt x="8855" y="1255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1760" y="4545000"/>
            <a:ext cx="465120" cy="187200"/>
          </a:xfrm>
          <a:custGeom>
            <a:avLst/>
            <a:gdLst/>
            <a:ahLst/>
            <a:rect l="l" t="t" r="r" b="b"/>
            <a:pathLst>
              <a:path w="1291" h="521">
                <a:moveTo>
                  <a:pt x="2009" y="12725"/>
                </a:moveTo>
                <a:cubicBezTo>
                  <a:pt x="2001" y="12717"/>
                  <a:pt x="2073" y="12644"/>
                  <a:pt x="2133" y="12626"/>
                </a:cubicBezTo>
                <a:cubicBezTo>
                  <a:pt x="2150" y="12626"/>
                  <a:pt x="2166" y="12626"/>
                  <a:pt x="2183" y="12626"/>
                </a:cubicBezTo>
                <a:cubicBezTo>
                  <a:pt x="2200" y="12710"/>
                  <a:pt x="2209" y="12790"/>
                  <a:pt x="2158" y="12874"/>
                </a:cubicBezTo>
                <a:cubicBezTo>
                  <a:pt x="2109" y="12954"/>
                  <a:pt x="2054" y="12971"/>
                  <a:pt x="1984" y="13022"/>
                </a:cubicBezTo>
                <a:cubicBezTo>
                  <a:pt x="1903" y="13083"/>
                  <a:pt x="1881" y="13088"/>
                  <a:pt x="1860" y="13146"/>
                </a:cubicBezTo>
                <a:cubicBezTo>
                  <a:pt x="1937" y="13146"/>
                  <a:pt x="1948" y="13113"/>
                  <a:pt x="2009" y="13072"/>
                </a:cubicBezTo>
                <a:cubicBezTo>
                  <a:pt x="2101" y="13011"/>
                  <a:pt x="2126" y="13127"/>
                  <a:pt x="2208" y="13146"/>
                </a:cubicBezTo>
                <a:cubicBezTo>
                  <a:pt x="2280" y="13163"/>
                  <a:pt x="2352" y="13083"/>
                  <a:pt x="2406" y="13047"/>
                </a:cubicBezTo>
              </a:path>
              <a:path w="1291" h="521">
                <a:moveTo>
                  <a:pt x="1116" y="13072"/>
                </a:moveTo>
                <a:cubicBezTo>
                  <a:pt x="1231" y="13051"/>
                  <a:pt x="1348" y="13008"/>
                  <a:pt x="1463" y="12973"/>
                </a:cubicBezTo>
              </a:path>
              <a:path w="1291" h="521">
                <a:moveTo>
                  <a:pt x="1488" y="12750"/>
                </a:moveTo>
                <a:cubicBezTo>
                  <a:pt x="1342" y="12823"/>
                  <a:pt x="1267" y="12969"/>
                  <a:pt x="1191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25360" y="4527720"/>
            <a:ext cx="820800" cy="187200"/>
          </a:xfrm>
          <a:custGeom>
            <a:avLst/>
            <a:gdLst/>
            <a:ahLst/>
            <a:rect l="l" t="t" r="r" b="b"/>
            <a:pathLst>
              <a:path w="2283" h="522">
                <a:moveTo>
                  <a:pt x="3324" y="12774"/>
                </a:moveTo>
                <a:cubicBezTo>
                  <a:pt x="3332" y="12782"/>
                  <a:pt x="3341" y="12791"/>
                  <a:pt x="3349" y="12799"/>
                </a:cubicBezTo>
                <a:cubicBezTo>
                  <a:pt x="3369" y="12779"/>
                  <a:pt x="3337" y="12685"/>
                  <a:pt x="3274" y="12725"/>
                </a:cubicBezTo>
                <a:cubicBezTo>
                  <a:pt x="3118" y="12824"/>
                  <a:pt x="3055" y="13066"/>
                  <a:pt x="3299" y="13097"/>
                </a:cubicBezTo>
                <a:cubicBezTo>
                  <a:pt x="3450" y="13072"/>
                  <a:pt x="3502" y="13062"/>
                  <a:pt x="3572" y="12973"/>
                </a:cubicBezTo>
              </a:path>
              <a:path w="2283" h="522">
                <a:moveTo>
                  <a:pt x="3671" y="12774"/>
                </a:moveTo>
                <a:cubicBezTo>
                  <a:pt x="3693" y="12882"/>
                  <a:pt x="3696" y="12909"/>
                  <a:pt x="3721" y="12973"/>
                </a:cubicBezTo>
                <a:cubicBezTo>
                  <a:pt x="3705" y="12862"/>
                  <a:pt x="3646" y="12784"/>
                  <a:pt x="3770" y="12725"/>
                </a:cubicBezTo>
                <a:cubicBezTo>
                  <a:pt x="3884" y="12670"/>
                  <a:pt x="4046" y="12700"/>
                  <a:pt x="4167" y="12700"/>
                </a:cubicBezTo>
              </a:path>
              <a:path w="2283" h="522">
                <a:moveTo>
                  <a:pt x="4242" y="12675"/>
                </a:moveTo>
                <a:cubicBezTo>
                  <a:pt x="4077" y="12675"/>
                  <a:pt x="4064" y="12758"/>
                  <a:pt x="4043" y="12923"/>
                </a:cubicBezTo>
                <a:cubicBezTo>
                  <a:pt x="4276" y="12988"/>
                  <a:pt x="4341" y="12958"/>
                  <a:pt x="4390" y="12725"/>
                </a:cubicBezTo>
                <a:cubicBezTo>
                  <a:pt x="4293" y="12685"/>
                  <a:pt x="4098" y="12723"/>
                  <a:pt x="4242" y="12675"/>
                </a:cubicBezTo>
              </a:path>
              <a:path w="2283" h="522">
                <a:moveTo>
                  <a:pt x="4787" y="12576"/>
                </a:moveTo>
                <a:cubicBezTo>
                  <a:pt x="4706" y="12636"/>
                  <a:pt x="4693" y="12651"/>
                  <a:pt x="4638" y="12675"/>
                </a:cubicBezTo>
                <a:cubicBezTo>
                  <a:pt x="4753" y="12718"/>
                  <a:pt x="4887" y="12717"/>
                  <a:pt x="5011" y="12774"/>
                </a:cubicBezTo>
                <a:cubicBezTo>
                  <a:pt x="4965" y="12853"/>
                  <a:pt x="4718" y="13097"/>
                  <a:pt x="4638" y="12898"/>
                </a:cubicBezTo>
                <a:cubicBezTo>
                  <a:pt x="4655" y="12882"/>
                  <a:pt x="4671" y="12865"/>
                  <a:pt x="4688" y="12849"/>
                </a:cubicBezTo>
              </a:path>
              <a:path w="2283" h="522">
                <a:moveTo>
                  <a:pt x="5259" y="12626"/>
                </a:moveTo>
                <a:cubicBezTo>
                  <a:pt x="5170" y="12653"/>
                  <a:pt x="5111" y="12670"/>
                  <a:pt x="5035" y="12725"/>
                </a:cubicBezTo>
                <a:cubicBezTo>
                  <a:pt x="5163" y="12768"/>
                  <a:pt x="5295" y="12802"/>
                  <a:pt x="5407" y="12874"/>
                </a:cubicBezTo>
                <a:cubicBezTo>
                  <a:pt x="5255" y="12927"/>
                  <a:pt x="5183" y="12942"/>
                  <a:pt x="5035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0" y="4581360"/>
            <a:ext cx="679320" cy="258840"/>
          </a:xfrm>
          <a:custGeom>
            <a:avLst/>
            <a:gdLst/>
            <a:ahLst/>
            <a:rect l="l" t="t" r="r" b="b"/>
            <a:pathLst>
              <a:path w="1886" h="720">
                <a:moveTo>
                  <a:pt x="6697" y="12750"/>
                </a:moveTo>
                <a:cubicBezTo>
                  <a:pt x="6543" y="12731"/>
                  <a:pt x="6487" y="12731"/>
                  <a:pt x="6350" y="12799"/>
                </a:cubicBezTo>
                <a:cubicBezTo>
                  <a:pt x="6491" y="12870"/>
                  <a:pt x="6652" y="12893"/>
                  <a:pt x="6796" y="12973"/>
                </a:cubicBezTo>
                <a:cubicBezTo>
                  <a:pt x="6724" y="13055"/>
                  <a:pt x="6502" y="13209"/>
                  <a:pt x="6400" y="13047"/>
                </a:cubicBezTo>
                <a:cubicBezTo>
                  <a:pt x="6408" y="13022"/>
                  <a:pt x="6416" y="12998"/>
                  <a:pt x="6424" y="12973"/>
                </a:cubicBezTo>
              </a:path>
              <a:path w="1886" h="720">
                <a:moveTo>
                  <a:pt x="6995" y="12874"/>
                </a:moveTo>
                <a:cubicBezTo>
                  <a:pt x="6995" y="12965"/>
                  <a:pt x="6995" y="12989"/>
                  <a:pt x="6995" y="13047"/>
                </a:cubicBezTo>
              </a:path>
              <a:path w="1886" h="720">
                <a:moveTo>
                  <a:pt x="7268" y="12998"/>
                </a:moveTo>
                <a:cubicBezTo>
                  <a:pt x="7268" y="13072"/>
                  <a:pt x="7268" y="12948"/>
                  <a:pt x="7268" y="12874"/>
                </a:cubicBezTo>
                <a:cubicBezTo>
                  <a:pt x="7268" y="12841"/>
                  <a:pt x="7268" y="12807"/>
                  <a:pt x="7268" y="12774"/>
                </a:cubicBezTo>
                <a:cubicBezTo>
                  <a:pt x="7442" y="12762"/>
                  <a:pt x="7475" y="12819"/>
                  <a:pt x="7590" y="12948"/>
                </a:cubicBezTo>
                <a:cubicBezTo>
                  <a:pt x="7599" y="12876"/>
                  <a:pt x="7608" y="12695"/>
                  <a:pt x="7739" y="12750"/>
                </a:cubicBezTo>
                <a:cubicBezTo>
                  <a:pt x="7813" y="12781"/>
                  <a:pt x="7933" y="13072"/>
                  <a:pt x="7938" y="13072"/>
                </a:cubicBezTo>
                <a:cubicBezTo>
                  <a:pt x="7954" y="13055"/>
                  <a:pt x="7971" y="13039"/>
                  <a:pt x="7987" y="13022"/>
                </a:cubicBezTo>
              </a:path>
              <a:path w="1886" h="720">
                <a:moveTo>
                  <a:pt x="8111" y="12874"/>
                </a:moveTo>
                <a:cubicBezTo>
                  <a:pt x="8138" y="13062"/>
                  <a:pt x="8184" y="13260"/>
                  <a:pt x="8235" y="13444"/>
                </a:cubicBezTo>
                <a:cubicBezTo>
                  <a:pt x="8235" y="13436"/>
                  <a:pt x="8235" y="13427"/>
                  <a:pt x="8235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33800" y="4483080"/>
            <a:ext cx="492120" cy="401760"/>
          </a:xfrm>
          <a:custGeom>
            <a:avLst/>
            <a:gdLst/>
            <a:ahLst/>
            <a:rect l="l" t="t" r="r" b="b"/>
            <a:pathLst>
              <a:path w="1366" h="1117">
                <a:moveTo>
                  <a:pt x="8706" y="12502"/>
                </a:moveTo>
                <a:cubicBezTo>
                  <a:pt x="8726" y="12680"/>
                  <a:pt x="8750" y="12851"/>
                  <a:pt x="8806" y="13022"/>
                </a:cubicBezTo>
                <a:cubicBezTo>
                  <a:pt x="8814" y="13039"/>
                  <a:pt x="8822" y="13055"/>
                  <a:pt x="8830" y="13072"/>
                </a:cubicBezTo>
              </a:path>
              <a:path w="1366" h="1117">
                <a:moveTo>
                  <a:pt x="9376" y="12477"/>
                </a:moveTo>
                <a:cubicBezTo>
                  <a:pt x="9242" y="12466"/>
                  <a:pt x="9113" y="12549"/>
                  <a:pt x="9128" y="12725"/>
                </a:cubicBezTo>
                <a:cubicBezTo>
                  <a:pt x="9140" y="12868"/>
                  <a:pt x="9255" y="12938"/>
                  <a:pt x="9277" y="13072"/>
                </a:cubicBezTo>
              </a:path>
              <a:path w="1366" h="1117">
                <a:moveTo>
                  <a:pt x="9004" y="12774"/>
                </a:moveTo>
                <a:cubicBezTo>
                  <a:pt x="9180" y="12816"/>
                  <a:pt x="9344" y="12824"/>
                  <a:pt x="9525" y="12824"/>
                </a:cubicBezTo>
                <a:cubicBezTo>
                  <a:pt x="9516" y="12908"/>
                  <a:pt x="9456" y="13042"/>
                  <a:pt x="9599" y="13047"/>
                </a:cubicBezTo>
                <a:cubicBezTo>
                  <a:pt x="9786" y="13053"/>
                  <a:pt x="9737" y="12898"/>
                  <a:pt x="9798" y="12824"/>
                </a:cubicBezTo>
                <a:cubicBezTo>
                  <a:pt x="9806" y="12832"/>
                  <a:pt x="9815" y="12841"/>
                  <a:pt x="9823" y="12849"/>
                </a:cubicBezTo>
                <a:cubicBezTo>
                  <a:pt x="9897" y="12975"/>
                  <a:pt x="10204" y="13374"/>
                  <a:pt x="10046" y="13519"/>
                </a:cubicBezTo>
                <a:cubicBezTo>
                  <a:pt x="9860" y="13565"/>
                  <a:pt x="9805" y="13587"/>
                  <a:pt x="9699" y="134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55800" y="4840200"/>
            <a:ext cx="2500200" cy="615960"/>
          </a:xfrm>
          <a:custGeom>
            <a:avLst/>
            <a:gdLst/>
            <a:ahLst/>
            <a:rect l="l" t="t" r="r" b="b"/>
            <a:pathLst>
              <a:path w="6946" h="1713">
                <a:moveTo>
                  <a:pt x="2654" y="14089"/>
                </a:moveTo>
                <a:lnTo>
                  <a:pt x="2654" y="14089"/>
                </a:lnTo>
                <a:lnTo>
                  <a:pt x="2654" y="14089"/>
                </a:lnTo>
              </a:path>
              <a:path w="6946" h="1713">
                <a:moveTo>
                  <a:pt x="4638" y="13444"/>
                </a:moveTo>
                <a:cubicBezTo>
                  <a:pt x="4667" y="13667"/>
                  <a:pt x="4675" y="13894"/>
                  <a:pt x="4713" y="14114"/>
                </a:cubicBezTo>
                <a:cubicBezTo>
                  <a:pt x="4721" y="14139"/>
                  <a:pt x="4730" y="14163"/>
                  <a:pt x="4738" y="14188"/>
                </a:cubicBezTo>
              </a:path>
              <a:path w="6946" h="1713">
                <a:moveTo>
                  <a:pt x="5333" y="13742"/>
                </a:moveTo>
                <a:lnTo>
                  <a:pt x="5333" y="13742"/>
                </a:lnTo>
                <a:lnTo>
                  <a:pt x="5333" y="13742"/>
                </a:lnTo>
              </a:path>
              <a:path w="6946" h="1713">
                <a:moveTo>
                  <a:pt x="5333" y="13742"/>
                </a:moveTo>
                <a:lnTo>
                  <a:pt x="5333" y="13742"/>
                </a:lnTo>
              </a:path>
              <a:path w="6946" h="1713">
                <a:moveTo>
                  <a:pt x="9599" y="13841"/>
                </a:moveTo>
                <a:cubicBezTo>
                  <a:pt x="9575" y="13841"/>
                  <a:pt x="9567" y="13841"/>
                  <a:pt x="9575" y="13816"/>
                </a:cubicBezTo>
              </a:path>
              <a:path w="6946" h="1713">
                <a:moveTo>
                  <a:pt x="9599" y="13841"/>
                </a:moveTo>
                <a:lnTo>
                  <a:pt x="9599" y="13841"/>
                </a:lnTo>
              </a:path>
              <a:path w="6946" h="1713">
                <a:moveTo>
                  <a:pt x="3845" y="14684"/>
                </a:moveTo>
                <a:lnTo>
                  <a:pt x="3845" y="14684"/>
                </a:lnTo>
                <a:lnTo>
                  <a:pt x="3845" y="14684"/>
                </a:lnTo>
              </a:path>
              <a:path w="6946" h="1713">
                <a:moveTo>
                  <a:pt x="3845" y="14684"/>
                </a:moveTo>
                <a:lnTo>
                  <a:pt x="3845" y="14684"/>
                </a:lnTo>
              </a:path>
              <a:path w="6946" h="1713">
                <a:moveTo>
                  <a:pt x="5358" y="14982"/>
                </a:moveTo>
                <a:cubicBezTo>
                  <a:pt x="5379" y="15071"/>
                  <a:pt x="5365" y="15122"/>
                  <a:pt x="5432" y="15156"/>
                </a:cubicBezTo>
              </a:path>
              <a:path w="6946" h="1713">
                <a:moveTo>
                  <a:pt x="5432" y="15156"/>
                </a:moveTo>
                <a:lnTo>
                  <a:pt x="5432" y="1515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240" y="4884840"/>
            <a:ext cx="142920" cy="22356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2084" y="13692"/>
                </a:moveTo>
                <a:cubicBezTo>
                  <a:pt x="2173" y="13669"/>
                  <a:pt x="2192" y="13572"/>
                  <a:pt x="2307" y="13568"/>
                </a:cubicBezTo>
                <a:cubicBezTo>
                  <a:pt x="2511" y="13560"/>
                  <a:pt x="2256" y="13885"/>
                  <a:pt x="2208" y="13915"/>
                </a:cubicBezTo>
                <a:cubicBezTo>
                  <a:pt x="2175" y="13923"/>
                  <a:pt x="2141" y="13932"/>
                  <a:pt x="2108" y="13940"/>
                </a:cubicBezTo>
                <a:cubicBezTo>
                  <a:pt x="2131" y="13849"/>
                  <a:pt x="2253" y="13878"/>
                  <a:pt x="2307" y="13940"/>
                </a:cubicBezTo>
                <a:cubicBezTo>
                  <a:pt x="2429" y="14082"/>
                  <a:pt x="2177" y="14173"/>
                  <a:pt x="2084" y="14188"/>
                </a:cubicBezTo>
                <a:cubicBezTo>
                  <a:pt x="2026" y="14188"/>
                  <a:pt x="2017" y="14188"/>
                  <a:pt x="1984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4857840"/>
            <a:ext cx="1258920" cy="420480"/>
          </a:xfrm>
          <a:custGeom>
            <a:avLst/>
            <a:gdLst/>
            <a:ahLst/>
            <a:rect l="l" t="t" r="r" b="b"/>
            <a:pathLst>
              <a:path w="3498" h="1167">
                <a:moveTo>
                  <a:pt x="3175" y="13791"/>
                </a:moveTo>
                <a:cubicBezTo>
                  <a:pt x="3207" y="13604"/>
                  <a:pt x="3248" y="14009"/>
                  <a:pt x="3249" y="14015"/>
                </a:cubicBezTo>
                <a:cubicBezTo>
                  <a:pt x="3249" y="14048"/>
                  <a:pt x="3249" y="14081"/>
                  <a:pt x="3249" y="14114"/>
                </a:cubicBezTo>
                <a:cubicBezTo>
                  <a:pt x="3230" y="13996"/>
                  <a:pt x="3204" y="13887"/>
                  <a:pt x="3249" y="13767"/>
                </a:cubicBezTo>
                <a:cubicBezTo>
                  <a:pt x="3332" y="13543"/>
                  <a:pt x="3495" y="13714"/>
                  <a:pt x="3572" y="13841"/>
                </a:cubicBezTo>
                <a:cubicBezTo>
                  <a:pt x="3588" y="13882"/>
                  <a:pt x="3605" y="13924"/>
                  <a:pt x="3621" y="13965"/>
                </a:cubicBezTo>
                <a:cubicBezTo>
                  <a:pt x="3621" y="13982"/>
                  <a:pt x="3621" y="13998"/>
                  <a:pt x="3621" y="14015"/>
                </a:cubicBezTo>
                <a:cubicBezTo>
                  <a:pt x="3604" y="13926"/>
                  <a:pt x="3562" y="13806"/>
                  <a:pt x="3621" y="13717"/>
                </a:cubicBezTo>
                <a:cubicBezTo>
                  <a:pt x="3721" y="13566"/>
                  <a:pt x="3868" y="13678"/>
                  <a:pt x="3919" y="13791"/>
                </a:cubicBezTo>
                <a:cubicBezTo>
                  <a:pt x="3956" y="13871"/>
                  <a:pt x="3932" y="14142"/>
                  <a:pt x="3994" y="14039"/>
                </a:cubicBezTo>
              </a:path>
              <a:path w="3498" h="1167">
                <a:moveTo>
                  <a:pt x="4093" y="13692"/>
                </a:moveTo>
                <a:cubicBezTo>
                  <a:pt x="4139" y="13800"/>
                  <a:pt x="4118" y="13931"/>
                  <a:pt x="4167" y="14039"/>
                </a:cubicBezTo>
                <a:cubicBezTo>
                  <a:pt x="4244" y="14210"/>
                  <a:pt x="4380" y="14026"/>
                  <a:pt x="4415" y="13940"/>
                </a:cubicBezTo>
                <a:cubicBezTo>
                  <a:pt x="4443" y="13870"/>
                  <a:pt x="4440" y="13692"/>
                  <a:pt x="4440" y="13767"/>
                </a:cubicBezTo>
                <a:cubicBezTo>
                  <a:pt x="4443" y="13817"/>
                  <a:pt x="4454" y="14148"/>
                  <a:pt x="4539" y="14139"/>
                </a:cubicBezTo>
                <a:cubicBezTo>
                  <a:pt x="4564" y="14122"/>
                  <a:pt x="4589" y="14106"/>
                  <a:pt x="4614" y="14089"/>
                </a:cubicBezTo>
              </a:path>
              <a:path w="3498" h="1167">
                <a:moveTo>
                  <a:pt x="4961" y="13494"/>
                </a:moveTo>
                <a:cubicBezTo>
                  <a:pt x="4961" y="13644"/>
                  <a:pt x="5032" y="13793"/>
                  <a:pt x="5060" y="13940"/>
                </a:cubicBezTo>
                <a:cubicBezTo>
                  <a:pt x="5067" y="13975"/>
                  <a:pt x="5131" y="14173"/>
                  <a:pt x="5085" y="14188"/>
                </a:cubicBezTo>
              </a:path>
              <a:path w="3498" h="1167">
                <a:moveTo>
                  <a:pt x="4837" y="13990"/>
                </a:moveTo>
                <a:cubicBezTo>
                  <a:pt x="4970" y="13965"/>
                  <a:pt x="5182" y="13876"/>
                  <a:pt x="5308" y="13940"/>
                </a:cubicBezTo>
                <a:cubicBezTo>
                  <a:pt x="5399" y="13986"/>
                  <a:pt x="5337" y="14287"/>
                  <a:pt x="5407" y="14213"/>
                </a:cubicBezTo>
                <a:cubicBezTo>
                  <a:pt x="5407" y="14196"/>
                  <a:pt x="5407" y="14180"/>
                  <a:pt x="5407" y="14163"/>
                </a:cubicBezTo>
              </a:path>
              <a:path w="3498" h="1167">
                <a:moveTo>
                  <a:pt x="5606" y="14015"/>
                </a:moveTo>
                <a:cubicBezTo>
                  <a:pt x="5636" y="14173"/>
                  <a:pt x="5688" y="14330"/>
                  <a:pt x="5705" y="14486"/>
                </a:cubicBezTo>
                <a:cubicBezTo>
                  <a:pt x="5705" y="14494"/>
                  <a:pt x="5705" y="14503"/>
                  <a:pt x="5705" y="14511"/>
                </a:cubicBezTo>
                <a:cubicBezTo>
                  <a:pt x="5619" y="14328"/>
                  <a:pt x="5523" y="14073"/>
                  <a:pt x="5606" y="13866"/>
                </a:cubicBezTo>
                <a:cubicBezTo>
                  <a:pt x="5631" y="13841"/>
                  <a:pt x="5655" y="13816"/>
                  <a:pt x="5680" y="13791"/>
                </a:cubicBezTo>
                <a:cubicBezTo>
                  <a:pt x="5805" y="13839"/>
                  <a:pt x="6032" y="13967"/>
                  <a:pt x="5829" y="14114"/>
                </a:cubicBezTo>
                <a:cubicBezTo>
                  <a:pt x="5631" y="14258"/>
                  <a:pt x="5656" y="14116"/>
                  <a:pt x="5655" y="13990"/>
                </a:cubicBezTo>
              </a:path>
              <a:path w="3498" h="1167">
                <a:moveTo>
                  <a:pt x="6003" y="13519"/>
                </a:moveTo>
                <a:cubicBezTo>
                  <a:pt x="6049" y="13714"/>
                  <a:pt x="6094" y="13915"/>
                  <a:pt x="6127" y="14114"/>
                </a:cubicBezTo>
                <a:cubicBezTo>
                  <a:pt x="6127" y="14142"/>
                  <a:pt x="6129" y="14148"/>
                  <a:pt x="6152" y="14114"/>
                </a:cubicBezTo>
              </a:path>
              <a:path w="3498" h="1167">
                <a:moveTo>
                  <a:pt x="6325" y="13791"/>
                </a:moveTo>
                <a:cubicBezTo>
                  <a:pt x="6306" y="13923"/>
                  <a:pt x="6297" y="14126"/>
                  <a:pt x="6474" y="14163"/>
                </a:cubicBezTo>
                <a:cubicBezTo>
                  <a:pt x="6654" y="14201"/>
                  <a:pt x="6611" y="13941"/>
                  <a:pt x="6573" y="13866"/>
                </a:cubicBezTo>
                <a:cubicBezTo>
                  <a:pt x="6679" y="14077"/>
                  <a:pt x="6702" y="14274"/>
                  <a:pt x="6648" y="14511"/>
                </a:cubicBezTo>
                <a:cubicBezTo>
                  <a:pt x="6599" y="14726"/>
                  <a:pt x="6458" y="14669"/>
                  <a:pt x="6350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25840" y="4786200"/>
            <a:ext cx="357120" cy="393840"/>
          </a:xfrm>
          <a:custGeom>
            <a:avLst/>
            <a:gdLst/>
            <a:ahLst/>
            <a:rect l="l" t="t" r="r" b="b"/>
            <a:pathLst>
              <a:path w="993" h="1093">
                <a:moveTo>
                  <a:pt x="7590" y="13295"/>
                </a:moveTo>
                <a:cubicBezTo>
                  <a:pt x="7530" y="13375"/>
                  <a:pt x="7488" y="13472"/>
                  <a:pt x="7441" y="13568"/>
                </a:cubicBezTo>
                <a:cubicBezTo>
                  <a:pt x="7318" y="13819"/>
                  <a:pt x="7213" y="14054"/>
                  <a:pt x="7441" y="14288"/>
                </a:cubicBezTo>
                <a:cubicBezTo>
                  <a:pt x="7486" y="14334"/>
                  <a:pt x="7575" y="14374"/>
                  <a:pt x="7640" y="14387"/>
                </a:cubicBezTo>
              </a:path>
              <a:path w="993" h="1093">
                <a:moveTo>
                  <a:pt x="7863" y="14015"/>
                </a:moveTo>
                <a:cubicBezTo>
                  <a:pt x="7804" y="13976"/>
                  <a:pt x="7838" y="14134"/>
                  <a:pt x="7838" y="14188"/>
                </a:cubicBezTo>
                <a:cubicBezTo>
                  <a:pt x="7838" y="14246"/>
                  <a:pt x="7838" y="14288"/>
                  <a:pt x="7838" y="14238"/>
                </a:cubicBezTo>
                <a:cubicBezTo>
                  <a:pt x="7818" y="14101"/>
                  <a:pt x="7823" y="13978"/>
                  <a:pt x="7913" y="13866"/>
                </a:cubicBezTo>
                <a:cubicBezTo>
                  <a:pt x="8025" y="13728"/>
                  <a:pt x="8141" y="13836"/>
                  <a:pt x="8210" y="13965"/>
                </a:cubicBezTo>
                <a:cubicBezTo>
                  <a:pt x="8250" y="14041"/>
                  <a:pt x="8273" y="14152"/>
                  <a:pt x="8285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60800" y="4946760"/>
            <a:ext cx="108000" cy="152280"/>
          </a:xfrm>
          <a:custGeom>
            <a:avLst/>
            <a:gdLst/>
            <a:ahLst/>
            <a:rect l="l" t="t" r="r" b="b"/>
            <a:pathLst>
              <a:path w="299" h="422">
                <a:moveTo>
                  <a:pt x="8830" y="13816"/>
                </a:moveTo>
                <a:cubicBezTo>
                  <a:pt x="8903" y="13907"/>
                  <a:pt x="8949" y="14000"/>
                  <a:pt x="8979" y="14114"/>
                </a:cubicBezTo>
                <a:cubicBezTo>
                  <a:pt x="8979" y="14122"/>
                  <a:pt x="8979" y="14131"/>
                  <a:pt x="8979" y="14139"/>
                </a:cubicBezTo>
              </a:path>
              <a:path w="299" h="422">
                <a:moveTo>
                  <a:pt x="9079" y="13742"/>
                </a:moveTo>
                <a:cubicBezTo>
                  <a:pt x="8977" y="13802"/>
                  <a:pt x="8899" y="13958"/>
                  <a:pt x="8830" y="14064"/>
                </a:cubicBezTo>
                <a:cubicBezTo>
                  <a:pt x="8790" y="14126"/>
                  <a:pt x="8752" y="14146"/>
                  <a:pt x="8806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56000" y="4894200"/>
            <a:ext cx="196920" cy="160560"/>
          </a:xfrm>
          <a:custGeom>
            <a:avLst/>
            <a:gdLst/>
            <a:ahLst/>
            <a:rect l="l" t="t" r="r" b="b"/>
            <a:pathLst>
              <a:path w="547" h="447">
                <a:moveTo>
                  <a:pt x="9599" y="13891"/>
                </a:moveTo>
                <a:cubicBezTo>
                  <a:pt x="9599" y="13969"/>
                  <a:pt x="9584" y="13987"/>
                  <a:pt x="9624" y="14015"/>
                </a:cubicBezTo>
                <a:cubicBezTo>
                  <a:pt x="9624" y="13877"/>
                  <a:pt x="9644" y="13776"/>
                  <a:pt x="9674" y="13643"/>
                </a:cubicBezTo>
                <a:cubicBezTo>
                  <a:pt x="9698" y="13535"/>
                  <a:pt x="9864" y="13606"/>
                  <a:pt x="9922" y="13643"/>
                </a:cubicBezTo>
                <a:cubicBezTo>
                  <a:pt x="10079" y="13743"/>
                  <a:pt x="10112" y="13840"/>
                  <a:pt x="10120" y="14015"/>
                </a:cubicBezTo>
                <a:cubicBezTo>
                  <a:pt x="10120" y="14039"/>
                  <a:pt x="10120" y="14047"/>
                  <a:pt x="10145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38760" y="4822920"/>
            <a:ext cx="554040" cy="249120"/>
          </a:xfrm>
          <a:custGeom>
            <a:avLst/>
            <a:gdLst/>
            <a:ahLst/>
            <a:rect l="l" t="t" r="r" b="b"/>
            <a:pathLst>
              <a:path w="1539" h="695">
                <a:moveTo>
                  <a:pt x="11361" y="13816"/>
                </a:moveTo>
                <a:cubicBezTo>
                  <a:pt x="11225" y="13682"/>
                  <a:pt x="11126" y="13543"/>
                  <a:pt x="10988" y="13767"/>
                </a:cubicBezTo>
                <a:cubicBezTo>
                  <a:pt x="10972" y="13816"/>
                  <a:pt x="10955" y="13866"/>
                  <a:pt x="10939" y="13915"/>
                </a:cubicBezTo>
                <a:cubicBezTo>
                  <a:pt x="10964" y="13948"/>
                  <a:pt x="10988" y="13982"/>
                  <a:pt x="11013" y="14015"/>
                </a:cubicBezTo>
                <a:cubicBezTo>
                  <a:pt x="11235" y="13911"/>
                  <a:pt x="11121" y="13843"/>
                  <a:pt x="11261" y="13915"/>
                </a:cubicBezTo>
                <a:cubicBezTo>
                  <a:pt x="11375" y="13974"/>
                  <a:pt x="11506" y="13847"/>
                  <a:pt x="11534" y="13940"/>
                </a:cubicBezTo>
                <a:cubicBezTo>
                  <a:pt x="11534" y="13948"/>
                  <a:pt x="11534" y="13957"/>
                  <a:pt x="11534" y="13965"/>
                </a:cubicBezTo>
                <a:cubicBezTo>
                  <a:pt x="11534" y="13853"/>
                  <a:pt x="11523" y="13736"/>
                  <a:pt x="11633" y="13667"/>
                </a:cubicBezTo>
                <a:cubicBezTo>
                  <a:pt x="11841" y="13536"/>
                  <a:pt x="11923" y="13849"/>
                  <a:pt x="11906" y="13990"/>
                </a:cubicBezTo>
                <a:cubicBezTo>
                  <a:pt x="11898" y="13998"/>
                  <a:pt x="11889" y="14007"/>
                  <a:pt x="11881" y="14015"/>
                </a:cubicBezTo>
              </a:path>
              <a:path w="1539" h="695">
                <a:moveTo>
                  <a:pt x="12229" y="13866"/>
                </a:moveTo>
                <a:cubicBezTo>
                  <a:pt x="12171" y="13762"/>
                  <a:pt x="12066" y="13724"/>
                  <a:pt x="11956" y="13841"/>
                </a:cubicBezTo>
                <a:cubicBezTo>
                  <a:pt x="11888" y="13953"/>
                  <a:pt x="11860" y="13980"/>
                  <a:pt x="11906" y="14064"/>
                </a:cubicBezTo>
                <a:cubicBezTo>
                  <a:pt x="12214" y="14090"/>
                  <a:pt x="12354" y="14023"/>
                  <a:pt x="12328" y="13667"/>
                </a:cubicBezTo>
                <a:cubicBezTo>
                  <a:pt x="12319" y="13541"/>
                  <a:pt x="12262" y="13495"/>
                  <a:pt x="12229" y="13395"/>
                </a:cubicBezTo>
                <a:cubicBezTo>
                  <a:pt x="12256" y="13496"/>
                  <a:pt x="12245" y="13956"/>
                  <a:pt x="12328" y="14015"/>
                </a:cubicBezTo>
                <a:cubicBezTo>
                  <a:pt x="12378" y="14015"/>
                  <a:pt x="12427" y="14015"/>
                  <a:pt x="12477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30840" y="4822920"/>
            <a:ext cx="428400" cy="258840"/>
          </a:xfrm>
          <a:custGeom>
            <a:avLst/>
            <a:gdLst/>
            <a:ahLst/>
            <a:rect l="l" t="t" r="r" b="b"/>
            <a:pathLst>
              <a:path w="1192" h="720">
                <a:moveTo>
                  <a:pt x="13791" y="13891"/>
                </a:moveTo>
                <a:cubicBezTo>
                  <a:pt x="13849" y="13872"/>
                  <a:pt x="13777" y="13776"/>
                  <a:pt x="13742" y="13742"/>
                </a:cubicBezTo>
                <a:cubicBezTo>
                  <a:pt x="13606" y="13613"/>
                  <a:pt x="13402" y="13809"/>
                  <a:pt x="13419" y="13965"/>
                </a:cubicBezTo>
                <a:cubicBezTo>
                  <a:pt x="13451" y="14257"/>
                  <a:pt x="13729" y="14053"/>
                  <a:pt x="13816" y="13965"/>
                </a:cubicBezTo>
              </a:path>
              <a:path w="1192" h="720">
                <a:moveTo>
                  <a:pt x="13717" y="13395"/>
                </a:moveTo>
                <a:cubicBezTo>
                  <a:pt x="13756" y="13586"/>
                  <a:pt x="13818" y="13775"/>
                  <a:pt x="13866" y="13965"/>
                </a:cubicBezTo>
                <a:cubicBezTo>
                  <a:pt x="13904" y="14116"/>
                  <a:pt x="13846" y="14116"/>
                  <a:pt x="13965" y="14089"/>
                </a:cubicBezTo>
              </a:path>
              <a:path w="1192" h="720">
                <a:moveTo>
                  <a:pt x="14263" y="13667"/>
                </a:moveTo>
                <a:cubicBezTo>
                  <a:pt x="14301" y="13782"/>
                  <a:pt x="14386" y="13913"/>
                  <a:pt x="14486" y="13990"/>
                </a:cubicBezTo>
                <a:cubicBezTo>
                  <a:pt x="14626" y="14098"/>
                  <a:pt x="14604" y="14065"/>
                  <a:pt x="14585" y="13915"/>
                </a:cubicBezTo>
              </a:path>
              <a:path w="1192" h="720">
                <a:moveTo>
                  <a:pt x="14585" y="13593"/>
                </a:moveTo>
                <a:cubicBezTo>
                  <a:pt x="14529" y="13683"/>
                  <a:pt x="14326" y="13916"/>
                  <a:pt x="14312" y="14015"/>
                </a:cubicBezTo>
                <a:cubicBezTo>
                  <a:pt x="14320" y="14015"/>
                  <a:pt x="14329" y="14015"/>
                  <a:pt x="14337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92800" y="4653000"/>
            <a:ext cx="358560" cy="482400"/>
          </a:xfrm>
          <a:custGeom>
            <a:avLst/>
            <a:gdLst/>
            <a:ahLst/>
            <a:rect l="l" t="t" r="r" b="b"/>
            <a:pathLst>
              <a:path w="993" h="1341">
                <a:moveTo>
                  <a:pt x="15379" y="13940"/>
                </a:moveTo>
                <a:cubicBezTo>
                  <a:pt x="15435" y="13921"/>
                  <a:pt x="15388" y="13892"/>
                  <a:pt x="15379" y="13841"/>
                </a:cubicBezTo>
                <a:cubicBezTo>
                  <a:pt x="15357" y="13716"/>
                  <a:pt x="15320" y="13668"/>
                  <a:pt x="15180" y="13643"/>
                </a:cubicBezTo>
                <a:cubicBezTo>
                  <a:pt x="15015" y="13614"/>
                  <a:pt x="14951" y="13843"/>
                  <a:pt x="15007" y="13965"/>
                </a:cubicBezTo>
                <a:cubicBezTo>
                  <a:pt x="15114" y="14199"/>
                  <a:pt x="15336" y="13978"/>
                  <a:pt x="15429" y="13891"/>
                </a:cubicBezTo>
              </a:path>
              <a:path w="993" h="1341">
                <a:moveTo>
                  <a:pt x="15304" y="13221"/>
                </a:moveTo>
                <a:cubicBezTo>
                  <a:pt x="15331" y="13384"/>
                  <a:pt x="15357" y="13551"/>
                  <a:pt x="15379" y="13717"/>
                </a:cubicBezTo>
                <a:cubicBezTo>
                  <a:pt x="15395" y="13833"/>
                  <a:pt x="15404" y="14082"/>
                  <a:pt x="15404" y="13965"/>
                </a:cubicBezTo>
              </a:path>
              <a:path w="993" h="1341">
                <a:moveTo>
                  <a:pt x="15404" y="12923"/>
                </a:moveTo>
                <a:cubicBezTo>
                  <a:pt x="15610" y="12999"/>
                  <a:pt x="15691" y="13050"/>
                  <a:pt x="15825" y="13246"/>
                </a:cubicBezTo>
                <a:cubicBezTo>
                  <a:pt x="16019" y="13529"/>
                  <a:pt x="16012" y="13863"/>
                  <a:pt x="15850" y="14163"/>
                </a:cubicBezTo>
                <a:cubicBezTo>
                  <a:pt x="15795" y="14219"/>
                  <a:pt x="15770" y="14217"/>
                  <a:pt x="15776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40240" y="561672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14833" y="15602"/>
                </a:moveTo>
                <a:cubicBezTo>
                  <a:pt x="14833" y="15619"/>
                  <a:pt x="14833" y="15635"/>
                  <a:pt x="14833" y="15652"/>
                </a:cubicBezTo>
              </a:path>
              <a:path w="1" h="51">
                <a:moveTo>
                  <a:pt x="14833" y="15652"/>
                </a:moveTo>
                <a:lnTo>
                  <a:pt x="14833" y="1565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8880" y="5249880"/>
            <a:ext cx="1546200" cy="393840"/>
          </a:xfrm>
          <a:custGeom>
            <a:avLst/>
            <a:gdLst/>
            <a:ahLst/>
            <a:rect l="l" t="t" r="r" b="b"/>
            <a:pathLst>
              <a:path w="4293" h="1093">
                <a:moveTo>
                  <a:pt x="2183" y="14759"/>
                </a:moveTo>
                <a:cubicBezTo>
                  <a:pt x="2183" y="14687"/>
                  <a:pt x="2138" y="14986"/>
                  <a:pt x="2133" y="15007"/>
                </a:cubicBezTo>
                <a:cubicBezTo>
                  <a:pt x="2125" y="15032"/>
                  <a:pt x="2116" y="15056"/>
                  <a:pt x="2108" y="15081"/>
                </a:cubicBezTo>
                <a:cubicBezTo>
                  <a:pt x="2177" y="14967"/>
                  <a:pt x="2263" y="15015"/>
                  <a:pt x="2381" y="15032"/>
                </a:cubicBezTo>
                <a:cubicBezTo>
                  <a:pt x="2416" y="15032"/>
                  <a:pt x="2429" y="15023"/>
                  <a:pt x="2431" y="14982"/>
                </a:cubicBezTo>
              </a:path>
              <a:path w="4293" h="1093">
                <a:moveTo>
                  <a:pt x="2381" y="14635"/>
                </a:moveTo>
                <a:cubicBezTo>
                  <a:pt x="2381" y="14802"/>
                  <a:pt x="2420" y="14964"/>
                  <a:pt x="2431" y="15131"/>
                </a:cubicBezTo>
                <a:cubicBezTo>
                  <a:pt x="2431" y="15255"/>
                  <a:pt x="2431" y="15280"/>
                  <a:pt x="2431" y="15354"/>
                </a:cubicBezTo>
              </a:path>
              <a:path w="4293" h="1093">
                <a:moveTo>
                  <a:pt x="2803" y="15106"/>
                </a:moveTo>
                <a:cubicBezTo>
                  <a:pt x="2803" y="15131"/>
                  <a:pt x="2803" y="15155"/>
                  <a:pt x="2803" y="15180"/>
                </a:cubicBezTo>
              </a:path>
              <a:path w="4293" h="1093">
                <a:moveTo>
                  <a:pt x="3621" y="14784"/>
                </a:moveTo>
                <a:cubicBezTo>
                  <a:pt x="3698" y="14733"/>
                  <a:pt x="3574" y="14649"/>
                  <a:pt x="3497" y="14660"/>
                </a:cubicBezTo>
                <a:cubicBezTo>
                  <a:pt x="3389" y="14676"/>
                  <a:pt x="3329" y="14780"/>
                  <a:pt x="3274" y="14858"/>
                </a:cubicBezTo>
                <a:cubicBezTo>
                  <a:pt x="3401" y="14872"/>
                  <a:pt x="3610" y="14841"/>
                  <a:pt x="3696" y="14957"/>
                </a:cubicBezTo>
                <a:cubicBezTo>
                  <a:pt x="3800" y="15097"/>
                  <a:pt x="3517" y="15203"/>
                  <a:pt x="3423" y="15180"/>
                </a:cubicBezTo>
                <a:cubicBezTo>
                  <a:pt x="3398" y="15164"/>
                  <a:pt x="3374" y="15147"/>
                  <a:pt x="3349" y="15131"/>
                </a:cubicBezTo>
              </a:path>
              <a:path w="4293" h="1093">
                <a:moveTo>
                  <a:pt x="3919" y="14883"/>
                </a:moveTo>
                <a:cubicBezTo>
                  <a:pt x="3928" y="14976"/>
                  <a:pt x="3964" y="15249"/>
                  <a:pt x="3969" y="15156"/>
                </a:cubicBezTo>
                <a:cubicBezTo>
                  <a:pt x="3969" y="15115"/>
                  <a:pt x="3969" y="15073"/>
                  <a:pt x="3969" y="15032"/>
                </a:cubicBezTo>
              </a:path>
              <a:path w="4293" h="1093">
                <a:moveTo>
                  <a:pt x="4142" y="15032"/>
                </a:moveTo>
                <a:cubicBezTo>
                  <a:pt x="4149" y="15057"/>
                  <a:pt x="4203" y="15261"/>
                  <a:pt x="4167" y="15131"/>
                </a:cubicBezTo>
                <a:cubicBezTo>
                  <a:pt x="4144" y="15015"/>
                  <a:pt x="4133" y="14982"/>
                  <a:pt x="4167" y="14908"/>
                </a:cubicBezTo>
                <a:cubicBezTo>
                  <a:pt x="4312" y="14928"/>
                  <a:pt x="4345" y="15002"/>
                  <a:pt x="4440" y="15106"/>
                </a:cubicBezTo>
                <a:cubicBezTo>
                  <a:pt x="4440" y="15021"/>
                  <a:pt x="4408" y="14939"/>
                  <a:pt x="4490" y="14883"/>
                </a:cubicBezTo>
                <a:cubicBezTo>
                  <a:pt x="4596" y="14810"/>
                  <a:pt x="4656" y="15142"/>
                  <a:pt x="4688" y="15180"/>
                </a:cubicBezTo>
                <a:cubicBezTo>
                  <a:pt x="4696" y="15180"/>
                  <a:pt x="4705" y="15180"/>
                  <a:pt x="4713" y="15180"/>
                </a:cubicBezTo>
              </a:path>
              <a:path w="4293" h="1093">
                <a:moveTo>
                  <a:pt x="4787" y="14957"/>
                </a:moveTo>
                <a:cubicBezTo>
                  <a:pt x="4808" y="15136"/>
                  <a:pt x="4858" y="15305"/>
                  <a:pt x="4911" y="15478"/>
                </a:cubicBezTo>
                <a:cubicBezTo>
                  <a:pt x="4859" y="15321"/>
                  <a:pt x="4799" y="15135"/>
                  <a:pt x="4837" y="14957"/>
                </a:cubicBezTo>
                <a:cubicBezTo>
                  <a:pt x="4854" y="14941"/>
                  <a:pt x="4870" y="14924"/>
                  <a:pt x="4887" y="14908"/>
                </a:cubicBezTo>
                <a:cubicBezTo>
                  <a:pt x="4949" y="14935"/>
                  <a:pt x="5270" y="15169"/>
                  <a:pt x="5011" y="15230"/>
                </a:cubicBezTo>
                <a:cubicBezTo>
                  <a:pt x="4894" y="15206"/>
                  <a:pt x="4858" y="15203"/>
                  <a:pt x="4812" y="15131"/>
                </a:cubicBezTo>
              </a:path>
              <a:path w="4293" h="1093">
                <a:moveTo>
                  <a:pt x="5135" y="14684"/>
                </a:moveTo>
                <a:cubicBezTo>
                  <a:pt x="5166" y="14861"/>
                  <a:pt x="5123" y="15322"/>
                  <a:pt x="5259" y="15205"/>
                </a:cubicBezTo>
                <a:cubicBezTo>
                  <a:pt x="5267" y="15180"/>
                  <a:pt x="5275" y="15156"/>
                  <a:pt x="5283" y="15131"/>
                </a:cubicBezTo>
              </a:path>
              <a:path w="4293" h="1093">
                <a:moveTo>
                  <a:pt x="5358" y="14660"/>
                </a:moveTo>
                <a:cubicBezTo>
                  <a:pt x="5325" y="14660"/>
                  <a:pt x="5325" y="14660"/>
                  <a:pt x="5383" y="14660"/>
                </a:cubicBezTo>
              </a:path>
              <a:path w="4293" h="1093">
                <a:moveTo>
                  <a:pt x="5804" y="14585"/>
                </a:moveTo>
                <a:cubicBezTo>
                  <a:pt x="5611" y="14621"/>
                  <a:pt x="5667" y="14808"/>
                  <a:pt x="5705" y="14982"/>
                </a:cubicBezTo>
                <a:cubicBezTo>
                  <a:pt x="5744" y="15097"/>
                  <a:pt x="5760" y="15110"/>
                  <a:pt x="5755" y="15180"/>
                </a:cubicBezTo>
              </a:path>
              <a:path w="4293" h="1093">
                <a:moveTo>
                  <a:pt x="5556" y="14908"/>
                </a:moveTo>
                <a:cubicBezTo>
                  <a:pt x="5646" y="14930"/>
                  <a:pt x="5956" y="14897"/>
                  <a:pt x="6003" y="14932"/>
                </a:cubicBezTo>
                <a:cubicBezTo>
                  <a:pt x="6039" y="14959"/>
                  <a:pt x="6036" y="15084"/>
                  <a:pt x="6102" y="15131"/>
                </a:cubicBezTo>
                <a:cubicBezTo>
                  <a:pt x="6223" y="15038"/>
                  <a:pt x="6247" y="15053"/>
                  <a:pt x="6276" y="14908"/>
                </a:cubicBezTo>
                <a:cubicBezTo>
                  <a:pt x="6337" y="15113"/>
                  <a:pt x="6490" y="15392"/>
                  <a:pt x="6350" y="15602"/>
                </a:cubicBezTo>
                <a:cubicBezTo>
                  <a:pt x="6242" y="15764"/>
                  <a:pt x="6083" y="15661"/>
                  <a:pt x="5978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95880" y="5473800"/>
            <a:ext cx="1697040" cy="357120"/>
          </a:xfrm>
          <a:custGeom>
            <a:avLst/>
            <a:gdLst/>
            <a:ahLst/>
            <a:rect l="l" t="t" r="r" b="b"/>
            <a:pathLst>
              <a:path w="4714" h="993">
                <a:moveTo>
                  <a:pt x="12427" y="15627"/>
                </a:moveTo>
                <a:cubicBezTo>
                  <a:pt x="12427" y="15520"/>
                  <a:pt x="12328" y="15322"/>
                  <a:pt x="12254" y="15255"/>
                </a:cubicBezTo>
                <a:cubicBezTo>
                  <a:pt x="12212" y="15238"/>
                  <a:pt x="12171" y="15222"/>
                  <a:pt x="12129" y="15205"/>
                </a:cubicBezTo>
                <a:cubicBezTo>
                  <a:pt x="11939" y="15443"/>
                  <a:pt x="12102" y="15708"/>
                  <a:pt x="12229" y="15999"/>
                </a:cubicBezTo>
                <a:cubicBezTo>
                  <a:pt x="12257" y="16063"/>
                  <a:pt x="12312" y="16133"/>
                  <a:pt x="12328" y="16197"/>
                </a:cubicBezTo>
              </a:path>
              <a:path w="4714" h="993">
                <a:moveTo>
                  <a:pt x="11931" y="15974"/>
                </a:moveTo>
                <a:cubicBezTo>
                  <a:pt x="12092" y="15959"/>
                  <a:pt x="12489" y="15792"/>
                  <a:pt x="12626" y="15850"/>
                </a:cubicBezTo>
                <a:cubicBezTo>
                  <a:pt x="12664" y="15866"/>
                  <a:pt x="12746" y="16078"/>
                  <a:pt x="12774" y="16123"/>
                </a:cubicBezTo>
                <a:cubicBezTo>
                  <a:pt x="12759" y="16016"/>
                  <a:pt x="12704" y="15851"/>
                  <a:pt x="12774" y="15751"/>
                </a:cubicBezTo>
                <a:cubicBezTo>
                  <a:pt x="12887" y="15667"/>
                  <a:pt x="12937" y="15643"/>
                  <a:pt x="13047" y="15677"/>
                </a:cubicBezTo>
              </a:path>
              <a:path w="4714" h="993">
                <a:moveTo>
                  <a:pt x="13469" y="15825"/>
                </a:moveTo>
                <a:cubicBezTo>
                  <a:pt x="13345" y="15776"/>
                  <a:pt x="13323" y="15718"/>
                  <a:pt x="13221" y="15900"/>
                </a:cubicBezTo>
                <a:cubicBezTo>
                  <a:pt x="13179" y="16024"/>
                  <a:pt x="13154" y="16049"/>
                  <a:pt x="13196" y="16123"/>
                </a:cubicBezTo>
                <a:cubicBezTo>
                  <a:pt x="13347" y="16057"/>
                  <a:pt x="13401" y="16023"/>
                  <a:pt x="13444" y="15850"/>
                </a:cubicBezTo>
                <a:cubicBezTo>
                  <a:pt x="13504" y="15948"/>
                  <a:pt x="13666" y="16150"/>
                  <a:pt x="13816" y="16024"/>
                </a:cubicBezTo>
                <a:cubicBezTo>
                  <a:pt x="13841" y="15983"/>
                  <a:pt x="13866" y="15941"/>
                  <a:pt x="13891" y="15900"/>
                </a:cubicBezTo>
              </a:path>
              <a:path w="4714" h="993">
                <a:moveTo>
                  <a:pt x="13990" y="15825"/>
                </a:moveTo>
                <a:cubicBezTo>
                  <a:pt x="13990" y="15853"/>
                  <a:pt x="13992" y="15859"/>
                  <a:pt x="14015" y="15825"/>
                </a:cubicBezTo>
                <a:cubicBezTo>
                  <a:pt x="13888" y="15685"/>
                  <a:pt x="13795" y="15736"/>
                  <a:pt x="13791" y="15949"/>
                </a:cubicBezTo>
                <a:cubicBezTo>
                  <a:pt x="13782" y="16410"/>
                  <a:pt x="14250" y="16030"/>
                  <a:pt x="14387" y="15925"/>
                </a:cubicBezTo>
              </a:path>
              <a:path w="4714" h="993">
                <a:moveTo>
                  <a:pt x="14288" y="15404"/>
                </a:moveTo>
                <a:cubicBezTo>
                  <a:pt x="14394" y="15646"/>
                  <a:pt x="14474" y="15923"/>
                  <a:pt x="14610" y="16148"/>
                </a:cubicBezTo>
                <a:cubicBezTo>
                  <a:pt x="14610" y="16140"/>
                  <a:pt x="14610" y="16131"/>
                  <a:pt x="14610" y="16123"/>
                </a:cubicBezTo>
              </a:path>
              <a:path w="4714" h="993">
                <a:moveTo>
                  <a:pt x="14238" y="15825"/>
                </a:moveTo>
                <a:cubicBezTo>
                  <a:pt x="14482" y="15799"/>
                  <a:pt x="14729" y="15737"/>
                  <a:pt x="14883" y="15974"/>
                </a:cubicBezTo>
                <a:cubicBezTo>
                  <a:pt x="14901" y="16002"/>
                  <a:pt x="14908" y="16168"/>
                  <a:pt x="14908" y="16049"/>
                </a:cubicBezTo>
              </a:path>
              <a:path w="4714" h="993">
                <a:moveTo>
                  <a:pt x="15429" y="15801"/>
                </a:moveTo>
                <a:cubicBezTo>
                  <a:pt x="15286" y="15919"/>
                  <a:pt x="15261" y="15937"/>
                  <a:pt x="15230" y="16123"/>
                </a:cubicBezTo>
                <a:cubicBezTo>
                  <a:pt x="15374" y="16147"/>
                  <a:pt x="15705" y="16086"/>
                  <a:pt x="15602" y="15825"/>
                </a:cubicBezTo>
                <a:cubicBezTo>
                  <a:pt x="15558" y="15713"/>
                  <a:pt x="15430" y="15749"/>
                  <a:pt x="15429" y="15751"/>
                </a:cubicBezTo>
                <a:cubicBezTo>
                  <a:pt x="15627" y="15817"/>
                  <a:pt x="15705" y="15879"/>
                  <a:pt x="15825" y="16049"/>
                </a:cubicBezTo>
                <a:cubicBezTo>
                  <a:pt x="15802" y="15927"/>
                  <a:pt x="15779" y="15752"/>
                  <a:pt x="15925" y="15677"/>
                </a:cubicBezTo>
                <a:cubicBezTo>
                  <a:pt x="16212" y="15530"/>
                  <a:pt x="16125" y="15972"/>
                  <a:pt x="16222" y="16049"/>
                </a:cubicBezTo>
                <a:cubicBezTo>
                  <a:pt x="16247" y="16049"/>
                  <a:pt x="16272" y="16049"/>
                  <a:pt x="16297" y="16049"/>
                </a:cubicBezTo>
              </a:path>
              <a:path w="4714" h="993">
                <a:moveTo>
                  <a:pt x="16421" y="15553"/>
                </a:moveTo>
                <a:cubicBezTo>
                  <a:pt x="16318" y="15614"/>
                  <a:pt x="16294" y="15622"/>
                  <a:pt x="16247" y="15677"/>
                </a:cubicBezTo>
                <a:cubicBezTo>
                  <a:pt x="16437" y="15771"/>
                  <a:pt x="16548" y="15783"/>
                  <a:pt x="16644" y="15974"/>
                </a:cubicBezTo>
                <a:cubicBezTo>
                  <a:pt x="16402" y="16075"/>
                  <a:pt x="16440" y="16099"/>
                  <a:pt x="16247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84160" y="2009880"/>
            <a:ext cx="5268960" cy="1312920"/>
          </a:xfrm>
          <a:custGeom>
            <a:avLst/>
            <a:gdLst/>
            <a:ahLst/>
            <a:rect l="l" t="t" r="r" b="b"/>
            <a:pathLst>
              <a:path w="14635" h="3647">
                <a:moveTo>
                  <a:pt x="16818" y="5581"/>
                </a:moveTo>
                <a:cubicBezTo>
                  <a:pt x="16893" y="5666"/>
                  <a:pt x="17038" y="5879"/>
                  <a:pt x="17090" y="5879"/>
                </a:cubicBezTo>
              </a:path>
              <a:path w="14635" h="3647">
                <a:moveTo>
                  <a:pt x="2456" y="8880"/>
                </a:moveTo>
                <a:lnTo>
                  <a:pt x="2456" y="8880"/>
                </a:lnTo>
                <a:lnTo>
                  <a:pt x="2456" y="8880"/>
                </a:lnTo>
              </a:path>
              <a:path w="14635" h="3647">
                <a:moveTo>
                  <a:pt x="2456" y="8880"/>
                </a:moveTo>
                <a:lnTo>
                  <a:pt x="2456" y="8880"/>
                </a:lnTo>
              </a:path>
              <a:path w="14635" h="3647">
                <a:moveTo>
                  <a:pt x="2530" y="9227"/>
                </a:moveTo>
                <a:lnTo>
                  <a:pt x="2530" y="922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00800" y="1697040"/>
            <a:ext cx="1366560" cy="581040"/>
          </a:xfrm>
          <a:custGeom>
            <a:avLst/>
            <a:gdLst/>
            <a:ahLst/>
            <a:rect l="l" t="t" r="r" b="b"/>
            <a:pathLst>
              <a:path w="3796" h="1613">
                <a:moveTo>
                  <a:pt x="15701" y="4936"/>
                </a:moveTo>
                <a:cubicBezTo>
                  <a:pt x="15752" y="5020"/>
                  <a:pt x="15738" y="5307"/>
                  <a:pt x="15726" y="5432"/>
                </a:cubicBezTo>
                <a:cubicBezTo>
                  <a:pt x="15707" y="5506"/>
                  <a:pt x="15699" y="5513"/>
                  <a:pt x="15701" y="5556"/>
                </a:cubicBezTo>
              </a:path>
              <a:path w="3796" h="1613">
                <a:moveTo>
                  <a:pt x="15280" y="5606"/>
                </a:moveTo>
                <a:cubicBezTo>
                  <a:pt x="15574" y="5600"/>
                  <a:pt x="15888" y="5549"/>
                  <a:pt x="16173" y="5581"/>
                </a:cubicBezTo>
              </a:path>
              <a:path w="3796" h="1613">
                <a:moveTo>
                  <a:pt x="15577" y="5854"/>
                </a:moveTo>
                <a:cubicBezTo>
                  <a:pt x="15729" y="5836"/>
                  <a:pt x="15871" y="5829"/>
                  <a:pt x="16024" y="5829"/>
                </a:cubicBezTo>
                <a:cubicBezTo>
                  <a:pt x="15949" y="5980"/>
                  <a:pt x="15810" y="6094"/>
                  <a:pt x="15701" y="6226"/>
                </a:cubicBezTo>
                <a:cubicBezTo>
                  <a:pt x="15685" y="6251"/>
                  <a:pt x="15668" y="6275"/>
                  <a:pt x="15652" y="6300"/>
                </a:cubicBezTo>
                <a:cubicBezTo>
                  <a:pt x="15778" y="6311"/>
                  <a:pt x="16014" y="6238"/>
                  <a:pt x="16123" y="6276"/>
                </a:cubicBezTo>
                <a:cubicBezTo>
                  <a:pt x="16123" y="6300"/>
                  <a:pt x="16123" y="6308"/>
                  <a:pt x="16148" y="6300"/>
                </a:cubicBezTo>
              </a:path>
              <a:path w="3796" h="1613">
                <a:moveTo>
                  <a:pt x="17190" y="5432"/>
                </a:moveTo>
                <a:cubicBezTo>
                  <a:pt x="17035" y="5587"/>
                  <a:pt x="16938" y="5811"/>
                  <a:pt x="16818" y="6003"/>
                </a:cubicBezTo>
                <a:cubicBezTo>
                  <a:pt x="16793" y="6028"/>
                  <a:pt x="16785" y="6036"/>
                  <a:pt x="16818" y="6003"/>
                </a:cubicBezTo>
              </a:path>
              <a:path w="3796" h="1613">
                <a:moveTo>
                  <a:pt x="17562" y="5333"/>
                </a:moveTo>
                <a:cubicBezTo>
                  <a:pt x="17739" y="5274"/>
                  <a:pt x="17821" y="5238"/>
                  <a:pt x="17983" y="5333"/>
                </a:cubicBezTo>
                <a:cubicBezTo>
                  <a:pt x="17898" y="5485"/>
                  <a:pt x="17820" y="5547"/>
                  <a:pt x="17636" y="5581"/>
                </a:cubicBezTo>
                <a:cubicBezTo>
                  <a:pt x="17829" y="5517"/>
                  <a:pt x="17920" y="5528"/>
                  <a:pt x="18083" y="5631"/>
                </a:cubicBezTo>
                <a:cubicBezTo>
                  <a:pt x="18047" y="5838"/>
                  <a:pt x="17958" y="6028"/>
                  <a:pt x="17686" y="6003"/>
                </a:cubicBezTo>
                <a:cubicBezTo>
                  <a:pt x="17653" y="5986"/>
                  <a:pt x="17620" y="5970"/>
                  <a:pt x="17587" y="5953"/>
                </a:cubicBezTo>
              </a:path>
              <a:path w="3796" h="1613">
                <a:moveTo>
                  <a:pt x="18728" y="4713"/>
                </a:moveTo>
                <a:cubicBezTo>
                  <a:pt x="18754" y="4881"/>
                  <a:pt x="18777" y="5039"/>
                  <a:pt x="18777" y="5209"/>
                </a:cubicBezTo>
              </a:path>
              <a:path w="3796" h="1613">
                <a:moveTo>
                  <a:pt x="18355" y="5333"/>
                </a:moveTo>
                <a:cubicBezTo>
                  <a:pt x="18596" y="5333"/>
                  <a:pt x="18840" y="5319"/>
                  <a:pt x="19075" y="5358"/>
                </a:cubicBezTo>
              </a:path>
              <a:path w="3796" h="1613">
                <a:moveTo>
                  <a:pt x="19000" y="5482"/>
                </a:moveTo>
                <a:cubicBezTo>
                  <a:pt x="18872" y="5546"/>
                  <a:pt x="18801" y="5562"/>
                  <a:pt x="18703" y="5680"/>
                </a:cubicBezTo>
                <a:cubicBezTo>
                  <a:pt x="18786" y="5823"/>
                  <a:pt x="18934" y="5903"/>
                  <a:pt x="19050" y="6028"/>
                </a:cubicBezTo>
                <a:cubicBezTo>
                  <a:pt x="18994" y="6096"/>
                  <a:pt x="18733" y="6268"/>
                  <a:pt x="18752" y="6028"/>
                </a:cubicBezTo>
                <a:cubicBezTo>
                  <a:pt x="18759" y="5946"/>
                  <a:pt x="19025" y="5649"/>
                  <a:pt x="18976" y="5606"/>
                </a:cubicBezTo>
                <a:cubicBezTo>
                  <a:pt x="18959" y="5606"/>
                  <a:pt x="18943" y="5606"/>
                  <a:pt x="18926" y="56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55840" y="2527200"/>
            <a:ext cx="6197400" cy="500040"/>
          </a:xfrm>
          <a:custGeom>
            <a:avLst/>
            <a:gdLst/>
            <a:ahLst/>
            <a:rect l="l" t="t" r="r" b="b"/>
            <a:pathLst>
              <a:path w="17216" h="1390">
                <a:moveTo>
                  <a:pt x="4043" y="7466"/>
                </a:moveTo>
                <a:lnTo>
                  <a:pt x="4043" y="7466"/>
                </a:lnTo>
              </a:path>
              <a:path w="17216" h="1390">
                <a:moveTo>
                  <a:pt x="4242" y="7739"/>
                </a:moveTo>
                <a:lnTo>
                  <a:pt x="4242" y="7739"/>
                </a:lnTo>
              </a:path>
              <a:path w="17216" h="1390">
                <a:moveTo>
                  <a:pt x="5184" y="8409"/>
                </a:moveTo>
                <a:cubicBezTo>
                  <a:pt x="5311" y="8371"/>
                  <a:pt x="5434" y="8336"/>
                  <a:pt x="5556" y="8285"/>
                </a:cubicBezTo>
              </a:path>
              <a:path w="17216" h="1390">
                <a:moveTo>
                  <a:pt x="7888" y="7813"/>
                </a:moveTo>
                <a:cubicBezTo>
                  <a:pt x="7870" y="7991"/>
                  <a:pt x="7823" y="8151"/>
                  <a:pt x="7739" y="8310"/>
                </a:cubicBezTo>
                <a:cubicBezTo>
                  <a:pt x="7711" y="8337"/>
                  <a:pt x="7702" y="8341"/>
                  <a:pt x="7714" y="8285"/>
                </a:cubicBezTo>
              </a:path>
              <a:path w="17216" h="1390">
                <a:moveTo>
                  <a:pt x="11162" y="7739"/>
                </a:moveTo>
                <a:cubicBezTo>
                  <a:pt x="11231" y="7729"/>
                  <a:pt x="11294" y="7710"/>
                  <a:pt x="11361" y="7689"/>
                </a:cubicBezTo>
              </a:path>
              <a:path w="17216" h="1390">
                <a:moveTo>
                  <a:pt x="11187" y="7913"/>
                </a:moveTo>
                <a:cubicBezTo>
                  <a:pt x="11283" y="7908"/>
                  <a:pt x="11365" y="7900"/>
                  <a:pt x="11460" y="7888"/>
                </a:cubicBezTo>
              </a:path>
              <a:path w="17216" h="1390">
                <a:moveTo>
                  <a:pt x="15429" y="7020"/>
                </a:moveTo>
                <a:cubicBezTo>
                  <a:pt x="15463" y="7186"/>
                  <a:pt x="15503" y="7355"/>
                  <a:pt x="15478" y="7516"/>
                </a:cubicBezTo>
              </a:path>
              <a:path w="17216" h="1390">
                <a:moveTo>
                  <a:pt x="15156" y="7640"/>
                </a:moveTo>
                <a:cubicBezTo>
                  <a:pt x="15199" y="7633"/>
                  <a:pt x="15942" y="7516"/>
                  <a:pt x="15925" y="7590"/>
                </a:cubicBezTo>
                <a:cubicBezTo>
                  <a:pt x="15900" y="7615"/>
                  <a:pt x="15875" y="7640"/>
                  <a:pt x="15850" y="7665"/>
                </a:cubicBezTo>
              </a:path>
              <a:path w="17216" h="1390">
                <a:moveTo>
                  <a:pt x="16197" y="7714"/>
                </a:moveTo>
                <a:cubicBezTo>
                  <a:pt x="16259" y="7790"/>
                  <a:pt x="16425" y="8035"/>
                  <a:pt x="16470" y="8012"/>
                </a:cubicBezTo>
              </a:path>
              <a:path w="17216" h="1390">
                <a:moveTo>
                  <a:pt x="16470" y="7590"/>
                </a:moveTo>
                <a:cubicBezTo>
                  <a:pt x="16404" y="7732"/>
                  <a:pt x="16212" y="8042"/>
                  <a:pt x="16321" y="8086"/>
                </a:cubicBezTo>
              </a:path>
              <a:path w="17216" h="1390">
                <a:moveTo>
                  <a:pt x="21034" y="7615"/>
                </a:moveTo>
                <a:cubicBezTo>
                  <a:pt x="21100" y="7607"/>
                  <a:pt x="21166" y="7596"/>
                  <a:pt x="21233" y="7590"/>
                </a:cubicBezTo>
              </a:path>
              <a:path w="17216" h="1390">
                <a:moveTo>
                  <a:pt x="21034" y="7739"/>
                </a:moveTo>
                <a:cubicBezTo>
                  <a:pt x="21149" y="7716"/>
                  <a:pt x="21182" y="7707"/>
                  <a:pt x="21258" y="77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3040" y="2536920"/>
            <a:ext cx="1482840" cy="1052280"/>
          </a:xfrm>
          <a:custGeom>
            <a:avLst/>
            <a:gdLst/>
            <a:ahLst/>
            <a:rect l="l" t="t" r="r" b="b"/>
            <a:pathLst>
              <a:path w="4118" h="2927">
                <a:moveTo>
                  <a:pt x="1513" y="7714"/>
                </a:moveTo>
                <a:cubicBezTo>
                  <a:pt x="1578" y="7881"/>
                  <a:pt x="1605" y="8031"/>
                  <a:pt x="1612" y="8210"/>
                </a:cubicBezTo>
                <a:cubicBezTo>
                  <a:pt x="1612" y="8218"/>
                  <a:pt x="1612" y="8227"/>
                  <a:pt x="1612" y="8235"/>
                </a:cubicBezTo>
              </a:path>
              <a:path w="4118" h="2927">
                <a:moveTo>
                  <a:pt x="1315" y="8434"/>
                </a:moveTo>
                <a:cubicBezTo>
                  <a:pt x="1528" y="8383"/>
                  <a:pt x="1841" y="8248"/>
                  <a:pt x="2059" y="8285"/>
                </a:cubicBezTo>
                <a:cubicBezTo>
                  <a:pt x="2059" y="8293"/>
                  <a:pt x="2059" y="8302"/>
                  <a:pt x="2059" y="8310"/>
                </a:cubicBezTo>
              </a:path>
              <a:path w="4118" h="2927">
                <a:moveTo>
                  <a:pt x="1588" y="8607"/>
                </a:moveTo>
                <a:cubicBezTo>
                  <a:pt x="1679" y="8531"/>
                  <a:pt x="1781" y="8533"/>
                  <a:pt x="1910" y="8533"/>
                </a:cubicBezTo>
                <a:cubicBezTo>
                  <a:pt x="1925" y="8738"/>
                  <a:pt x="1815" y="8777"/>
                  <a:pt x="1687" y="8930"/>
                </a:cubicBezTo>
                <a:cubicBezTo>
                  <a:pt x="1670" y="8955"/>
                  <a:pt x="1654" y="8979"/>
                  <a:pt x="1637" y="9004"/>
                </a:cubicBezTo>
                <a:cubicBezTo>
                  <a:pt x="1792" y="8982"/>
                  <a:pt x="1971" y="8915"/>
                  <a:pt x="2133" y="8880"/>
                </a:cubicBezTo>
                <a:cubicBezTo>
                  <a:pt x="2227" y="8861"/>
                  <a:pt x="2247" y="8874"/>
                  <a:pt x="2282" y="8830"/>
                </a:cubicBezTo>
              </a:path>
              <a:path w="4118" h="2927">
                <a:moveTo>
                  <a:pt x="2629" y="8310"/>
                </a:moveTo>
                <a:cubicBezTo>
                  <a:pt x="2720" y="8400"/>
                  <a:pt x="2811" y="8491"/>
                  <a:pt x="2902" y="8582"/>
                </a:cubicBezTo>
              </a:path>
              <a:path w="4118" h="2927">
                <a:moveTo>
                  <a:pt x="2952" y="8161"/>
                </a:moveTo>
                <a:cubicBezTo>
                  <a:pt x="2872" y="8329"/>
                  <a:pt x="2765" y="8509"/>
                  <a:pt x="2704" y="8682"/>
                </a:cubicBezTo>
                <a:cubicBezTo>
                  <a:pt x="2712" y="8674"/>
                  <a:pt x="2721" y="8665"/>
                  <a:pt x="2729" y="8657"/>
                </a:cubicBezTo>
              </a:path>
              <a:path w="4118" h="2927">
                <a:moveTo>
                  <a:pt x="3646" y="7665"/>
                </a:moveTo>
                <a:cubicBezTo>
                  <a:pt x="3646" y="7592"/>
                  <a:pt x="3622" y="7929"/>
                  <a:pt x="3621" y="7938"/>
                </a:cubicBezTo>
                <a:cubicBezTo>
                  <a:pt x="3599" y="8073"/>
                  <a:pt x="3537" y="8279"/>
                  <a:pt x="3746" y="8285"/>
                </a:cubicBezTo>
                <a:cubicBezTo>
                  <a:pt x="3908" y="8290"/>
                  <a:pt x="4052" y="8169"/>
                  <a:pt x="4118" y="8037"/>
                </a:cubicBezTo>
                <a:cubicBezTo>
                  <a:pt x="4118" y="8009"/>
                  <a:pt x="4116" y="7998"/>
                  <a:pt x="4093" y="7987"/>
                </a:cubicBezTo>
                <a:cubicBezTo>
                  <a:pt x="3914" y="7987"/>
                  <a:pt x="3886" y="8080"/>
                  <a:pt x="3845" y="8260"/>
                </a:cubicBezTo>
                <a:cubicBezTo>
                  <a:pt x="3845" y="8295"/>
                  <a:pt x="3854" y="8308"/>
                  <a:pt x="3894" y="8310"/>
                </a:cubicBezTo>
              </a:path>
              <a:path w="4118" h="2927">
                <a:moveTo>
                  <a:pt x="3547" y="8582"/>
                </a:moveTo>
                <a:cubicBezTo>
                  <a:pt x="3834" y="8508"/>
                  <a:pt x="4126" y="8447"/>
                  <a:pt x="4415" y="8384"/>
                </a:cubicBezTo>
                <a:cubicBezTo>
                  <a:pt x="4423" y="8384"/>
                  <a:pt x="4432" y="8384"/>
                  <a:pt x="4440" y="8384"/>
                </a:cubicBezTo>
              </a:path>
              <a:path w="4118" h="2927">
                <a:moveTo>
                  <a:pt x="4068" y="8582"/>
                </a:moveTo>
                <a:cubicBezTo>
                  <a:pt x="4052" y="8709"/>
                  <a:pt x="4043" y="8825"/>
                  <a:pt x="4043" y="8954"/>
                </a:cubicBezTo>
                <a:cubicBezTo>
                  <a:pt x="4043" y="8979"/>
                  <a:pt x="4043" y="8987"/>
                  <a:pt x="4043" y="9004"/>
                </a:cubicBezTo>
              </a:path>
              <a:path w="4118" h="2927">
                <a:moveTo>
                  <a:pt x="2381" y="9004"/>
                </a:moveTo>
                <a:cubicBezTo>
                  <a:pt x="2441" y="9014"/>
                  <a:pt x="2492" y="9029"/>
                  <a:pt x="2555" y="9029"/>
                </a:cubicBezTo>
              </a:path>
              <a:path w="4118" h="2927">
                <a:moveTo>
                  <a:pt x="2803" y="8954"/>
                </a:moveTo>
                <a:cubicBezTo>
                  <a:pt x="2859" y="8917"/>
                  <a:pt x="2863" y="8900"/>
                  <a:pt x="2902" y="8905"/>
                </a:cubicBezTo>
                <a:cubicBezTo>
                  <a:pt x="2896" y="8968"/>
                  <a:pt x="2834" y="9097"/>
                  <a:pt x="2853" y="9153"/>
                </a:cubicBezTo>
                <a:cubicBezTo>
                  <a:pt x="2885" y="9244"/>
                  <a:pt x="3038" y="9080"/>
                  <a:pt x="3076" y="9054"/>
                </a:cubicBezTo>
              </a:path>
              <a:path w="4118" h="2927">
                <a:moveTo>
                  <a:pt x="4093" y="7689"/>
                </a:moveTo>
                <a:cubicBezTo>
                  <a:pt x="4093" y="7657"/>
                  <a:pt x="4159" y="7634"/>
                  <a:pt x="4192" y="7615"/>
                </a:cubicBezTo>
              </a:path>
              <a:path w="4118" h="2927">
                <a:moveTo>
                  <a:pt x="4366" y="7317"/>
                </a:moveTo>
                <a:cubicBezTo>
                  <a:pt x="4418" y="7257"/>
                  <a:pt x="4430" y="7252"/>
                  <a:pt x="4514" y="7243"/>
                </a:cubicBezTo>
                <a:cubicBezTo>
                  <a:pt x="4514" y="7310"/>
                  <a:pt x="4494" y="7401"/>
                  <a:pt x="4514" y="7441"/>
                </a:cubicBezTo>
                <a:cubicBezTo>
                  <a:pt x="4543" y="7428"/>
                  <a:pt x="4677" y="7406"/>
                  <a:pt x="4688" y="7392"/>
                </a:cubicBezTo>
                <a:cubicBezTo>
                  <a:pt x="4688" y="7384"/>
                  <a:pt x="4688" y="7375"/>
                  <a:pt x="4688" y="7367"/>
                </a:cubicBezTo>
              </a:path>
              <a:path w="4118" h="2927">
                <a:moveTo>
                  <a:pt x="1637" y="8533"/>
                </a:moveTo>
                <a:cubicBezTo>
                  <a:pt x="1890" y="8666"/>
                  <a:pt x="2166" y="8722"/>
                  <a:pt x="2431" y="8830"/>
                </a:cubicBezTo>
                <a:cubicBezTo>
                  <a:pt x="2654" y="8921"/>
                  <a:pt x="2862" y="9055"/>
                  <a:pt x="3076" y="9153"/>
                </a:cubicBezTo>
                <a:cubicBezTo>
                  <a:pt x="3084" y="9153"/>
                  <a:pt x="3093" y="9153"/>
                  <a:pt x="3101" y="9153"/>
                </a:cubicBezTo>
              </a:path>
              <a:path w="4118" h="2927">
                <a:moveTo>
                  <a:pt x="2158" y="9426"/>
                </a:moveTo>
                <a:cubicBezTo>
                  <a:pt x="2158" y="9602"/>
                  <a:pt x="2176" y="9772"/>
                  <a:pt x="2183" y="9947"/>
                </a:cubicBezTo>
                <a:cubicBezTo>
                  <a:pt x="2183" y="9971"/>
                  <a:pt x="2183" y="9979"/>
                  <a:pt x="2208" y="9971"/>
                </a:cubicBezTo>
              </a:path>
              <a:path w="4118" h="2927">
                <a:moveTo>
                  <a:pt x="3522" y="8285"/>
                </a:moveTo>
                <a:cubicBezTo>
                  <a:pt x="3551" y="8247"/>
                  <a:pt x="3735" y="8062"/>
                  <a:pt x="3820" y="7987"/>
                </a:cubicBezTo>
                <a:cubicBezTo>
                  <a:pt x="4126" y="7720"/>
                  <a:pt x="4456" y="7484"/>
                  <a:pt x="4762" y="7218"/>
                </a:cubicBezTo>
                <a:cubicBezTo>
                  <a:pt x="4801" y="7180"/>
                  <a:pt x="4803" y="7163"/>
                  <a:pt x="4837" y="7169"/>
                </a:cubicBezTo>
              </a:path>
              <a:path w="4118" h="2927">
                <a:moveTo>
                  <a:pt x="3473" y="7144"/>
                </a:moveTo>
                <a:cubicBezTo>
                  <a:pt x="3520" y="7064"/>
                  <a:pt x="3586" y="7046"/>
                  <a:pt x="3671" y="7069"/>
                </a:cubicBezTo>
                <a:cubicBezTo>
                  <a:pt x="3661" y="7195"/>
                  <a:pt x="3658" y="7207"/>
                  <a:pt x="3572" y="7293"/>
                </a:cubicBezTo>
                <a:cubicBezTo>
                  <a:pt x="3592" y="7288"/>
                  <a:pt x="3674" y="7255"/>
                  <a:pt x="3671" y="7317"/>
                </a:cubicBezTo>
                <a:cubicBezTo>
                  <a:pt x="3665" y="7426"/>
                  <a:pt x="3448" y="7543"/>
                  <a:pt x="3349" y="7516"/>
                </a:cubicBezTo>
                <a:cubicBezTo>
                  <a:pt x="3349" y="7488"/>
                  <a:pt x="3351" y="7477"/>
                  <a:pt x="3373" y="7466"/>
                </a:cubicBezTo>
              </a:path>
              <a:path w="4118" h="2927">
                <a:moveTo>
                  <a:pt x="5209" y="8210"/>
                </a:moveTo>
                <a:cubicBezTo>
                  <a:pt x="5281" y="8195"/>
                  <a:pt x="5398" y="8169"/>
                  <a:pt x="5432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01920" y="2143080"/>
            <a:ext cx="2428920" cy="1009800"/>
          </a:xfrm>
          <a:custGeom>
            <a:avLst/>
            <a:gdLst/>
            <a:ahLst/>
            <a:rect l="l" t="t" r="r" b="b"/>
            <a:pathLst>
              <a:path w="6748" h="2804">
                <a:moveTo>
                  <a:pt x="6970" y="7317"/>
                </a:moveTo>
                <a:cubicBezTo>
                  <a:pt x="6970" y="7507"/>
                  <a:pt x="7013" y="7700"/>
                  <a:pt x="6995" y="7888"/>
                </a:cubicBezTo>
                <a:cubicBezTo>
                  <a:pt x="6987" y="7913"/>
                  <a:pt x="6978" y="7937"/>
                  <a:pt x="6970" y="7962"/>
                </a:cubicBezTo>
              </a:path>
              <a:path w="6748" h="2804">
                <a:moveTo>
                  <a:pt x="6672" y="8062"/>
                </a:moveTo>
                <a:cubicBezTo>
                  <a:pt x="6816" y="8040"/>
                  <a:pt x="7130" y="7912"/>
                  <a:pt x="7268" y="7962"/>
                </a:cubicBezTo>
                <a:cubicBezTo>
                  <a:pt x="7268" y="7970"/>
                  <a:pt x="7268" y="7979"/>
                  <a:pt x="7268" y="7987"/>
                </a:cubicBezTo>
              </a:path>
              <a:path w="6748" h="2804">
                <a:moveTo>
                  <a:pt x="6970" y="8359"/>
                </a:moveTo>
                <a:cubicBezTo>
                  <a:pt x="6970" y="8428"/>
                  <a:pt x="6944" y="8755"/>
                  <a:pt x="6945" y="8756"/>
                </a:cubicBezTo>
                <a:cubicBezTo>
                  <a:pt x="6953" y="8756"/>
                  <a:pt x="6962" y="8756"/>
                  <a:pt x="6970" y="8756"/>
                </a:cubicBezTo>
              </a:path>
              <a:path w="6748" h="2804">
                <a:moveTo>
                  <a:pt x="7714" y="7863"/>
                </a:moveTo>
                <a:cubicBezTo>
                  <a:pt x="7771" y="7997"/>
                  <a:pt x="7868" y="8068"/>
                  <a:pt x="7938" y="8186"/>
                </a:cubicBezTo>
                <a:cubicBezTo>
                  <a:pt x="7938" y="8194"/>
                  <a:pt x="7938" y="8202"/>
                  <a:pt x="7938" y="8210"/>
                </a:cubicBezTo>
              </a:path>
              <a:path w="6748" h="2804">
                <a:moveTo>
                  <a:pt x="8409" y="7392"/>
                </a:moveTo>
                <a:cubicBezTo>
                  <a:pt x="8450" y="7267"/>
                  <a:pt x="8546" y="7231"/>
                  <a:pt x="8657" y="7169"/>
                </a:cubicBezTo>
                <a:cubicBezTo>
                  <a:pt x="8756" y="7334"/>
                  <a:pt x="8659" y="7339"/>
                  <a:pt x="8558" y="7466"/>
                </a:cubicBezTo>
                <a:cubicBezTo>
                  <a:pt x="8558" y="7474"/>
                  <a:pt x="8558" y="7483"/>
                  <a:pt x="8558" y="7491"/>
                </a:cubicBezTo>
                <a:cubicBezTo>
                  <a:pt x="8576" y="7435"/>
                  <a:pt x="8696" y="7469"/>
                  <a:pt x="8731" y="7516"/>
                </a:cubicBezTo>
                <a:cubicBezTo>
                  <a:pt x="8866" y="7701"/>
                  <a:pt x="8563" y="7754"/>
                  <a:pt x="8458" y="7764"/>
                </a:cubicBezTo>
                <a:cubicBezTo>
                  <a:pt x="8426" y="7764"/>
                  <a:pt x="8426" y="7764"/>
                  <a:pt x="8483" y="7764"/>
                </a:cubicBezTo>
              </a:path>
              <a:path w="6748" h="2804">
                <a:moveTo>
                  <a:pt x="8384" y="8012"/>
                </a:moveTo>
                <a:cubicBezTo>
                  <a:pt x="8520" y="7994"/>
                  <a:pt x="8696" y="7890"/>
                  <a:pt x="8830" y="7913"/>
                </a:cubicBezTo>
                <a:cubicBezTo>
                  <a:pt x="8838" y="7921"/>
                  <a:pt x="8847" y="7930"/>
                  <a:pt x="8855" y="7938"/>
                </a:cubicBezTo>
              </a:path>
              <a:path w="6748" h="2804">
                <a:moveTo>
                  <a:pt x="8756" y="8210"/>
                </a:moveTo>
                <a:cubicBezTo>
                  <a:pt x="8714" y="8366"/>
                  <a:pt x="8692" y="8520"/>
                  <a:pt x="8682" y="8682"/>
                </a:cubicBezTo>
              </a:path>
              <a:path w="6748" h="2804">
                <a:moveTo>
                  <a:pt x="9351" y="7813"/>
                </a:moveTo>
                <a:cubicBezTo>
                  <a:pt x="9437" y="7799"/>
                  <a:pt x="9514" y="7759"/>
                  <a:pt x="9599" y="7739"/>
                </a:cubicBezTo>
                <a:cubicBezTo>
                  <a:pt x="9624" y="7739"/>
                  <a:pt x="9632" y="7739"/>
                  <a:pt x="9649" y="7739"/>
                </a:cubicBezTo>
              </a:path>
              <a:path w="6748" h="2804">
                <a:moveTo>
                  <a:pt x="9351" y="8111"/>
                </a:moveTo>
                <a:cubicBezTo>
                  <a:pt x="9484" y="8101"/>
                  <a:pt x="9614" y="8070"/>
                  <a:pt x="9748" y="8062"/>
                </a:cubicBezTo>
                <a:cubicBezTo>
                  <a:pt x="9756" y="8062"/>
                  <a:pt x="9765" y="8062"/>
                  <a:pt x="9773" y="8062"/>
                </a:cubicBezTo>
              </a:path>
              <a:path w="6748" h="2804">
                <a:moveTo>
                  <a:pt x="10269" y="7193"/>
                </a:moveTo>
                <a:cubicBezTo>
                  <a:pt x="10324" y="7139"/>
                  <a:pt x="10491" y="7076"/>
                  <a:pt x="10592" y="7094"/>
                </a:cubicBezTo>
                <a:cubicBezTo>
                  <a:pt x="10645" y="7103"/>
                  <a:pt x="10420" y="7261"/>
                  <a:pt x="10393" y="7268"/>
                </a:cubicBezTo>
                <a:cubicBezTo>
                  <a:pt x="10401" y="7268"/>
                  <a:pt x="10410" y="7268"/>
                  <a:pt x="10418" y="7268"/>
                </a:cubicBezTo>
                <a:cubicBezTo>
                  <a:pt x="10515" y="7256"/>
                  <a:pt x="10823" y="7252"/>
                  <a:pt x="10641" y="7441"/>
                </a:cubicBezTo>
                <a:cubicBezTo>
                  <a:pt x="10540" y="7545"/>
                  <a:pt x="10439" y="7533"/>
                  <a:pt x="10319" y="7516"/>
                </a:cubicBezTo>
              </a:path>
              <a:path w="6748" h="2804">
                <a:moveTo>
                  <a:pt x="10195" y="7739"/>
                </a:moveTo>
                <a:cubicBezTo>
                  <a:pt x="10404" y="7718"/>
                  <a:pt x="10605" y="7693"/>
                  <a:pt x="10815" y="7689"/>
                </a:cubicBezTo>
                <a:cubicBezTo>
                  <a:pt x="10902" y="7687"/>
                  <a:pt x="10946" y="7661"/>
                  <a:pt x="10964" y="7714"/>
                </a:cubicBezTo>
              </a:path>
              <a:path w="6748" h="2804">
                <a:moveTo>
                  <a:pt x="10542" y="8037"/>
                </a:moveTo>
                <a:cubicBezTo>
                  <a:pt x="10542" y="8012"/>
                  <a:pt x="10542" y="8004"/>
                  <a:pt x="10542" y="7987"/>
                </a:cubicBezTo>
                <a:cubicBezTo>
                  <a:pt x="10542" y="8114"/>
                  <a:pt x="10560" y="8233"/>
                  <a:pt x="10567" y="8359"/>
                </a:cubicBezTo>
                <a:cubicBezTo>
                  <a:pt x="10570" y="8415"/>
                  <a:pt x="10567" y="8476"/>
                  <a:pt x="10567" y="8533"/>
                </a:cubicBezTo>
              </a:path>
              <a:path w="6748" h="2804">
                <a:moveTo>
                  <a:pt x="11881" y="7590"/>
                </a:moveTo>
                <a:cubicBezTo>
                  <a:pt x="11802" y="7590"/>
                  <a:pt x="11979" y="7538"/>
                  <a:pt x="12055" y="7516"/>
                </a:cubicBezTo>
                <a:cubicBezTo>
                  <a:pt x="12163" y="7494"/>
                  <a:pt x="12190" y="7481"/>
                  <a:pt x="12254" y="7516"/>
                </a:cubicBezTo>
                <a:cubicBezTo>
                  <a:pt x="12228" y="7736"/>
                  <a:pt x="12178" y="7769"/>
                  <a:pt x="11981" y="7863"/>
                </a:cubicBezTo>
                <a:cubicBezTo>
                  <a:pt x="11891" y="7818"/>
                  <a:pt x="12275" y="7781"/>
                  <a:pt x="12303" y="7789"/>
                </a:cubicBezTo>
                <a:cubicBezTo>
                  <a:pt x="12618" y="7876"/>
                  <a:pt x="12249" y="8132"/>
                  <a:pt x="12129" y="8161"/>
                </a:cubicBezTo>
                <a:cubicBezTo>
                  <a:pt x="12051" y="8161"/>
                  <a:pt x="12033" y="8176"/>
                  <a:pt x="12005" y="8136"/>
                </a:cubicBezTo>
              </a:path>
              <a:path w="6748" h="2804">
                <a:moveTo>
                  <a:pt x="12948" y="5953"/>
                </a:moveTo>
                <a:cubicBezTo>
                  <a:pt x="13123" y="6215"/>
                  <a:pt x="13094" y="6319"/>
                  <a:pt x="13072" y="6623"/>
                </a:cubicBezTo>
                <a:cubicBezTo>
                  <a:pt x="13049" y="6941"/>
                  <a:pt x="13446" y="6949"/>
                  <a:pt x="13419" y="7218"/>
                </a:cubicBezTo>
                <a:cubicBezTo>
                  <a:pt x="13377" y="7644"/>
                  <a:pt x="13115" y="7884"/>
                  <a:pt x="13171" y="8334"/>
                </a:cubicBezTo>
                <a:cubicBezTo>
                  <a:pt x="13188" y="8471"/>
                  <a:pt x="13196" y="8594"/>
                  <a:pt x="13196" y="8731"/>
                </a:cubicBezTo>
              </a:path>
              <a:path w="6748" h="2804">
                <a:moveTo>
                  <a:pt x="11609" y="8310"/>
                </a:moveTo>
                <a:cubicBezTo>
                  <a:pt x="11662" y="8363"/>
                  <a:pt x="11671" y="8392"/>
                  <a:pt x="11733" y="8434"/>
                </a:cubicBezTo>
                <a:cubicBezTo>
                  <a:pt x="11993" y="8609"/>
                  <a:pt x="12319" y="8639"/>
                  <a:pt x="12601" y="8483"/>
                </a:cubicBezTo>
                <a:cubicBezTo>
                  <a:pt x="12850" y="8345"/>
                  <a:pt x="12957" y="8034"/>
                  <a:pt x="12923" y="7764"/>
                </a:cubicBezTo>
                <a:cubicBezTo>
                  <a:pt x="12895" y="7541"/>
                  <a:pt x="12716" y="7322"/>
                  <a:pt x="12526" y="7218"/>
                </a:cubicBezTo>
                <a:cubicBezTo>
                  <a:pt x="12326" y="7109"/>
                  <a:pt x="12054" y="7071"/>
                  <a:pt x="11832" y="7119"/>
                </a:cubicBezTo>
                <a:cubicBezTo>
                  <a:pt x="11530" y="7184"/>
                  <a:pt x="11447" y="7454"/>
                  <a:pt x="11435" y="7739"/>
                </a:cubicBezTo>
                <a:cubicBezTo>
                  <a:pt x="11421" y="8081"/>
                  <a:pt x="11579" y="8324"/>
                  <a:pt x="11881" y="8458"/>
                </a:cubicBezTo>
                <a:cubicBezTo>
                  <a:pt x="11955" y="8477"/>
                  <a:pt x="11962" y="8485"/>
                  <a:pt x="12005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86680" y="2554200"/>
            <a:ext cx="285480" cy="285840"/>
          </a:xfrm>
          <a:custGeom>
            <a:avLst/>
            <a:gdLst/>
            <a:ahLst/>
            <a:rect l="l" t="t" r="r" b="b"/>
            <a:pathLst>
              <a:path w="795" h="795">
                <a:moveTo>
                  <a:pt x="17636" y="7119"/>
                </a:moveTo>
                <a:cubicBezTo>
                  <a:pt x="17636" y="7044"/>
                  <a:pt x="17587" y="7390"/>
                  <a:pt x="17587" y="7392"/>
                </a:cubicBezTo>
                <a:cubicBezTo>
                  <a:pt x="17598" y="7598"/>
                  <a:pt x="17723" y="7688"/>
                  <a:pt x="17884" y="7516"/>
                </a:cubicBezTo>
                <a:cubicBezTo>
                  <a:pt x="17926" y="7433"/>
                  <a:pt x="17951" y="7417"/>
                  <a:pt x="17909" y="7367"/>
                </a:cubicBezTo>
                <a:cubicBezTo>
                  <a:pt x="17677" y="7410"/>
                  <a:pt x="17675" y="7569"/>
                  <a:pt x="17686" y="7813"/>
                </a:cubicBezTo>
              </a:path>
              <a:path w="795" h="795">
                <a:moveTo>
                  <a:pt x="17462" y="7888"/>
                </a:moveTo>
                <a:cubicBezTo>
                  <a:pt x="17721" y="7855"/>
                  <a:pt x="18044" y="7756"/>
                  <a:pt x="18256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16840" y="2455920"/>
            <a:ext cx="295200" cy="527040"/>
          </a:xfrm>
          <a:custGeom>
            <a:avLst/>
            <a:gdLst/>
            <a:ahLst/>
            <a:rect l="l" t="t" r="r" b="b"/>
            <a:pathLst>
              <a:path w="820" h="1465">
                <a:moveTo>
                  <a:pt x="19918" y="6821"/>
                </a:moveTo>
                <a:cubicBezTo>
                  <a:pt x="19905" y="6955"/>
                  <a:pt x="19813" y="7329"/>
                  <a:pt x="19993" y="7417"/>
                </a:cubicBezTo>
                <a:cubicBezTo>
                  <a:pt x="20140" y="7489"/>
                  <a:pt x="20276" y="7297"/>
                  <a:pt x="20365" y="7218"/>
                </a:cubicBezTo>
                <a:cubicBezTo>
                  <a:pt x="20365" y="7029"/>
                  <a:pt x="20108" y="7502"/>
                  <a:pt x="20092" y="7541"/>
                </a:cubicBezTo>
              </a:path>
              <a:path w="820" h="1465">
                <a:moveTo>
                  <a:pt x="19769" y="7590"/>
                </a:moveTo>
                <a:cubicBezTo>
                  <a:pt x="19952" y="7590"/>
                  <a:pt x="20107" y="7589"/>
                  <a:pt x="20290" y="7541"/>
                </a:cubicBezTo>
                <a:cubicBezTo>
                  <a:pt x="20402" y="7512"/>
                  <a:pt x="20627" y="7395"/>
                  <a:pt x="20563" y="7491"/>
                </a:cubicBezTo>
              </a:path>
              <a:path w="820" h="1465">
                <a:moveTo>
                  <a:pt x="20067" y="7888"/>
                </a:moveTo>
                <a:cubicBezTo>
                  <a:pt x="20103" y="7816"/>
                  <a:pt x="20185" y="7820"/>
                  <a:pt x="20265" y="7813"/>
                </a:cubicBezTo>
                <a:cubicBezTo>
                  <a:pt x="20393" y="8026"/>
                  <a:pt x="20182" y="8069"/>
                  <a:pt x="20042" y="8210"/>
                </a:cubicBezTo>
                <a:cubicBezTo>
                  <a:pt x="20026" y="8235"/>
                  <a:pt x="20009" y="8260"/>
                  <a:pt x="19993" y="8285"/>
                </a:cubicBezTo>
                <a:cubicBezTo>
                  <a:pt x="20093" y="8261"/>
                  <a:pt x="20187" y="8235"/>
                  <a:pt x="20290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759800" y="2598840"/>
            <a:ext cx="152280" cy="258840"/>
          </a:xfrm>
          <a:custGeom>
            <a:avLst/>
            <a:gdLst/>
            <a:ahLst/>
            <a:rect l="l" t="t" r="r" b="b"/>
            <a:pathLst>
              <a:path w="423" h="721">
                <a:moveTo>
                  <a:pt x="21555" y="7392"/>
                </a:moveTo>
                <a:cubicBezTo>
                  <a:pt x="21669" y="7307"/>
                  <a:pt x="21770" y="7247"/>
                  <a:pt x="21903" y="7218"/>
                </a:cubicBezTo>
                <a:cubicBezTo>
                  <a:pt x="21856" y="7376"/>
                  <a:pt x="21796" y="7459"/>
                  <a:pt x="21704" y="7590"/>
                </a:cubicBezTo>
                <a:cubicBezTo>
                  <a:pt x="21821" y="7524"/>
                  <a:pt x="22008" y="7548"/>
                  <a:pt x="21977" y="7739"/>
                </a:cubicBezTo>
                <a:cubicBezTo>
                  <a:pt x="21953" y="7889"/>
                  <a:pt x="21804" y="7938"/>
                  <a:pt x="21679" y="7938"/>
                </a:cubicBezTo>
                <a:cubicBezTo>
                  <a:pt x="21671" y="7938"/>
                  <a:pt x="21662" y="7938"/>
                  <a:pt x="21654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46880" y="2759040"/>
            <a:ext cx="393480" cy="295200"/>
          </a:xfrm>
          <a:custGeom>
            <a:avLst/>
            <a:gdLst/>
            <a:ahLst/>
            <a:rect l="l" t="t" r="r" b="b"/>
            <a:pathLst>
              <a:path w="1092" h="819">
                <a:moveTo>
                  <a:pt x="17909" y="8086"/>
                </a:moveTo>
                <a:cubicBezTo>
                  <a:pt x="17938" y="8218"/>
                  <a:pt x="17932" y="8375"/>
                  <a:pt x="17959" y="8483"/>
                </a:cubicBezTo>
              </a:path>
              <a:path w="1092" h="819">
                <a:moveTo>
                  <a:pt x="18752" y="7714"/>
                </a:moveTo>
                <a:cubicBezTo>
                  <a:pt x="18832" y="7668"/>
                  <a:pt x="18896" y="7641"/>
                  <a:pt x="18951" y="7714"/>
                </a:cubicBezTo>
              </a:path>
              <a:path w="1092" h="819">
                <a:moveTo>
                  <a:pt x="18678" y="7888"/>
                </a:moveTo>
                <a:cubicBezTo>
                  <a:pt x="18818" y="7853"/>
                  <a:pt x="18892" y="7835"/>
                  <a:pt x="19000" y="7813"/>
                </a:cubicBezTo>
              </a:path>
              <a:path w="1092" h="819">
                <a:moveTo>
                  <a:pt x="19000" y="7813"/>
                </a:moveTo>
                <a:lnTo>
                  <a:pt x="19000" y="781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00800" y="2919240"/>
            <a:ext cx="250560" cy="125640"/>
          </a:xfrm>
          <a:custGeom>
            <a:avLst/>
            <a:gdLst/>
            <a:ahLst/>
            <a:rect l="l" t="t" r="r" b="b"/>
            <a:pathLst>
              <a:path w="695" h="348">
                <a:moveTo>
                  <a:pt x="15280" y="8186"/>
                </a:moveTo>
                <a:cubicBezTo>
                  <a:pt x="15416" y="8132"/>
                  <a:pt x="15483" y="8120"/>
                  <a:pt x="15627" y="8136"/>
                </a:cubicBezTo>
                <a:cubicBezTo>
                  <a:pt x="15535" y="8262"/>
                  <a:pt x="15420" y="8354"/>
                  <a:pt x="15304" y="8458"/>
                </a:cubicBezTo>
                <a:cubicBezTo>
                  <a:pt x="15581" y="8429"/>
                  <a:pt x="15748" y="8399"/>
                  <a:pt x="15974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Students will multiply fractions using models and equa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te ¾ of the pack of 12 gum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/5 of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 of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Students will multiply fractions using models and equa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to the gard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½ of the plants in the garden are roses, and ¼ of the roses are yellow; what fraction of the plants would be yellow ro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31880" y="2017800"/>
            <a:ext cx="2581200" cy="608040"/>
          </a:xfrm>
          <a:custGeom>
            <a:avLst/>
            <a:gdLst/>
            <a:ahLst/>
            <a:rect l="l" t="t" r="r" b="b"/>
            <a:pathLst>
              <a:path w="7170" h="1688">
                <a:moveTo>
                  <a:pt x="2034" y="7243"/>
                </a:moveTo>
                <a:cubicBezTo>
                  <a:pt x="2386" y="7243"/>
                  <a:pt x="2727" y="7275"/>
                  <a:pt x="3076" y="7293"/>
                </a:cubicBezTo>
                <a:cubicBezTo>
                  <a:pt x="3423" y="7311"/>
                  <a:pt x="3775" y="7285"/>
                  <a:pt x="4118" y="7268"/>
                </a:cubicBezTo>
                <a:cubicBezTo>
                  <a:pt x="4341" y="7257"/>
                  <a:pt x="4565" y="7247"/>
                  <a:pt x="4787" y="7243"/>
                </a:cubicBezTo>
                <a:cubicBezTo>
                  <a:pt x="4963" y="7240"/>
                  <a:pt x="5133" y="7222"/>
                  <a:pt x="5308" y="7218"/>
                </a:cubicBezTo>
                <a:cubicBezTo>
                  <a:pt x="5456" y="7215"/>
                  <a:pt x="5607" y="7206"/>
                  <a:pt x="5755" y="7193"/>
                </a:cubicBezTo>
                <a:cubicBezTo>
                  <a:pt x="5889" y="7182"/>
                  <a:pt x="6017" y="7171"/>
                  <a:pt x="6152" y="7169"/>
                </a:cubicBezTo>
                <a:cubicBezTo>
                  <a:pt x="6294" y="7167"/>
                  <a:pt x="6436" y="7151"/>
                  <a:pt x="6573" y="7144"/>
                </a:cubicBezTo>
                <a:cubicBezTo>
                  <a:pt x="6895" y="7129"/>
                  <a:pt x="7221" y="7133"/>
                  <a:pt x="7541" y="7119"/>
                </a:cubicBezTo>
                <a:cubicBezTo>
                  <a:pt x="7723" y="7111"/>
                  <a:pt x="7906" y="7103"/>
                  <a:pt x="8086" y="7094"/>
                </a:cubicBezTo>
                <a:cubicBezTo>
                  <a:pt x="8311" y="7083"/>
                  <a:pt x="8535" y="7109"/>
                  <a:pt x="8756" y="7119"/>
                </a:cubicBezTo>
                <a:cubicBezTo>
                  <a:pt x="8848" y="7123"/>
                  <a:pt x="8980" y="7091"/>
                  <a:pt x="9054" y="7094"/>
                </a:cubicBezTo>
                <a:cubicBezTo>
                  <a:pt x="9105" y="7096"/>
                  <a:pt x="9134" y="7115"/>
                  <a:pt x="9178" y="7119"/>
                </a:cubicBezTo>
                <a:cubicBezTo>
                  <a:pt x="9186" y="7119"/>
                  <a:pt x="9195" y="7119"/>
                  <a:pt x="9203" y="7119"/>
                </a:cubicBezTo>
              </a:path>
              <a:path w="7170" h="1688">
                <a:moveTo>
                  <a:pt x="2034" y="5779"/>
                </a:moveTo>
                <a:cubicBezTo>
                  <a:pt x="2080" y="5719"/>
                  <a:pt x="2150" y="5730"/>
                  <a:pt x="2232" y="5730"/>
                </a:cubicBezTo>
                <a:cubicBezTo>
                  <a:pt x="2314" y="5730"/>
                  <a:pt x="2381" y="5715"/>
                  <a:pt x="2456" y="5705"/>
                </a:cubicBezTo>
                <a:cubicBezTo>
                  <a:pt x="2523" y="5696"/>
                  <a:pt x="2598" y="5691"/>
                  <a:pt x="2654" y="5680"/>
                </a:cubicBezTo>
                <a:cubicBezTo>
                  <a:pt x="2721" y="5667"/>
                  <a:pt x="2737" y="5685"/>
                  <a:pt x="2803" y="5655"/>
                </a:cubicBezTo>
                <a:cubicBezTo>
                  <a:pt x="2854" y="5632"/>
                  <a:pt x="2874" y="5631"/>
                  <a:pt x="2927" y="5631"/>
                </a:cubicBezTo>
                <a:cubicBezTo>
                  <a:pt x="2970" y="5631"/>
                  <a:pt x="2965" y="5641"/>
                  <a:pt x="2977" y="56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08080" y="3652920"/>
            <a:ext cx="357120" cy="722160"/>
          </a:xfrm>
          <a:custGeom>
            <a:avLst/>
            <a:gdLst/>
            <a:ahLst/>
            <a:rect l="l" t="t" r="r" b="b"/>
            <a:pathLst>
              <a:path w="993" h="2010">
                <a:moveTo>
                  <a:pt x="3597" y="10145"/>
                </a:moveTo>
                <a:cubicBezTo>
                  <a:pt x="3661" y="10167"/>
                  <a:pt x="3621" y="10440"/>
                  <a:pt x="3621" y="10443"/>
                </a:cubicBezTo>
                <a:cubicBezTo>
                  <a:pt x="3612" y="10600"/>
                  <a:pt x="3751" y="10896"/>
                  <a:pt x="3597" y="10864"/>
                </a:cubicBezTo>
                <a:cubicBezTo>
                  <a:pt x="3589" y="10864"/>
                  <a:pt x="3580" y="10864"/>
                  <a:pt x="3572" y="10864"/>
                </a:cubicBezTo>
              </a:path>
              <a:path w="993" h="2010">
                <a:moveTo>
                  <a:pt x="3076" y="11063"/>
                </a:moveTo>
                <a:cubicBezTo>
                  <a:pt x="3383" y="11052"/>
                  <a:pt x="3687" y="11019"/>
                  <a:pt x="3994" y="11013"/>
                </a:cubicBezTo>
                <a:cubicBezTo>
                  <a:pt x="4019" y="11013"/>
                  <a:pt x="4043" y="11013"/>
                  <a:pt x="4068" y="11013"/>
                </a:cubicBezTo>
              </a:path>
              <a:path w="993" h="2010">
                <a:moveTo>
                  <a:pt x="3597" y="11460"/>
                </a:moveTo>
                <a:cubicBezTo>
                  <a:pt x="3557" y="11560"/>
                  <a:pt x="3513" y="11657"/>
                  <a:pt x="3473" y="11757"/>
                </a:cubicBezTo>
                <a:cubicBezTo>
                  <a:pt x="3640" y="11780"/>
                  <a:pt x="3800" y="11782"/>
                  <a:pt x="3969" y="11782"/>
                </a:cubicBezTo>
              </a:path>
              <a:path w="993" h="2010">
                <a:moveTo>
                  <a:pt x="3944" y="11361"/>
                </a:moveTo>
                <a:cubicBezTo>
                  <a:pt x="3902" y="11621"/>
                  <a:pt x="3870" y="11865"/>
                  <a:pt x="3870" y="12129"/>
                </a:cubicBezTo>
                <a:cubicBezTo>
                  <a:pt x="3870" y="12137"/>
                  <a:pt x="3870" y="12146"/>
                  <a:pt x="3870" y="121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04960" y="3687840"/>
            <a:ext cx="376200" cy="384120"/>
          </a:xfrm>
          <a:custGeom>
            <a:avLst/>
            <a:gdLst/>
            <a:ahLst/>
            <a:rect l="l" t="t" r="r" b="b"/>
            <a:pathLst>
              <a:path w="1042" h="1068">
                <a:moveTo>
                  <a:pt x="4961" y="10815"/>
                </a:moveTo>
                <a:cubicBezTo>
                  <a:pt x="4748" y="10988"/>
                  <a:pt x="4740" y="11074"/>
                  <a:pt x="4812" y="11311"/>
                </a:cubicBezTo>
                <a:cubicBezTo>
                  <a:pt x="5051" y="11240"/>
                  <a:pt x="5318" y="11113"/>
                  <a:pt x="5060" y="10840"/>
                </a:cubicBezTo>
                <a:cubicBezTo>
                  <a:pt x="4946" y="10771"/>
                  <a:pt x="4899" y="10756"/>
                  <a:pt x="4986" y="10666"/>
                </a:cubicBezTo>
              </a:path>
              <a:path w="1042" h="1068">
                <a:moveTo>
                  <a:pt x="5531" y="10244"/>
                </a:moveTo>
                <a:cubicBezTo>
                  <a:pt x="5329" y="10410"/>
                  <a:pt x="5429" y="10665"/>
                  <a:pt x="5482" y="10914"/>
                </a:cubicBezTo>
                <a:cubicBezTo>
                  <a:pt x="5512" y="11058"/>
                  <a:pt x="5556" y="11118"/>
                  <a:pt x="5507" y="11237"/>
                </a:cubicBezTo>
              </a:path>
              <a:path w="1042" h="1068">
                <a:moveTo>
                  <a:pt x="5283" y="10790"/>
                </a:moveTo>
                <a:cubicBezTo>
                  <a:pt x="5453" y="10784"/>
                  <a:pt x="5613" y="10766"/>
                  <a:pt x="5779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11280" y="3705120"/>
            <a:ext cx="847800" cy="260280"/>
          </a:xfrm>
          <a:custGeom>
            <a:avLst/>
            <a:gdLst/>
            <a:ahLst/>
            <a:rect l="l" t="t" r="r" b="b"/>
            <a:pathLst>
              <a:path w="2358" h="720">
                <a:moveTo>
                  <a:pt x="6697" y="10542"/>
                </a:moveTo>
                <a:cubicBezTo>
                  <a:pt x="6702" y="10665"/>
                  <a:pt x="6722" y="10963"/>
                  <a:pt x="6722" y="10988"/>
                </a:cubicBezTo>
                <a:cubicBezTo>
                  <a:pt x="6741" y="10758"/>
                  <a:pt x="6746" y="10475"/>
                  <a:pt x="7020" y="10393"/>
                </a:cubicBezTo>
                <a:cubicBezTo>
                  <a:pt x="7126" y="10361"/>
                  <a:pt x="7301" y="10385"/>
                  <a:pt x="7417" y="10368"/>
                </a:cubicBezTo>
              </a:path>
              <a:path w="2358" h="720">
                <a:moveTo>
                  <a:pt x="7367" y="10393"/>
                </a:moveTo>
                <a:cubicBezTo>
                  <a:pt x="7237" y="10639"/>
                  <a:pt x="7190" y="10721"/>
                  <a:pt x="7218" y="10988"/>
                </a:cubicBezTo>
                <a:cubicBezTo>
                  <a:pt x="7430" y="10904"/>
                  <a:pt x="7779" y="10664"/>
                  <a:pt x="7491" y="10393"/>
                </a:cubicBezTo>
                <a:cubicBezTo>
                  <a:pt x="7392" y="10373"/>
                  <a:pt x="7376" y="10365"/>
                  <a:pt x="7317" y="10368"/>
                </a:cubicBezTo>
              </a:path>
              <a:path w="2358" h="720">
                <a:moveTo>
                  <a:pt x="7838" y="10368"/>
                </a:moveTo>
                <a:cubicBezTo>
                  <a:pt x="7709" y="10390"/>
                  <a:pt x="7677" y="10386"/>
                  <a:pt x="7615" y="10443"/>
                </a:cubicBezTo>
                <a:cubicBezTo>
                  <a:pt x="7677" y="10505"/>
                  <a:pt x="8076" y="10739"/>
                  <a:pt x="7962" y="10840"/>
                </a:cubicBezTo>
                <a:cubicBezTo>
                  <a:pt x="7615" y="11146"/>
                  <a:pt x="7600" y="10771"/>
                  <a:pt x="7764" y="10542"/>
                </a:cubicBezTo>
              </a:path>
              <a:path w="2358" h="720">
                <a:moveTo>
                  <a:pt x="8062" y="10443"/>
                </a:moveTo>
                <a:cubicBezTo>
                  <a:pt x="8175" y="10427"/>
                  <a:pt x="8302" y="10411"/>
                  <a:pt x="8409" y="10368"/>
                </a:cubicBezTo>
                <a:cubicBezTo>
                  <a:pt x="8401" y="10368"/>
                  <a:pt x="8392" y="10368"/>
                  <a:pt x="8384" y="10368"/>
                </a:cubicBezTo>
                <a:cubicBezTo>
                  <a:pt x="8266" y="10276"/>
                  <a:pt x="8066" y="10325"/>
                  <a:pt x="7987" y="10492"/>
                </a:cubicBezTo>
                <a:cubicBezTo>
                  <a:pt x="7807" y="10870"/>
                  <a:pt x="8247" y="10748"/>
                  <a:pt x="8409" y="10740"/>
                </a:cubicBezTo>
              </a:path>
              <a:path w="2358" h="720">
                <a:moveTo>
                  <a:pt x="8781" y="10294"/>
                </a:moveTo>
                <a:cubicBezTo>
                  <a:pt x="8677" y="10336"/>
                  <a:pt x="8651" y="10338"/>
                  <a:pt x="8607" y="10393"/>
                </a:cubicBezTo>
                <a:cubicBezTo>
                  <a:pt x="8753" y="10503"/>
                  <a:pt x="8907" y="10539"/>
                  <a:pt x="9054" y="10641"/>
                </a:cubicBezTo>
                <a:cubicBezTo>
                  <a:pt x="8923" y="10902"/>
                  <a:pt x="8806" y="10881"/>
                  <a:pt x="8607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55840" y="4697280"/>
            <a:ext cx="1455480" cy="500040"/>
          </a:xfrm>
          <a:custGeom>
            <a:avLst/>
            <a:gdLst/>
            <a:ahLst/>
            <a:rect l="l" t="t" r="r" b="b"/>
            <a:pathLst>
              <a:path w="4044" h="1390">
                <a:moveTo>
                  <a:pt x="4118" y="13816"/>
                </a:moveTo>
                <a:cubicBezTo>
                  <a:pt x="4084" y="13986"/>
                  <a:pt x="3985" y="14386"/>
                  <a:pt x="4068" y="14387"/>
                </a:cubicBezTo>
              </a:path>
              <a:path w="4044" h="1390">
                <a:moveTo>
                  <a:pt x="5383" y="13519"/>
                </a:moveTo>
                <a:cubicBezTo>
                  <a:pt x="5595" y="13439"/>
                  <a:pt x="5673" y="13407"/>
                  <a:pt x="5804" y="13320"/>
                </a:cubicBezTo>
              </a:path>
              <a:path w="4044" h="1390">
                <a:moveTo>
                  <a:pt x="7367" y="13196"/>
                </a:moveTo>
                <a:cubicBezTo>
                  <a:pt x="7603" y="13134"/>
                  <a:pt x="7845" y="13090"/>
                  <a:pt x="8086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77920" y="4633920"/>
            <a:ext cx="349200" cy="465120"/>
          </a:xfrm>
          <a:custGeom>
            <a:avLst/>
            <a:gdLst/>
            <a:ahLst/>
            <a:rect l="l" t="t" r="r" b="b"/>
            <a:pathLst>
              <a:path w="969" h="1290">
                <a:moveTo>
                  <a:pt x="3696" y="12898"/>
                </a:moveTo>
                <a:cubicBezTo>
                  <a:pt x="3696" y="12861"/>
                  <a:pt x="3723" y="13218"/>
                  <a:pt x="3721" y="13246"/>
                </a:cubicBezTo>
                <a:cubicBezTo>
                  <a:pt x="3702" y="13361"/>
                  <a:pt x="3693" y="13377"/>
                  <a:pt x="3696" y="13444"/>
                </a:cubicBezTo>
              </a:path>
              <a:path w="969" h="1290">
                <a:moveTo>
                  <a:pt x="3274" y="13519"/>
                </a:moveTo>
                <a:cubicBezTo>
                  <a:pt x="3597" y="13477"/>
                  <a:pt x="4313" y="13077"/>
                  <a:pt x="4242" y="13395"/>
                </a:cubicBezTo>
                <a:cubicBezTo>
                  <a:pt x="4209" y="13420"/>
                  <a:pt x="4175" y="13444"/>
                  <a:pt x="4142" y="13469"/>
                </a:cubicBezTo>
              </a:path>
              <a:path w="969" h="1290">
                <a:moveTo>
                  <a:pt x="3746" y="13841"/>
                </a:moveTo>
                <a:cubicBezTo>
                  <a:pt x="3727" y="13948"/>
                  <a:pt x="3706" y="14055"/>
                  <a:pt x="3696" y="14163"/>
                </a:cubicBezTo>
                <a:cubicBezTo>
                  <a:pt x="3852" y="14163"/>
                  <a:pt x="3967" y="14150"/>
                  <a:pt x="4118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68320" y="4687920"/>
            <a:ext cx="27648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5085" y="13444"/>
                </a:moveTo>
                <a:cubicBezTo>
                  <a:pt x="4974" y="13644"/>
                  <a:pt x="4934" y="13763"/>
                  <a:pt x="4911" y="13990"/>
                </a:cubicBezTo>
                <a:cubicBezTo>
                  <a:pt x="5094" y="14008"/>
                  <a:pt x="5500" y="13842"/>
                  <a:pt x="5333" y="13543"/>
                </a:cubicBezTo>
                <a:cubicBezTo>
                  <a:pt x="5237" y="13371"/>
                  <a:pt x="5131" y="13544"/>
                  <a:pt x="5110" y="13395"/>
                </a:cubicBezTo>
              </a:path>
              <a:path w="770" h="1018">
                <a:moveTo>
                  <a:pt x="5680" y="13047"/>
                </a:moveTo>
                <a:cubicBezTo>
                  <a:pt x="5489" y="13023"/>
                  <a:pt x="5536" y="13309"/>
                  <a:pt x="5556" y="13444"/>
                </a:cubicBezTo>
                <a:cubicBezTo>
                  <a:pt x="5569" y="13532"/>
                  <a:pt x="5689" y="13810"/>
                  <a:pt x="5606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14760" y="4527720"/>
            <a:ext cx="196560" cy="473040"/>
          </a:xfrm>
          <a:custGeom>
            <a:avLst/>
            <a:gdLst/>
            <a:ahLst/>
            <a:rect l="l" t="t" r="r" b="b"/>
            <a:pathLst>
              <a:path w="546" h="1316">
                <a:moveTo>
                  <a:pt x="7714" y="12576"/>
                </a:moveTo>
                <a:cubicBezTo>
                  <a:pt x="7714" y="12758"/>
                  <a:pt x="7714" y="12940"/>
                  <a:pt x="7714" y="13122"/>
                </a:cubicBezTo>
              </a:path>
              <a:path w="546" h="1316">
                <a:moveTo>
                  <a:pt x="7590" y="13370"/>
                </a:moveTo>
                <a:cubicBezTo>
                  <a:pt x="7720" y="13351"/>
                  <a:pt x="7810" y="13344"/>
                  <a:pt x="7938" y="13370"/>
                </a:cubicBezTo>
                <a:cubicBezTo>
                  <a:pt x="7856" y="13604"/>
                  <a:pt x="7697" y="13677"/>
                  <a:pt x="7541" y="13866"/>
                </a:cubicBezTo>
                <a:cubicBezTo>
                  <a:pt x="7541" y="13874"/>
                  <a:pt x="7541" y="13883"/>
                  <a:pt x="7541" y="13891"/>
                </a:cubicBezTo>
                <a:cubicBezTo>
                  <a:pt x="7725" y="13874"/>
                  <a:pt x="7900" y="13828"/>
                  <a:pt x="8086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31960" y="5340240"/>
            <a:ext cx="1108080" cy="490680"/>
          </a:xfrm>
          <a:custGeom>
            <a:avLst/>
            <a:gdLst/>
            <a:ahLst/>
            <a:rect l="l" t="t" r="r" b="b"/>
            <a:pathLst>
              <a:path w="3077" h="1365">
                <a:moveTo>
                  <a:pt x="5085" y="15677"/>
                </a:moveTo>
                <a:cubicBezTo>
                  <a:pt x="5007" y="15833"/>
                  <a:pt x="4965" y="16094"/>
                  <a:pt x="4812" y="16197"/>
                </a:cubicBezTo>
                <a:cubicBezTo>
                  <a:pt x="4812" y="16189"/>
                  <a:pt x="4812" y="16181"/>
                  <a:pt x="4812" y="16173"/>
                </a:cubicBezTo>
              </a:path>
              <a:path w="3077" h="1365">
                <a:moveTo>
                  <a:pt x="5308" y="15875"/>
                </a:moveTo>
                <a:cubicBezTo>
                  <a:pt x="5514" y="15797"/>
                  <a:pt x="5710" y="15727"/>
                  <a:pt x="5928" y="15701"/>
                </a:cubicBezTo>
              </a:path>
              <a:path w="3077" h="1365">
                <a:moveTo>
                  <a:pt x="6598" y="15453"/>
                </a:moveTo>
                <a:cubicBezTo>
                  <a:pt x="6703" y="15419"/>
                  <a:pt x="6799" y="15381"/>
                  <a:pt x="6896" y="15429"/>
                </a:cubicBezTo>
              </a:path>
              <a:path w="3077" h="1365">
                <a:moveTo>
                  <a:pt x="6573" y="15701"/>
                </a:moveTo>
                <a:cubicBezTo>
                  <a:pt x="6705" y="15657"/>
                  <a:pt x="6824" y="15617"/>
                  <a:pt x="6945" y="15553"/>
                </a:cubicBezTo>
              </a:path>
              <a:path w="3077" h="1365">
                <a:moveTo>
                  <a:pt x="7813" y="14833"/>
                </a:moveTo>
                <a:cubicBezTo>
                  <a:pt x="7830" y="15015"/>
                  <a:pt x="7867" y="15197"/>
                  <a:pt x="7888" y="15379"/>
                </a:cubicBezTo>
                <a:cubicBezTo>
                  <a:pt x="7888" y="15396"/>
                  <a:pt x="7888" y="15412"/>
                  <a:pt x="7888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12920" y="5446800"/>
            <a:ext cx="509400" cy="455400"/>
          </a:xfrm>
          <a:custGeom>
            <a:avLst/>
            <a:gdLst/>
            <a:ahLst/>
            <a:rect l="l" t="t" r="r" b="b"/>
            <a:pathLst>
              <a:path w="1415" h="1266">
                <a:moveTo>
                  <a:pt x="3969" y="15131"/>
                </a:moveTo>
                <a:cubicBezTo>
                  <a:pt x="3969" y="15324"/>
                  <a:pt x="3989" y="15514"/>
                  <a:pt x="3969" y="15701"/>
                </a:cubicBezTo>
              </a:path>
              <a:path w="1415" h="1266">
                <a:moveTo>
                  <a:pt x="3646" y="15801"/>
                </a:moveTo>
                <a:cubicBezTo>
                  <a:pt x="3862" y="15740"/>
                  <a:pt x="4143" y="15602"/>
                  <a:pt x="4366" y="15602"/>
                </a:cubicBezTo>
                <a:cubicBezTo>
                  <a:pt x="4374" y="15610"/>
                  <a:pt x="4382" y="15619"/>
                  <a:pt x="4390" y="15627"/>
                </a:cubicBezTo>
              </a:path>
              <a:path w="1415" h="1266">
                <a:moveTo>
                  <a:pt x="3969" y="15974"/>
                </a:moveTo>
                <a:cubicBezTo>
                  <a:pt x="3940" y="16017"/>
                  <a:pt x="3919" y="16115"/>
                  <a:pt x="3919" y="16197"/>
                </a:cubicBezTo>
                <a:cubicBezTo>
                  <a:pt x="4041" y="16173"/>
                  <a:pt x="4147" y="16124"/>
                  <a:pt x="4266" y="16073"/>
                </a:cubicBezTo>
              </a:path>
              <a:path w="1415" h="1266">
                <a:moveTo>
                  <a:pt x="4242" y="15949"/>
                </a:moveTo>
                <a:cubicBezTo>
                  <a:pt x="4229" y="16090"/>
                  <a:pt x="4162" y="16254"/>
                  <a:pt x="4192" y="16396"/>
                </a:cubicBezTo>
                <a:cubicBezTo>
                  <a:pt x="4200" y="16396"/>
                  <a:pt x="4209" y="16396"/>
                  <a:pt x="4217" y="16396"/>
                </a:cubicBezTo>
              </a:path>
              <a:path w="1415" h="1266">
                <a:moveTo>
                  <a:pt x="4762" y="15825"/>
                </a:moveTo>
                <a:cubicBezTo>
                  <a:pt x="4831" y="15884"/>
                  <a:pt x="5051" y="16098"/>
                  <a:pt x="5060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00160" y="5446800"/>
            <a:ext cx="169920" cy="447480"/>
          </a:xfrm>
          <a:custGeom>
            <a:avLst/>
            <a:gdLst/>
            <a:ahLst/>
            <a:rect l="l" t="t" r="r" b="b"/>
            <a:pathLst>
              <a:path w="473" h="1241">
                <a:moveTo>
                  <a:pt x="5556" y="15131"/>
                </a:moveTo>
                <a:cubicBezTo>
                  <a:pt x="5569" y="15331"/>
                  <a:pt x="5581" y="15525"/>
                  <a:pt x="5581" y="15726"/>
                </a:cubicBezTo>
              </a:path>
              <a:path w="473" h="1241">
                <a:moveTo>
                  <a:pt x="5581" y="16024"/>
                </a:moveTo>
                <a:cubicBezTo>
                  <a:pt x="5676" y="15989"/>
                  <a:pt x="5753" y="15980"/>
                  <a:pt x="5854" y="15974"/>
                </a:cubicBezTo>
                <a:cubicBezTo>
                  <a:pt x="5816" y="16161"/>
                  <a:pt x="5725" y="16230"/>
                  <a:pt x="5606" y="16371"/>
                </a:cubicBezTo>
                <a:cubicBezTo>
                  <a:pt x="5673" y="16349"/>
                  <a:pt x="5924" y="16280"/>
                  <a:pt x="5978" y="16222"/>
                </a:cubicBezTo>
                <a:cubicBezTo>
                  <a:pt x="5978" y="16159"/>
                  <a:pt x="5986" y="16132"/>
                  <a:pt x="6028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51120" y="5572080"/>
            <a:ext cx="241200" cy="268200"/>
          </a:xfrm>
          <a:custGeom>
            <a:avLst/>
            <a:gdLst/>
            <a:ahLst/>
            <a:rect l="l" t="t" r="r" b="b"/>
            <a:pathLst>
              <a:path w="671" h="745">
                <a:moveTo>
                  <a:pt x="7640" y="15577"/>
                </a:moveTo>
                <a:cubicBezTo>
                  <a:pt x="7866" y="15530"/>
                  <a:pt x="8079" y="15478"/>
                  <a:pt x="8310" y="15478"/>
                </a:cubicBezTo>
              </a:path>
              <a:path w="671" h="745">
                <a:moveTo>
                  <a:pt x="8111" y="15751"/>
                </a:moveTo>
                <a:cubicBezTo>
                  <a:pt x="7951" y="15766"/>
                  <a:pt x="7892" y="15781"/>
                  <a:pt x="7764" y="15875"/>
                </a:cubicBezTo>
                <a:cubicBezTo>
                  <a:pt x="7904" y="15973"/>
                  <a:pt x="8028" y="16041"/>
                  <a:pt x="8136" y="16173"/>
                </a:cubicBezTo>
                <a:cubicBezTo>
                  <a:pt x="8093" y="16187"/>
                  <a:pt x="7720" y="16283"/>
                  <a:pt x="7838" y="16098"/>
                </a:cubicBezTo>
                <a:cubicBezTo>
                  <a:pt x="7906" y="15991"/>
                  <a:pt x="8042" y="15910"/>
                  <a:pt x="8136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21000" y="5518080"/>
            <a:ext cx="573120" cy="285840"/>
          </a:xfrm>
          <a:custGeom>
            <a:avLst/>
            <a:gdLst/>
            <a:ahLst/>
            <a:rect l="l" t="t" r="r" b="b"/>
            <a:pathLst>
              <a:path w="1589" h="795">
                <a:moveTo>
                  <a:pt x="9624" y="15677"/>
                </a:moveTo>
                <a:cubicBezTo>
                  <a:pt x="9601" y="15609"/>
                  <a:pt x="9539" y="15474"/>
                  <a:pt x="9426" y="15503"/>
                </a:cubicBezTo>
                <a:cubicBezTo>
                  <a:pt x="9110" y="15583"/>
                  <a:pt x="9250" y="15968"/>
                  <a:pt x="9351" y="16123"/>
                </a:cubicBezTo>
                <a:cubicBezTo>
                  <a:pt x="9534" y="15958"/>
                  <a:pt x="9547" y="15924"/>
                  <a:pt x="9599" y="15677"/>
                </a:cubicBezTo>
                <a:cubicBezTo>
                  <a:pt x="9571" y="15747"/>
                  <a:pt x="9658" y="15938"/>
                  <a:pt x="9773" y="15925"/>
                </a:cubicBezTo>
                <a:cubicBezTo>
                  <a:pt x="9920" y="15908"/>
                  <a:pt x="9922" y="15561"/>
                  <a:pt x="9922" y="15677"/>
                </a:cubicBezTo>
                <a:cubicBezTo>
                  <a:pt x="9922" y="15718"/>
                  <a:pt x="9922" y="15760"/>
                  <a:pt x="9922" y="15801"/>
                </a:cubicBezTo>
                <a:cubicBezTo>
                  <a:pt x="9950" y="15759"/>
                  <a:pt x="9916" y="15499"/>
                  <a:pt x="10071" y="15379"/>
                </a:cubicBezTo>
                <a:cubicBezTo>
                  <a:pt x="10185" y="15333"/>
                  <a:pt x="10216" y="15314"/>
                  <a:pt x="10294" y="15354"/>
                </a:cubicBezTo>
              </a:path>
              <a:path w="1589" h="795">
                <a:moveTo>
                  <a:pt x="10418" y="15627"/>
                </a:moveTo>
                <a:cubicBezTo>
                  <a:pt x="10452" y="15608"/>
                  <a:pt x="10662" y="15583"/>
                  <a:pt x="10666" y="15577"/>
                </a:cubicBezTo>
                <a:cubicBezTo>
                  <a:pt x="10666" y="15561"/>
                  <a:pt x="10666" y="15544"/>
                  <a:pt x="10666" y="15528"/>
                </a:cubicBezTo>
                <a:cubicBezTo>
                  <a:pt x="10550" y="15361"/>
                  <a:pt x="10402" y="15392"/>
                  <a:pt x="10344" y="15627"/>
                </a:cubicBezTo>
                <a:cubicBezTo>
                  <a:pt x="10240" y="16047"/>
                  <a:pt x="10676" y="15785"/>
                  <a:pt x="10815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098960" y="5429160"/>
            <a:ext cx="928800" cy="438120"/>
          </a:xfrm>
          <a:custGeom>
            <a:avLst/>
            <a:gdLst/>
            <a:ahLst/>
            <a:rect l="l" t="t" r="r" b="b"/>
            <a:pathLst>
              <a:path w="2581" h="1217">
                <a:moveTo>
                  <a:pt x="11509" y="15404"/>
                </a:moveTo>
                <a:cubicBezTo>
                  <a:pt x="11498" y="15478"/>
                  <a:pt x="11494" y="16008"/>
                  <a:pt x="11733" y="15726"/>
                </a:cubicBezTo>
                <a:cubicBezTo>
                  <a:pt x="11784" y="15571"/>
                  <a:pt x="11799" y="15516"/>
                  <a:pt x="11757" y="15404"/>
                </a:cubicBezTo>
                <a:cubicBezTo>
                  <a:pt x="11846" y="15624"/>
                  <a:pt x="11994" y="15990"/>
                  <a:pt x="11832" y="16222"/>
                </a:cubicBezTo>
                <a:cubicBezTo>
                  <a:pt x="11637" y="16502"/>
                  <a:pt x="11433" y="16192"/>
                  <a:pt x="11385" y="16049"/>
                </a:cubicBezTo>
              </a:path>
              <a:path w="2581" h="1217">
                <a:moveTo>
                  <a:pt x="11956" y="15503"/>
                </a:moveTo>
                <a:cubicBezTo>
                  <a:pt x="12046" y="15436"/>
                  <a:pt x="12069" y="15418"/>
                  <a:pt x="12129" y="15379"/>
                </a:cubicBezTo>
                <a:cubicBezTo>
                  <a:pt x="11980" y="15379"/>
                  <a:pt x="11847" y="15470"/>
                  <a:pt x="11881" y="15652"/>
                </a:cubicBezTo>
                <a:cubicBezTo>
                  <a:pt x="11935" y="15938"/>
                  <a:pt x="12257" y="15623"/>
                  <a:pt x="12328" y="15577"/>
                </a:cubicBezTo>
              </a:path>
              <a:path w="2581" h="1217">
                <a:moveTo>
                  <a:pt x="12328" y="15106"/>
                </a:moveTo>
                <a:cubicBezTo>
                  <a:pt x="12351" y="15275"/>
                  <a:pt x="12349" y="15541"/>
                  <a:pt x="12402" y="15701"/>
                </a:cubicBezTo>
                <a:cubicBezTo>
                  <a:pt x="12410" y="15693"/>
                  <a:pt x="12419" y="15685"/>
                  <a:pt x="12427" y="15677"/>
                </a:cubicBezTo>
              </a:path>
              <a:path w="2581" h="1217">
                <a:moveTo>
                  <a:pt x="12601" y="15081"/>
                </a:moveTo>
                <a:cubicBezTo>
                  <a:pt x="12632" y="15231"/>
                  <a:pt x="12603" y="15520"/>
                  <a:pt x="12675" y="15652"/>
                </a:cubicBezTo>
                <a:cubicBezTo>
                  <a:pt x="12683" y="15644"/>
                  <a:pt x="12692" y="15635"/>
                  <a:pt x="12700" y="15627"/>
                </a:cubicBezTo>
              </a:path>
              <a:path w="2581" h="1217">
                <a:moveTo>
                  <a:pt x="12948" y="15280"/>
                </a:moveTo>
                <a:cubicBezTo>
                  <a:pt x="12792" y="15377"/>
                  <a:pt x="12816" y="15521"/>
                  <a:pt x="12874" y="15677"/>
                </a:cubicBezTo>
                <a:cubicBezTo>
                  <a:pt x="13014" y="15628"/>
                  <a:pt x="13295" y="15497"/>
                  <a:pt x="13022" y="15379"/>
                </a:cubicBezTo>
                <a:cubicBezTo>
                  <a:pt x="12981" y="15371"/>
                  <a:pt x="12939" y="15362"/>
                  <a:pt x="12898" y="15354"/>
                </a:cubicBezTo>
              </a:path>
              <a:path w="2581" h="1217">
                <a:moveTo>
                  <a:pt x="13246" y="15329"/>
                </a:moveTo>
                <a:cubicBezTo>
                  <a:pt x="13258" y="15466"/>
                  <a:pt x="13275" y="15737"/>
                  <a:pt x="13494" y="15577"/>
                </a:cubicBezTo>
                <a:cubicBezTo>
                  <a:pt x="13570" y="15475"/>
                  <a:pt x="13596" y="15439"/>
                  <a:pt x="13618" y="15354"/>
                </a:cubicBezTo>
                <a:cubicBezTo>
                  <a:pt x="13610" y="15346"/>
                  <a:pt x="13601" y="15337"/>
                  <a:pt x="13593" y="15329"/>
                </a:cubicBezTo>
                <a:cubicBezTo>
                  <a:pt x="13619" y="15482"/>
                  <a:pt x="13655" y="15680"/>
                  <a:pt x="13866" y="15577"/>
                </a:cubicBezTo>
                <a:cubicBezTo>
                  <a:pt x="14183" y="15422"/>
                  <a:pt x="13833" y="15248"/>
                  <a:pt x="13692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49880" y="5384880"/>
            <a:ext cx="804960" cy="223920"/>
          </a:xfrm>
          <a:custGeom>
            <a:avLst/>
            <a:gdLst/>
            <a:ahLst/>
            <a:rect l="l" t="t" r="r" b="b"/>
            <a:pathLst>
              <a:path w="2234" h="621">
                <a:moveTo>
                  <a:pt x="14585" y="15255"/>
                </a:moveTo>
                <a:cubicBezTo>
                  <a:pt x="14602" y="15355"/>
                  <a:pt x="14604" y="15484"/>
                  <a:pt x="14635" y="15577"/>
                </a:cubicBezTo>
                <a:cubicBezTo>
                  <a:pt x="14677" y="15705"/>
                  <a:pt x="14595" y="15281"/>
                  <a:pt x="14684" y="15180"/>
                </a:cubicBezTo>
                <a:cubicBezTo>
                  <a:pt x="14765" y="15088"/>
                  <a:pt x="14976" y="15131"/>
                  <a:pt x="15081" y="15131"/>
                </a:cubicBezTo>
              </a:path>
              <a:path w="2234" h="621">
                <a:moveTo>
                  <a:pt x="15230" y="15106"/>
                </a:moveTo>
                <a:cubicBezTo>
                  <a:pt x="15087" y="15263"/>
                  <a:pt x="15066" y="15373"/>
                  <a:pt x="15156" y="15553"/>
                </a:cubicBezTo>
                <a:cubicBezTo>
                  <a:pt x="15403" y="15470"/>
                  <a:pt x="15613" y="15351"/>
                  <a:pt x="15354" y="15106"/>
                </a:cubicBezTo>
                <a:cubicBezTo>
                  <a:pt x="15321" y="15089"/>
                  <a:pt x="15288" y="15073"/>
                  <a:pt x="15255" y="15056"/>
                </a:cubicBezTo>
              </a:path>
              <a:path w="2234" h="621">
                <a:moveTo>
                  <a:pt x="15627" y="15007"/>
                </a:moveTo>
                <a:cubicBezTo>
                  <a:pt x="15548" y="15007"/>
                  <a:pt x="15519" y="15010"/>
                  <a:pt x="15478" y="15056"/>
                </a:cubicBezTo>
                <a:cubicBezTo>
                  <a:pt x="15538" y="15188"/>
                  <a:pt x="15728" y="15254"/>
                  <a:pt x="15875" y="15354"/>
                </a:cubicBezTo>
                <a:cubicBezTo>
                  <a:pt x="15676" y="15523"/>
                  <a:pt x="15565" y="15542"/>
                  <a:pt x="15528" y="15304"/>
                </a:cubicBezTo>
              </a:path>
              <a:path w="2234" h="621">
                <a:moveTo>
                  <a:pt x="15974" y="15156"/>
                </a:moveTo>
                <a:cubicBezTo>
                  <a:pt x="16071" y="15133"/>
                  <a:pt x="16220" y="15126"/>
                  <a:pt x="16272" y="15056"/>
                </a:cubicBezTo>
                <a:cubicBezTo>
                  <a:pt x="16100" y="14989"/>
                  <a:pt x="15961" y="14998"/>
                  <a:pt x="15925" y="15230"/>
                </a:cubicBezTo>
                <a:cubicBezTo>
                  <a:pt x="15877" y="15538"/>
                  <a:pt x="16127" y="15446"/>
                  <a:pt x="16297" y="15429"/>
                </a:cubicBezTo>
              </a:path>
              <a:path w="2234" h="621">
                <a:moveTo>
                  <a:pt x="16520" y="14957"/>
                </a:moveTo>
                <a:cubicBezTo>
                  <a:pt x="16460" y="14977"/>
                  <a:pt x="16445" y="14976"/>
                  <a:pt x="16421" y="15007"/>
                </a:cubicBezTo>
                <a:cubicBezTo>
                  <a:pt x="16594" y="15065"/>
                  <a:pt x="16696" y="15150"/>
                  <a:pt x="16818" y="15280"/>
                </a:cubicBezTo>
                <a:cubicBezTo>
                  <a:pt x="16643" y="15427"/>
                  <a:pt x="16640" y="15384"/>
                  <a:pt x="16421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46840" y="2054160"/>
            <a:ext cx="1563480" cy="71640"/>
          </a:xfrm>
          <a:custGeom>
            <a:avLst/>
            <a:gdLst/>
            <a:ahLst/>
            <a:rect l="l" t="t" r="r" b="b"/>
            <a:pathLst>
              <a:path w="4342" h="200">
                <a:moveTo>
                  <a:pt x="16520" y="5705"/>
                </a:moveTo>
                <a:cubicBezTo>
                  <a:pt x="16648" y="5728"/>
                  <a:pt x="16785" y="5748"/>
                  <a:pt x="16917" y="5755"/>
                </a:cubicBezTo>
                <a:cubicBezTo>
                  <a:pt x="17213" y="5770"/>
                  <a:pt x="17514" y="5769"/>
                  <a:pt x="17810" y="5779"/>
                </a:cubicBezTo>
                <a:cubicBezTo>
                  <a:pt x="18094" y="5789"/>
                  <a:pt x="18370" y="5838"/>
                  <a:pt x="18653" y="5854"/>
                </a:cubicBezTo>
                <a:cubicBezTo>
                  <a:pt x="18909" y="5868"/>
                  <a:pt x="19167" y="5894"/>
                  <a:pt x="19422" y="5904"/>
                </a:cubicBezTo>
                <a:cubicBezTo>
                  <a:pt x="19706" y="5915"/>
                  <a:pt x="19984" y="5891"/>
                  <a:pt x="20265" y="5879"/>
                </a:cubicBezTo>
                <a:cubicBezTo>
                  <a:pt x="20457" y="5871"/>
                  <a:pt x="20643" y="5904"/>
                  <a:pt x="20836" y="5904"/>
                </a:cubicBezTo>
                <a:cubicBezTo>
                  <a:pt x="20861" y="5904"/>
                  <a:pt x="20869" y="5904"/>
                  <a:pt x="20836" y="59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Students will multiply fractions using models and equa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 of 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5 of 5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24200" y="2340000"/>
            <a:ext cx="2276640" cy="268200"/>
          </a:xfrm>
          <a:custGeom>
            <a:avLst/>
            <a:gdLst/>
            <a:ahLst/>
            <a:rect l="l" t="t" r="r" b="b"/>
            <a:pathLst>
              <a:path w="6326" h="745">
                <a:moveTo>
                  <a:pt x="10344" y="6623"/>
                </a:moveTo>
                <a:cubicBezTo>
                  <a:pt x="10573" y="6569"/>
                  <a:pt x="10810" y="6491"/>
                  <a:pt x="11038" y="6524"/>
                </a:cubicBezTo>
              </a:path>
              <a:path w="6326" h="745">
                <a:moveTo>
                  <a:pt x="11311" y="6672"/>
                </a:moveTo>
                <a:cubicBezTo>
                  <a:pt x="11392" y="6760"/>
                  <a:pt x="11465" y="6848"/>
                  <a:pt x="11534" y="6945"/>
                </a:cubicBezTo>
              </a:path>
              <a:path w="6326" h="745">
                <a:moveTo>
                  <a:pt x="11956" y="6772"/>
                </a:moveTo>
                <a:cubicBezTo>
                  <a:pt x="12155" y="6748"/>
                  <a:pt x="12442" y="6646"/>
                  <a:pt x="12526" y="6796"/>
                </a:cubicBezTo>
              </a:path>
              <a:path w="6326" h="745">
                <a:moveTo>
                  <a:pt x="12154" y="6995"/>
                </a:moveTo>
                <a:cubicBezTo>
                  <a:pt x="12108" y="7088"/>
                  <a:pt x="12051" y="7253"/>
                  <a:pt x="12254" y="7243"/>
                </a:cubicBezTo>
                <a:cubicBezTo>
                  <a:pt x="12295" y="7226"/>
                  <a:pt x="12337" y="7210"/>
                  <a:pt x="12378" y="7193"/>
                </a:cubicBezTo>
              </a:path>
              <a:path w="6326" h="745">
                <a:moveTo>
                  <a:pt x="13146" y="6821"/>
                </a:moveTo>
                <a:cubicBezTo>
                  <a:pt x="13342" y="6766"/>
                  <a:pt x="13418" y="6736"/>
                  <a:pt x="13519" y="6623"/>
                </a:cubicBezTo>
              </a:path>
              <a:path w="6326" h="745">
                <a:moveTo>
                  <a:pt x="13519" y="6623"/>
                </a:moveTo>
                <a:lnTo>
                  <a:pt x="13519" y="6623"/>
                </a:lnTo>
              </a:path>
              <a:path w="6326" h="745">
                <a:moveTo>
                  <a:pt x="14163" y="6548"/>
                </a:moveTo>
                <a:cubicBezTo>
                  <a:pt x="14368" y="6515"/>
                  <a:pt x="14558" y="6481"/>
                  <a:pt x="14759" y="6524"/>
                </a:cubicBezTo>
              </a:path>
              <a:path w="6326" h="745">
                <a:moveTo>
                  <a:pt x="15131" y="6598"/>
                </a:moveTo>
                <a:cubicBezTo>
                  <a:pt x="15206" y="6589"/>
                  <a:pt x="15278" y="6578"/>
                  <a:pt x="15354" y="6573"/>
                </a:cubicBezTo>
              </a:path>
              <a:path w="6326" h="745">
                <a:moveTo>
                  <a:pt x="15180" y="6796"/>
                </a:moveTo>
                <a:cubicBezTo>
                  <a:pt x="15321" y="6740"/>
                  <a:pt x="15380" y="6716"/>
                  <a:pt x="15478" y="6672"/>
                </a:cubicBezTo>
              </a:path>
              <a:path w="6326" h="745">
                <a:moveTo>
                  <a:pt x="15478" y="6672"/>
                </a:moveTo>
                <a:lnTo>
                  <a:pt x="15478" y="6672"/>
                </a:lnTo>
              </a:path>
              <a:path w="6326" h="745">
                <a:moveTo>
                  <a:pt x="16024" y="6648"/>
                </a:moveTo>
                <a:cubicBezTo>
                  <a:pt x="16234" y="6593"/>
                  <a:pt x="16466" y="6512"/>
                  <a:pt x="16669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97200" y="2133720"/>
            <a:ext cx="803520" cy="563400"/>
          </a:xfrm>
          <a:custGeom>
            <a:avLst/>
            <a:gdLst/>
            <a:ahLst/>
            <a:rect l="l" t="t" r="r" b="b"/>
            <a:pathLst>
              <a:path w="2234" h="1564">
                <a:moveTo>
                  <a:pt x="10468" y="6970"/>
                </a:moveTo>
                <a:cubicBezTo>
                  <a:pt x="10605" y="6945"/>
                  <a:pt x="10669" y="6929"/>
                  <a:pt x="10815" y="6945"/>
                </a:cubicBezTo>
                <a:cubicBezTo>
                  <a:pt x="10743" y="7081"/>
                  <a:pt x="10679" y="7136"/>
                  <a:pt x="10517" y="7169"/>
                </a:cubicBezTo>
                <a:cubicBezTo>
                  <a:pt x="10561" y="7169"/>
                  <a:pt x="10836" y="7132"/>
                  <a:pt x="10815" y="7243"/>
                </a:cubicBezTo>
                <a:cubicBezTo>
                  <a:pt x="10798" y="7335"/>
                  <a:pt x="10484" y="7523"/>
                  <a:pt x="10418" y="7417"/>
                </a:cubicBezTo>
                <a:cubicBezTo>
                  <a:pt x="10426" y="7392"/>
                  <a:pt x="10435" y="7367"/>
                  <a:pt x="10443" y="7342"/>
                </a:cubicBezTo>
              </a:path>
              <a:path w="2234" h="1564">
                <a:moveTo>
                  <a:pt x="11559" y="6598"/>
                </a:moveTo>
                <a:cubicBezTo>
                  <a:pt x="11497" y="6752"/>
                  <a:pt x="11434" y="6896"/>
                  <a:pt x="11361" y="7045"/>
                </a:cubicBezTo>
              </a:path>
              <a:path w="2234" h="1564">
                <a:moveTo>
                  <a:pt x="12080" y="6102"/>
                </a:moveTo>
                <a:cubicBezTo>
                  <a:pt x="12150" y="6032"/>
                  <a:pt x="12207" y="6006"/>
                  <a:pt x="12303" y="6052"/>
                </a:cubicBezTo>
                <a:cubicBezTo>
                  <a:pt x="12240" y="6170"/>
                  <a:pt x="12201" y="6198"/>
                  <a:pt x="12080" y="6276"/>
                </a:cubicBezTo>
                <a:cubicBezTo>
                  <a:pt x="12233" y="6254"/>
                  <a:pt x="12306" y="6235"/>
                  <a:pt x="12452" y="6276"/>
                </a:cubicBezTo>
                <a:cubicBezTo>
                  <a:pt x="12419" y="6450"/>
                  <a:pt x="12367" y="6513"/>
                  <a:pt x="12179" y="6548"/>
                </a:cubicBezTo>
                <a:cubicBezTo>
                  <a:pt x="12162" y="6548"/>
                  <a:pt x="12146" y="6548"/>
                  <a:pt x="12129" y="6548"/>
                </a:cubicBezTo>
              </a:path>
              <a:path w="2234" h="1564">
                <a:moveTo>
                  <a:pt x="12452" y="6945"/>
                </a:moveTo>
                <a:cubicBezTo>
                  <a:pt x="12390" y="7111"/>
                  <a:pt x="12337" y="7298"/>
                  <a:pt x="12254" y="7441"/>
                </a:cubicBezTo>
              </a:path>
              <a:path w="2234" h="1564">
                <a:moveTo>
                  <a:pt x="10443" y="7417"/>
                </a:moveTo>
                <a:cubicBezTo>
                  <a:pt x="10376" y="7436"/>
                  <a:pt x="10246" y="7557"/>
                  <a:pt x="10269" y="7491"/>
                </a:cubicBezTo>
                <a:cubicBezTo>
                  <a:pt x="10362" y="7220"/>
                  <a:pt x="10708" y="7139"/>
                  <a:pt x="10939" y="6970"/>
                </a:cubicBezTo>
                <a:cubicBezTo>
                  <a:pt x="11407" y="6629"/>
                  <a:pt x="11879" y="6297"/>
                  <a:pt x="12378" y="6003"/>
                </a:cubicBezTo>
                <a:cubicBezTo>
                  <a:pt x="12427" y="5974"/>
                  <a:pt x="12447" y="5969"/>
                  <a:pt x="12502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53040" y="2062080"/>
            <a:ext cx="169920" cy="554040"/>
          </a:xfrm>
          <a:custGeom>
            <a:avLst/>
            <a:gdLst/>
            <a:ahLst/>
            <a:rect l="l" t="t" r="r" b="b"/>
            <a:pathLst>
              <a:path w="473" h="1539">
                <a:moveTo>
                  <a:pt x="14412" y="5755"/>
                </a:moveTo>
                <a:cubicBezTo>
                  <a:pt x="14500" y="5725"/>
                  <a:pt x="14540" y="5717"/>
                  <a:pt x="14610" y="5730"/>
                </a:cubicBezTo>
                <a:cubicBezTo>
                  <a:pt x="14610" y="5938"/>
                  <a:pt x="14485" y="6047"/>
                  <a:pt x="14337" y="6201"/>
                </a:cubicBezTo>
                <a:cubicBezTo>
                  <a:pt x="14329" y="6209"/>
                  <a:pt x="14320" y="6218"/>
                  <a:pt x="14312" y="6226"/>
                </a:cubicBezTo>
                <a:cubicBezTo>
                  <a:pt x="14456" y="6218"/>
                  <a:pt x="14685" y="6172"/>
                  <a:pt x="14784" y="6201"/>
                </a:cubicBezTo>
              </a:path>
              <a:path w="473" h="1539">
                <a:moveTo>
                  <a:pt x="14436" y="6672"/>
                </a:moveTo>
                <a:cubicBezTo>
                  <a:pt x="14420" y="6764"/>
                  <a:pt x="14389" y="6853"/>
                  <a:pt x="14362" y="6945"/>
                </a:cubicBezTo>
                <a:cubicBezTo>
                  <a:pt x="14494" y="6989"/>
                  <a:pt x="14545" y="6955"/>
                  <a:pt x="14684" y="6921"/>
                </a:cubicBezTo>
              </a:path>
              <a:path w="473" h="1539">
                <a:moveTo>
                  <a:pt x="14759" y="6623"/>
                </a:moveTo>
                <a:cubicBezTo>
                  <a:pt x="14725" y="6825"/>
                  <a:pt x="14631" y="7016"/>
                  <a:pt x="14585" y="7218"/>
                </a:cubicBezTo>
                <a:cubicBezTo>
                  <a:pt x="14585" y="7235"/>
                  <a:pt x="14585" y="7251"/>
                  <a:pt x="14585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13280" y="2062080"/>
            <a:ext cx="179640" cy="536760"/>
          </a:xfrm>
          <a:custGeom>
            <a:avLst/>
            <a:gdLst/>
            <a:ahLst/>
            <a:rect l="l" t="t" r="r" b="b"/>
            <a:pathLst>
              <a:path w="497" h="1489">
                <a:moveTo>
                  <a:pt x="16421" y="5730"/>
                </a:moveTo>
                <a:cubicBezTo>
                  <a:pt x="16412" y="5945"/>
                  <a:pt x="16398" y="6144"/>
                  <a:pt x="16346" y="6350"/>
                </a:cubicBezTo>
              </a:path>
              <a:path w="497" h="1489">
                <a:moveTo>
                  <a:pt x="16197" y="6846"/>
                </a:moveTo>
                <a:cubicBezTo>
                  <a:pt x="16302" y="6846"/>
                  <a:pt x="16392" y="6853"/>
                  <a:pt x="16495" y="6871"/>
                </a:cubicBezTo>
                <a:cubicBezTo>
                  <a:pt x="16496" y="7047"/>
                  <a:pt x="16316" y="7086"/>
                  <a:pt x="16173" y="7193"/>
                </a:cubicBezTo>
                <a:cubicBezTo>
                  <a:pt x="16165" y="7201"/>
                  <a:pt x="16156" y="7210"/>
                  <a:pt x="16148" y="7218"/>
                </a:cubicBezTo>
                <a:cubicBezTo>
                  <a:pt x="16308" y="7218"/>
                  <a:pt x="16461" y="7202"/>
                  <a:pt x="16619" y="7193"/>
                </a:cubicBezTo>
                <a:cubicBezTo>
                  <a:pt x="16627" y="7193"/>
                  <a:pt x="16636" y="7193"/>
                  <a:pt x="16644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43240" y="1874880"/>
            <a:ext cx="822600" cy="1965240"/>
          </a:xfrm>
          <a:custGeom>
            <a:avLst/>
            <a:gdLst/>
            <a:ahLst/>
            <a:rect l="l" t="t" r="r" b="b"/>
            <a:pathLst>
              <a:path w="2283" h="5458">
                <a:moveTo>
                  <a:pt x="12898" y="5209"/>
                </a:moveTo>
                <a:cubicBezTo>
                  <a:pt x="12887" y="5393"/>
                  <a:pt x="12860" y="5574"/>
                  <a:pt x="12824" y="5755"/>
                </a:cubicBezTo>
              </a:path>
              <a:path w="2283" h="5458">
                <a:moveTo>
                  <a:pt x="11509" y="10666"/>
                </a:moveTo>
                <a:cubicBezTo>
                  <a:pt x="11828" y="10621"/>
                  <a:pt x="12133" y="10568"/>
                  <a:pt x="12452" y="10592"/>
                </a:cubicBezTo>
              </a:path>
              <a:path w="2283" h="5458">
                <a:moveTo>
                  <a:pt x="11857" y="9029"/>
                </a:moveTo>
                <a:cubicBezTo>
                  <a:pt x="11839" y="9241"/>
                  <a:pt x="11789" y="9444"/>
                  <a:pt x="11733" y="9649"/>
                </a:cubicBezTo>
              </a:path>
              <a:path w="2283" h="5458">
                <a:moveTo>
                  <a:pt x="13221" y="10616"/>
                </a:moveTo>
                <a:cubicBezTo>
                  <a:pt x="13420" y="10550"/>
                  <a:pt x="13598" y="10476"/>
                  <a:pt x="13791" y="10393"/>
                </a:cubicBezTo>
              </a:path>
              <a:path w="2283" h="5458">
                <a:moveTo>
                  <a:pt x="13791" y="10393"/>
                </a:moveTo>
                <a:lnTo>
                  <a:pt x="13791" y="1039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95840" y="2116080"/>
            <a:ext cx="187200" cy="152280"/>
          </a:xfrm>
          <a:custGeom>
            <a:avLst/>
            <a:gdLst/>
            <a:ahLst/>
            <a:rect l="l" t="t" r="r" b="b"/>
            <a:pathLst>
              <a:path w="522" h="422">
                <a:moveTo>
                  <a:pt x="10641" y="5978"/>
                </a:moveTo>
                <a:cubicBezTo>
                  <a:pt x="10749" y="5906"/>
                  <a:pt x="10766" y="5889"/>
                  <a:pt x="10889" y="5879"/>
                </a:cubicBezTo>
                <a:cubicBezTo>
                  <a:pt x="10842" y="6051"/>
                  <a:pt x="10720" y="6176"/>
                  <a:pt x="10567" y="6276"/>
                </a:cubicBezTo>
                <a:cubicBezTo>
                  <a:pt x="10539" y="6276"/>
                  <a:pt x="10533" y="6278"/>
                  <a:pt x="10567" y="6300"/>
                </a:cubicBezTo>
                <a:cubicBezTo>
                  <a:pt x="10733" y="6292"/>
                  <a:pt x="10896" y="6276"/>
                  <a:pt x="11063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21040" y="2776680"/>
            <a:ext cx="28800" cy="117360"/>
          </a:xfrm>
          <a:custGeom>
            <a:avLst/>
            <a:gdLst/>
            <a:ahLst/>
            <a:rect l="l" t="t" r="r" b="b"/>
            <a:pathLst>
              <a:path w="76" h="324">
                <a:moveTo>
                  <a:pt x="10691" y="7714"/>
                </a:moveTo>
                <a:cubicBezTo>
                  <a:pt x="10691" y="7824"/>
                  <a:pt x="10644" y="7931"/>
                  <a:pt x="10616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05200" y="2394000"/>
            <a:ext cx="108000" cy="27000"/>
          </a:xfrm>
          <a:custGeom>
            <a:avLst/>
            <a:gdLst/>
            <a:ahLst/>
            <a:rect l="l" t="t" r="r" b="b"/>
            <a:pathLst>
              <a:path w="299" h="75">
                <a:moveTo>
                  <a:pt x="13072" y="6722"/>
                </a:moveTo>
                <a:cubicBezTo>
                  <a:pt x="13161" y="6696"/>
                  <a:pt x="13345" y="6603"/>
                  <a:pt x="13345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43200" y="3554280"/>
            <a:ext cx="17640" cy="223920"/>
          </a:xfrm>
          <a:custGeom>
            <a:avLst/>
            <a:gdLst/>
            <a:ahLst/>
            <a:rect l="l" t="t" r="r" b="b"/>
            <a:pathLst>
              <a:path w="51" h="621">
                <a:moveTo>
                  <a:pt x="10170" y="9872"/>
                </a:moveTo>
                <a:cubicBezTo>
                  <a:pt x="10160" y="10080"/>
                  <a:pt x="10148" y="10287"/>
                  <a:pt x="10120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786120"/>
            <a:ext cx="304920" cy="44640"/>
          </a:xfrm>
          <a:custGeom>
            <a:avLst/>
            <a:gdLst/>
            <a:ahLst/>
            <a:rect l="l" t="t" r="r" b="b"/>
            <a:pathLst>
              <a:path w="844" h="125">
                <a:moveTo>
                  <a:pt x="9699" y="10641"/>
                </a:moveTo>
                <a:cubicBezTo>
                  <a:pt x="9975" y="10592"/>
                  <a:pt x="10234" y="10532"/>
                  <a:pt x="10517" y="10517"/>
                </a:cubicBezTo>
                <a:cubicBezTo>
                  <a:pt x="10564" y="10517"/>
                  <a:pt x="10560" y="10535"/>
                  <a:pt x="10492" y="105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71920" y="3867120"/>
            <a:ext cx="206280" cy="258840"/>
          </a:xfrm>
          <a:custGeom>
            <a:avLst/>
            <a:gdLst/>
            <a:ahLst/>
            <a:rect l="l" t="t" r="r" b="b"/>
            <a:pathLst>
              <a:path w="571" h="721">
                <a:moveTo>
                  <a:pt x="10344" y="10740"/>
                </a:moveTo>
                <a:cubicBezTo>
                  <a:pt x="10249" y="10775"/>
                  <a:pt x="10145" y="10791"/>
                  <a:pt x="10096" y="10864"/>
                </a:cubicBezTo>
                <a:cubicBezTo>
                  <a:pt x="10046" y="10938"/>
                  <a:pt x="10011" y="11029"/>
                  <a:pt x="9971" y="11112"/>
                </a:cubicBezTo>
                <a:cubicBezTo>
                  <a:pt x="10094" y="11097"/>
                  <a:pt x="10213" y="11001"/>
                  <a:pt x="10344" y="11038"/>
                </a:cubicBezTo>
                <a:cubicBezTo>
                  <a:pt x="10648" y="11123"/>
                  <a:pt x="10418" y="11378"/>
                  <a:pt x="10244" y="11435"/>
                </a:cubicBezTo>
                <a:cubicBezTo>
                  <a:pt x="9877" y="11555"/>
                  <a:pt x="9970" y="11396"/>
                  <a:pt x="10021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94120" y="3813120"/>
            <a:ext cx="88920" cy="98640"/>
          </a:xfrm>
          <a:custGeom>
            <a:avLst/>
            <a:gdLst/>
            <a:ahLst/>
            <a:rect l="l" t="t" r="r" b="b"/>
            <a:pathLst>
              <a:path w="249" h="273">
                <a:moveTo>
                  <a:pt x="10815" y="10592"/>
                </a:moveTo>
                <a:cubicBezTo>
                  <a:pt x="10896" y="10688"/>
                  <a:pt x="10974" y="10776"/>
                  <a:pt x="11063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84760" y="3813120"/>
            <a:ext cx="98280" cy="1350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11063" y="10592"/>
                </a:moveTo>
                <a:cubicBezTo>
                  <a:pt x="11020" y="10649"/>
                  <a:pt x="10651" y="11022"/>
                  <a:pt x="10864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41880" y="3562200"/>
            <a:ext cx="196920" cy="206640"/>
          </a:xfrm>
          <a:custGeom>
            <a:avLst/>
            <a:gdLst/>
            <a:ahLst/>
            <a:rect l="l" t="t" r="r" b="b"/>
            <a:pathLst>
              <a:path w="547" h="572">
                <a:moveTo>
                  <a:pt x="12129" y="9897"/>
                </a:moveTo>
                <a:cubicBezTo>
                  <a:pt x="11954" y="9897"/>
                  <a:pt x="11992" y="9872"/>
                  <a:pt x="11931" y="9971"/>
                </a:cubicBezTo>
                <a:cubicBezTo>
                  <a:pt x="11895" y="10030"/>
                  <a:pt x="11829" y="10111"/>
                  <a:pt x="11782" y="10170"/>
                </a:cubicBezTo>
                <a:cubicBezTo>
                  <a:pt x="11906" y="10188"/>
                  <a:pt x="12090" y="10162"/>
                  <a:pt x="12204" y="10195"/>
                </a:cubicBezTo>
                <a:cubicBezTo>
                  <a:pt x="12308" y="10257"/>
                  <a:pt x="12349" y="10259"/>
                  <a:pt x="12328" y="10344"/>
                </a:cubicBezTo>
                <a:cubicBezTo>
                  <a:pt x="12154" y="10450"/>
                  <a:pt x="12060" y="10484"/>
                  <a:pt x="11857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205160" y="3867120"/>
            <a:ext cx="189000" cy="231840"/>
          </a:xfrm>
          <a:custGeom>
            <a:avLst/>
            <a:gdLst/>
            <a:ahLst/>
            <a:rect l="l" t="t" r="r" b="b"/>
            <a:pathLst>
              <a:path w="522" h="646">
                <a:moveTo>
                  <a:pt x="12179" y="10740"/>
                </a:moveTo>
                <a:cubicBezTo>
                  <a:pt x="12037" y="10759"/>
                  <a:pt x="11940" y="10803"/>
                  <a:pt x="11807" y="10864"/>
                </a:cubicBezTo>
                <a:cubicBezTo>
                  <a:pt x="11895" y="10971"/>
                  <a:pt x="12196" y="11007"/>
                  <a:pt x="12204" y="11187"/>
                </a:cubicBezTo>
                <a:cubicBezTo>
                  <a:pt x="12219" y="11538"/>
                  <a:pt x="11766" y="11313"/>
                  <a:pt x="11683" y="11212"/>
                </a:cubicBezTo>
                <a:cubicBezTo>
                  <a:pt x="11788" y="11076"/>
                  <a:pt x="12077" y="10909"/>
                  <a:pt x="11881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3463920"/>
            <a:ext cx="1009800" cy="733320"/>
          </a:xfrm>
          <a:custGeom>
            <a:avLst/>
            <a:gdLst/>
            <a:ahLst/>
            <a:rect l="l" t="t" r="r" b="b"/>
            <a:pathLst>
              <a:path w="2804" h="2035">
                <a:moveTo>
                  <a:pt x="9525" y="11658"/>
                </a:moveTo>
                <a:cubicBezTo>
                  <a:pt x="9803" y="11511"/>
                  <a:pt x="9988" y="11313"/>
                  <a:pt x="10244" y="11112"/>
                </a:cubicBezTo>
                <a:cubicBezTo>
                  <a:pt x="10837" y="10646"/>
                  <a:pt x="11419" y="10172"/>
                  <a:pt x="12055" y="9773"/>
                </a:cubicBezTo>
                <a:cubicBezTo>
                  <a:pt x="12185" y="9691"/>
                  <a:pt x="12396" y="9511"/>
                  <a:pt x="12254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44920" y="4259160"/>
            <a:ext cx="54000" cy="162000"/>
          </a:xfrm>
          <a:custGeom>
            <a:avLst/>
            <a:gdLst/>
            <a:ahLst/>
            <a:rect l="l" t="t" r="r" b="b"/>
            <a:pathLst>
              <a:path w="150" h="447">
                <a:moveTo>
                  <a:pt x="9971" y="11832"/>
                </a:moveTo>
                <a:cubicBezTo>
                  <a:pt x="9998" y="11978"/>
                  <a:pt x="9955" y="12122"/>
                  <a:pt x="9872" y="12254"/>
                </a:cubicBezTo>
                <a:cubicBezTo>
                  <a:pt x="9829" y="12296"/>
                  <a:pt x="9832" y="12281"/>
                  <a:pt x="9897" y="121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86200" y="3714840"/>
            <a:ext cx="108000" cy="27000"/>
          </a:xfrm>
          <a:custGeom>
            <a:avLst/>
            <a:gdLst/>
            <a:ahLst/>
            <a:rect l="l" t="t" r="r" b="b"/>
            <a:pathLst>
              <a:path w="299" h="75">
                <a:moveTo>
                  <a:pt x="13295" y="10393"/>
                </a:moveTo>
                <a:cubicBezTo>
                  <a:pt x="13349" y="10384"/>
                  <a:pt x="13559" y="10297"/>
                  <a:pt x="13593" y="10319"/>
                </a:cubicBezTo>
                <a:cubicBezTo>
                  <a:pt x="13585" y="10335"/>
                  <a:pt x="13576" y="10352"/>
                  <a:pt x="13568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224320" y="3500280"/>
            <a:ext cx="34920" cy="241560"/>
          </a:xfrm>
          <a:custGeom>
            <a:avLst/>
            <a:gdLst/>
            <a:ahLst/>
            <a:rect l="l" t="t" r="r" b="b"/>
            <a:pathLst>
              <a:path w="100" h="671">
                <a:moveTo>
                  <a:pt x="14610" y="9723"/>
                </a:moveTo>
                <a:cubicBezTo>
                  <a:pt x="14602" y="9959"/>
                  <a:pt x="14571" y="10166"/>
                  <a:pt x="14511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81760" y="3751200"/>
            <a:ext cx="303120" cy="61920"/>
          </a:xfrm>
          <a:custGeom>
            <a:avLst/>
            <a:gdLst/>
            <a:ahLst/>
            <a:rect l="l" t="t" r="r" b="b"/>
            <a:pathLst>
              <a:path w="844" h="175">
                <a:moveTo>
                  <a:pt x="14114" y="10592"/>
                </a:moveTo>
                <a:cubicBezTo>
                  <a:pt x="14359" y="10528"/>
                  <a:pt x="14701" y="10379"/>
                  <a:pt x="14957" y="10418"/>
                </a:cubicBezTo>
                <a:cubicBezTo>
                  <a:pt x="14957" y="10435"/>
                  <a:pt x="14957" y="10451"/>
                  <a:pt x="14957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33960" y="3875040"/>
            <a:ext cx="144360" cy="1890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4635" y="10765"/>
                </a:moveTo>
                <a:cubicBezTo>
                  <a:pt x="14488" y="10781"/>
                  <a:pt x="14341" y="10772"/>
                  <a:pt x="14288" y="10914"/>
                </a:cubicBezTo>
                <a:cubicBezTo>
                  <a:pt x="14400" y="11003"/>
                  <a:pt x="14735" y="11186"/>
                  <a:pt x="14436" y="11286"/>
                </a:cubicBezTo>
                <a:cubicBezTo>
                  <a:pt x="14395" y="11286"/>
                  <a:pt x="14353" y="11286"/>
                  <a:pt x="14312" y="11286"/>
                </a:cubicBezTo>
                <a:cubicBezTo>
                  <a:pt x="14285" y="10988"/>
                  <a:pt x="14451" y="10997"/>
                  <a:pt x="14660" y="10790"/>
                </a:cubicBezTo>
                <a:cubicBezTo>
                  <a:pt x="14652" y="10790"/>
                  <a:pt x="14643" y="10790"/>
                  <a:pt x="14635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Students will multiply fractions using models and equa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need to do if you have mixed numb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ison ate 1/3 of the 2 4/5 bags of M&amp;Ms. What fraction of the M&amp;Ms did she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48080" y="4670280"/>
            <a:ext cx="465120" cy="1312920"/>
          </a:xfrm>
          <a:custGeom>
            <a:avLst/>
            <a:gdLst/>
            <a:ahLst/>
            <a:rect l="l" t="t" r="r" b="b"/>
            <a:pathLst>
              <a:path w="1291" h="3647">
                <a:moveTo>
                  <a:pt x="12650" y="12973"/>
                </a:moveTo>
                <a:cubicBezTo>
                  <a:pt x="12628" y="13320"/>
                  <a:pt x="12613" y="13667"/>
                  <a:pt x="12601" y="14015"/>
                </a:cubicBezTo>
              </a:path>
              <a:path w="1291" h="3647">
                <a:moveTo>
                  <a:pt x="12080" y="14263"/>
                </a:moveTo>
                <a:cubicBezTo>
                  <a:pt x="12470" y="14197"/>
                  <a:pt x="12978" y="14046"/>
                  <a:pt x="13370" y="14163"/>
                </a:cubicBezTo>
                <a:cubicBezTo>
                  <a:pt x="13370" y="14180"/>
                  <a:pt x="13370" y="14196"/>
                  <a:pt x="13370" y="14213"/>
                </a:cubicBezTo>
              </a:path>
              <a:path w="1291" h="3647">
                <a:moveTo>
                  <a:pt x="13345" y="15999"/>
                </a:moveTo>
                <a:cubicBezTo>
                  <a:pt x="13326" y="16208"/>
                  <a:pt x="13299" y="16413"/>
                  <a:pt x="13271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330800" y="4626000"/>
            <a:ext cx="9828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2179" y="12874"/>
                </a:moveTo>
                <a:cubicBezTo>
                  <a:pt x="12150" y="12816"/>
                  <a:pt x="12132" y="12997"/>
                  <a:pt x="12129" y="13022"/>
                </a:cubicBezTo>
                <a:cubicBezTo>
                  <a:pt x="12129" y="13047"/>
                  <a:pt x="12129" y="13072"/>
                  <a:pt x="12129" y="13097"/>
                </a:cubicBezTo>
              </a:path>
              <a:path w="274" h="249">
                <a:moveTo>
                  <a:pt x="12030" y="12973"/>
                </a:moveTo>
                <a:cubicBezTo>
                  <a:pt x="12113" y="12925"/>
                  <a:pt x="12205" y="12908"/>
                  <a:pt x="12303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276800" y="5483160"/>
            <a:ext cx="992160" cy="990720"/>
          </a:xfrm>
          <a:custGeom>
            <a:avLst/>
            <a:gdLst/>
            <a:ahLst/>
            <a:rect l="l" t="t" r="r" b="b"/>
            <a:pathLst>
              <a:path w="2755" h="2754">
                <a:moveTo>
                  <a:pt x="12278" y="16991"/>
                </a:moveTo>
                <a:cubicBezTo>
                  <a:pt x="12639" y="16864"/>
                  <a:pt x="12997" y="16708"/>
                  <a:pt x="13370" y="16619"/>
                </a:cubicBezTo>
                <a:cubicBezTo>
                  <a:pt x="13552" y="16575"/>
                  <a:pt x="13525" y="16608"/>
                  <a:pt x="13593" y="16619"/>
                </a:cubicBezTo>
              </a:path>
              <a:path w="2755" h="2754">
                <a:moveTo>
                  <a:pt x="12725" y="17090"/>
                </a:moveTo>
                <a:cubicBezTo>
                  <a:pt x="12742" y="17272"/>
                  <a:pt x="12700" y="17812"/>
                  <a:pt x="12750" y="17636"/>
                </a:cubicBezTo>
                <a:cubicBezTo>
                  <a:pt x="12758" y="17595"/>
                  <a:pt x="12766" y="17553"/>
                  <a:pt x="12774" y="17512"/>
                </a:cubicBezTo>
              </a:path>
              <a:path w="2755" h="2754">
                <a:moveTo>
                  <a:pt x="13370" y="16793"/>
                </a:moveTo>
                <a:cubicBezTo>
                  <a:pt x="13322" y="16851"/>
                  <a:pt x="13203" y="16906"/>
                  <a:pt x="13171" y="16966"/>
                </a:cubicBezTo>
                <a:cubicBezTo>
                  <a:pt x="13128" y="17047"/>
                  <a:pt x="13087" y="17149"/>
                  <a:pt x="13072" y="17239"/>
                </a:cubicBezTo>
                <a:cubicBezTo>
                  <a:pt x="13174" y="17166"/>
                  <a:pt x="13288" y="17079"/>
                  <a:pt x="13419" y="17140"/>
                </a:cubicBezTo>
                <a:cubicBezTo>
                  <a:pt x="13646" y="17246"/>
                  <a:pt x="13419" y="17500"/>
                  <a:pt x="13295" y="17562"/>
                </a:cubicBezTo>
                <a:cubicBezTo>
                  <a:pt x="13156" y="17608"/>
                  <a:pt x="13116" y="17626"/>
                  <a:pt x="13022" y="17587"/>
                </a:cubicBezTo>
              </a:path>
              <a:path w="2755" h="2754">
                <a:moveTo>
                  <a:pt x="12204" y="17859"/>
                </a:moveTo>
                <a:cubicBezTo>
                  <a:pt x="12484" y="18042"/>
                  <a:pt x="12796" y="18007"/>
                  <a:pt x="13122" y="17909"/>
                </a:cubicBezTo>
                <a:cubicBezTo>
                  <a:pt x="13564" y="17775"/>
                  <a:pt x="14155" y="17602"/>
                  <a:pt x="14412" y="17190"/>
                </a:cubicBezTo>
                <a:cubicBezTo>
                  <a:pt x="14684" y="16755"/>
                  <a:pt x="14718" y="16219"/>
                  <a:pt x="14412" y="15801"/>
                </a:cubicBezTo>
                <a:cubicBezTo>
                  <a:pt x="14128" y="15412"/>
                  <a:pt x="13714" y="15238"/>
                  <a:pt x="13246" y="15230"/>
                </a:cubicBezTo>
                <a:cubicBezTo>
                  <a:pt x="12773" y="15222"/>
                  <a:pt x="12288" y="15448"/>
                  <a:pt x="12055" y="15875"/>
                </a:cubicBezTo>
                <a:cubicBezTo>
                  <a:pt x="11813" y="16318"/>
                  <a:pt x="11828" y="16914"/>
                  <a:pt x="12030" y="17363"/>
                </a:cubicBezTo>
                <a:cubicBezTo>
                  <a:pt x="12188" y="17713"/>
                  <a:pt x="12459" y="17779"/>
                  <a:pt x="12799" y="17810"/>
                </a:cubicBezTo>
              </a:path>
              <a:path w="2755" h="2754">
                <a:moveTo>
                  <a:pt x="13345" y="15999"/>
                </a:moveTo>
                <a:cubicBezTo>
                  <a:pt x="13320" y="15999"/>
                  <a:pt x="13312" y="15999"/>
                  <a:pt x="13295" y="15999"/>
                </a:cubicBezTo>
                <a:cubicBezTo>
                  <a:pt x="13300" y="16108"/>
                  <a:pt x="13297" y="16177"/>
                  <a:pt x="13345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02000" y="6224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451" y="17289"/>
                </a:moveTo>
                <a:lnTo>
                  <a:pt x="9451" y="1728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82960" y="6116760"/>
            <a:ext cx="196920" cy="250560"/>
          </a:xfrm>
          <a:custGeom>
            <a:avLst/>
            <a:gdLst/>
            <a:ahLst/>
            <a:rect l="l" t="t" r="r" b="b"/>
            <a:pathLst>
              <a:path w="546" h="696">
                <a:moveTo>
                  <a:pt x="8334" y="17140"/>
                </a:moveTo>
                <a:cubicBezTo>
                  <a:pt x="8384" y="17090"/>
                  <a:pt x="8664" y="16872"/>
                  <a:pt x="8731" y="17041"/>
                </a:cubicBezTo>
                <a:cubicBezTo>
                  <a:pt x="8771" y="17142"/>
                  <a:pt x="8615" y="17241"/>
                  <a:pt x="8558" y="17289"/>
                </a:cubicBezTo>
                <a:cubicBezTo>
                  <a:pt x="8594" y="17253"/>
                  <a:pt x="8825" y="17159"/>
                  <a:pt x="8830" y="17314"/>
                </a:cubicBezTo>
                <a:cubicBezTo>
                  <a:pt x="8836" y="17510"/>
                  <a:pt x="8493" y="17676"/>
                  <a:pt x="8334" y="17686"/>
                </a:cubicBezTo>
                <a:cubicBezTo>
                  <a:pt x="8269" y="17653"/>
                  <a:pt x="8260" y="17628"/>
                  <a:pt x="8334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48000" y="5705640"/>
            <a:ext cx="982800" cy="598320"/>
          </a:xfrm>
          <a:custGeom>
            <a:avLst/>
            <a:gdLst/>
            <a:ahLst/>
            <a:rect l="l" t="t" r="r" b="b"/>
            <a:pathLst>
              <a:path w="2729" h="1663">
                <a:moveTo>
                  <a:pt x="9302" y="16669"/>
                </a:moveTo>
                <a:cubicBezTo>
                  <a:pt x="9455" y="16831"/>
                  <a:pt x="9591" y="16979"/>
                  <a:pt x="9674" y="17190"/>
                </a:cubicBezTo>
                <a:cubicBezTo>
                  <a:pt x="9674" y="17231"/>
                  <a:pt x="9674" y="17222"/>
                  <a:pt x="9674" y="17140"/>
                </a:cubicBezTo>
              </a:path>
              <a:path w="2729" h="1663">
                <a:moveTo>
                  <a:pt x="9699" y="16743"/>
                </a:moveTo>
                <a:cubicBezTo>
                  <a:pt x="9619" y="16927"/>
                  <a:pt x="9543" y="17113"/>
                  <a:pt x="9451" y="17289"/>
                </a:cubicBezTo>
              </a:path>
              <a:path w="2729" h="1663">
                <a:moveTo>
                  <a:pt x="10418" y="15974"/>
                </a:moveTo>
                <a:cubicBezTo>
                  <a:pt x="10418" y="16166"/>
                  <a:pt x="10432" y="16344"/>
                  <a:pt x="10344" y="16520"/>
                </a:cubicBezTo>
                <a:cubicBezTo>
                  <a:pt x="10336" y="16528"/>
                  <a:pt x="10327" y="16537"/>
                  <a:pt x="10319" y="16545"/>
                </a:cubicBezTo>
              </a:path>
              <a:path w="2729" h="1663">
                <a:moveTo>
                  <a:pt x="10616" y="16073"/>
                </a:moveTo>
                <a:cubicBezTo>
                  <a:pt x="10599" y="16138"/>
                  <a:pt x="10578" y="16207"/>
                  <a:pt x="10567" y="16272"/>
                </a:cubicBezTo>
                <a:cubicBezTo>
                  <a:pt x="10686" y="16248"/>
                  <a:pt x="10784" y="16188"/>
                  <a:pt x="10889" y="16123"/>
                </a:cubicBezTo>
              </a:path>
              <a:path w="2729" h="1663">
                <a:moveTo>
                  <a:pt x="10864" y="15850"/>
                </a:moveTo>
                <a:cubicBezTo>
                  <a:pt x="10811" y="16080"/>
                  <a:pt x="10775" y="16311"/>
                  <a:pt x="10740" y="16545"/>
                </a:cubicBezTo>
                <a:cubicBezTo>
                  <a:pt x="10740" y="16553"/>
                  <a:pt x="10740" y="16562"/>
                  <a:pt x="10740" y="16570"/>
                </a:cubicBezTo>
              </a:path>
              <a:path w="2729" h="1663">
                <a:moveTo>
                  <a:pt x="10071" y="16818"/>
                </a:moveTo>
                <a:cubicBezTo>
                  <a:pt x="10368" y="16725"/>
                  <a:pt x="10662" y="16620"/>
                  <a:pt x="10964" y="16545"/>
                </a:cubicBezTo>
              </a:path>
              <a:path w="2729" h="1663">
                <a:moveTo>
                  <a:pt x="10716" y="16842"/>
                </a:moveTo>
                <a:cubicBezTo>
                  <a:pt x="10655" y="16849"/>
                  <a:pt x="10528" y="16855"/>
                  <a:pt x="10492" y="16917"/>
                </a:cubicBezTo>
                <a:cubicBezTo>
                  <a:pt x="10459" y="16974"/>
                  <a:pt x="10446" y="17053"/>
                  <a:pt x="10418" y="17115"/>
                </a:cubicBezTo>
                <a:cubicBezTo>
                  <a:pt x="10528" y="17115"/>
                  <a:pt x="10528" y="16999"/>
                  <a:pt x="10666" y="17016"/>
                </a:cubicBezTo>
                <a:cubicBezTo>
                  <a:pt x="10880" y="17043"/>
                  <a:pt x="10706" y="17323"/>
                  <a:pt x="10641" y="17388"/>
                </a:cubicBezTo>
                <a:cubicBezTo>
                  <a:pt x="10517" y="17512"/>
                  <a:pt x="10408" y="17512"/>
                  <a:pt x="10244" y="17512"/>
                </a:cubicBezTo>
              </a:path>
              <a:path w="2729" h="1663">
                <a:moveTo>
                  <a:pt x="11609" y="16867"/>
                </a:moveTo>
                <a:cubicBezTo>
                  <a:pt x="11708" y="16850"/>
                  <a:pt x="11807" y="16843"/>
                  <a:pt x="11906" y="16818"/>
                </a:cubicBezTo>
                <a:cubicBezTo>
                  <a:pt x="11964" y="16799"/>
                  <a:pt x="11989" y="16772"/>
                  <a:pt x="11981" y="16818"/>
                </a:cubicBezTo>
              </a:path>
              <a:path w="2729" h="1663">
                <a:moveTo>
                  <a:pt x="11733" y="17066"/>
                </a:moveTo>
                <a:cubicBezTo>
                  <a:pt x="11829" y="17030"/>
                  <a:pt x="11931" y="16986"/>
                  <a:pt x="12030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62640" y="5749920"/>
            <a:ext cx="277560" cy="2239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12774" y="15974"/>
                </a:moveTo>
                <a:cubicBezTo>
                  <a:pt x="12774" y="16171"/>
                  <a:pt x="12755" y="16380"/>
                  <a:pt x="12700" y="16570"/>
                </a:cubicBezTo>
                <a:cubicBezTo>
                  <a:pt x="12673" y="16664"/>
                  <a:pt x="12720" y="16440"/>
                  <a:pt x="12750" y="16346"/>
                </a:cubicBezTo>
              </a:path>
              <a:path w="770" h="621">
                <a:moveTo>
                  <a:pt x="13122" y="16024"/>
                </a:moveTo>
                <a:cubicBezTo>
                  <a:pt x="13099" y="16115"/>
                  <a:pt x="13093" y="16141"/>
                  <a:pt x="13072" y="16197"/>
                </a:cubicBezTo>
                <a:cubicBezTo>
                  <a:pt x="13217" y="16184"/>
                  <a:pt x="13313" y="16130"/>
                  <a:pt x="13444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86040" y="4768920"/>
            <a:ext cx="1893960" cy="812880"/>
          </a:xfrm>
          <a:custGeom>
            <a:avLst/>
            <a:gdLst/>
            <a:ahLst/>
            <a:rect l="l" t="t" r="r" b="b"/>
            <a:pathLst>
              <a:path w="5260" h="2258">
                <a:moveTo>
                  <a:pt x="7739" y="14188"/>
                </a:moveTo>
                <a:cubicBezTo>
                  <a:pt x="8103" y="14131"/>
                  <a:pt x="8695" y="13920"/>
                  <a:pt x="9054" y="14089"/>
                </a:cubicBezTo>
                <a:cubicBezTo>
                  <a:pt x="9054" y="14114"/>
                  <a:pt x="9054" y="14138"/>
                  <a:pt x="9054" y="14163"/>
                </a:cubicBezTo>
              </a:path>
              <a:path w="5260" h="2258">
                <a:moveTo>
                  <a:pt x="8161" y="14610"/>
                </a:moveTo>
                <a:cubicBezTo>
                  <a:pt x="8240" y="14570"/>
                  <a:pt x="8735" y="14326"/>
                  <a:pt x="8756" y="14560"/>
                </a:cubicBezTo>
                <a:cubicBezTo>
                  <a:pt x="8668" y="14708"/>
                  <a:pt x="8621" y="14768"/>
                  <a:pt x="8508" y="14833"/>
                </a:cubicBezTo>
                <a:cubicBezTo>
                  <a:pt x="8467" y="14850"/>
                  <a:pt x="8425" y="14866"/>
                  <a:pt x="8384" y="14883"/>
                </a:cubicBezTo>
                <a:cubicBezTo>
                  <a:pt x="8536" y="14861"/>
                  <a:pt x="8930" y="14705"/>
                  <a:pt x="8930" y="15007"/>
                </a:cubicBezTo>
                <a:cubicBezTo>
                  <a:pt x="8930" y="15272"/>
                  <a:pt x="8369" y="15706"/>
                  <a:pt x="8136" y="15453"/>
                </a:cubicBezTo>
                <a:cubicBezTo>
                  <a:pt x="8136" y="15395"/>
                  <a:pt x="8136" y="15338"/>
                  <a:pt x="8136" y="15280"/>
                </a:cubicBezTo>
              </a:path>
              <a:path w="5260" h="2258">
                <a:moveTo>
                  <a:pt x="9748" y="14139"/>
                </a:moveTo>
                <a:cubicBezTo>
                  <a:pt x="9944" y="14372"/>
                  <a:pt x="10179" y="14601"/>
                  <a:pt x="10344" y="14858"/>
                </a:cubicBezTo>
                <a:cubicBezTo>
                  <a:pt x="10344" y="14891"/>
                  <a:pt x="10344" y="14891"/>
                  <a:pt x="10344" y="14833"/>
                </a:cubicBezTo>
              </a:path>
              <a:path w="5260" h="2258">
                <a:moveTo>
                  <a:pt x="10344" y="14213"/>
                </a:moveTo>
                <a:cubicBezTo>
                  <a:pt x="10299" y="14314"/>
                  <a:pt x="10021" y="15026"/>
                  <a:pt x="10021" y="14883"/>
                </a:cubicBezTo>
              </a:path>
              <a:path w="5260" h="2258">
                <a:moveTo>
                  <a:pt x="11063" y="13965"/>
                </a:moveTo>
                <a:cubicBezTo>
                  <a:pt x="11291" y="13885"/>
                  <a:pt x="11368" y="13888"/>
                  <a:pt x="11609" y="13915"/>
                </a:cubicBezTo>
                <a:cubicBezTo>
                  <a:pt x="11720" y="14329"/>
                  <a:pt x="11682" y="14619"/>
                  <a:pt x="11261" y="14858"/>
                </a:cubicBezTo>
                <a:cubicBezTo>
                  <a:pt x="11203" y="14875"/>
                  <a:pt x="11146" y="14891"/>
                  <a:pt x="11088" y="14908"/>
                </a:cubicBezTo>
                <a:cubicBezTo>
                  <a:pt x="11121" y="14607"/>
                  <a:pt x="11324" y="14397"/>
                  <a:pt x="11658" y="14635"/>
                </a:cubicBezTo>
                <a:cubicBezTo>
                  <a:pt x="11816" y="14748"/>
                  <a:pt x="11690" y="14985"/>
                  <a:pt x="11782" y="14709"/>
                </a:cubicBezTo>
              </a:path>
              <a:path w="5260" h="2258">
                <a:moveTo>
                  <a:pt x="12328" y="13246"/>
                </a:moveTo>
                <a:cubicBezTo>
                  <a:pt x="12295" y="13360"/>
                  <a:pt x="12257" y="13425"/>
                  <a:pt x="12278" y="13543"/>
                </a:cubicBezTo>
                <a:cubicBezTo>
                  <a:pt x="12462" y="13552"/>
                  <a:pt x="12533" y="13528"/>
                  <a:pt x="12700" y="13444"/>
                </a:cubicBezTo>
              </a:path>
              <a:path w="5260" h="2258">
                <a:moveTo>
                  <a:pt x="12799" y="14486"/>
                </a:moveTo>
                <a:cubicBezTo>
                  <a:pt x="12725" y="14490"/>
                  <a:pt x="12488" y="14470"/>
                  <a:pt x="12477" y="14560"/>
                </a:cubicBezTo>
                <a:cubicBezTo>
                  <a:pt x="12465" y="14659"/>
                  <a:pt x="12462" y="14738"/>
                  <a:pt x="12427" y="14833"/>
                </a:cubicBezTo>
                <a:cubicBezTo>
                  <a:pt x="12566" y="14799"/>
                  <a:pt x="12733" y="14697"/>
                  <a:pt x="12898" y="14784"/>
                </a:cubicBezTo>
                <a:cubicBezTo>
                  <a:pt x="13219" y="14954"/>
                  <a:pt x="12706" y="15227"/>
                  <a:pt x="12551" y="15230"/>
                </a:cubicBezTo>
                <a:cubicBezTo>
                  <a:pt x="12452" y="15180"/>
                  <a:pt x="12419" y="15163"/>
                  <a:pt x="12502" y="15081"/>
                </a:cubicBezTo>
              </a:path>
              <a:path w="5260" h="2258">
                <a:moveTo>
                  <a:pt x="11906" y="14858"/>
                </a:moveTo>
                <a:cubicBezTo>
                  <a:pt x="11931" y="14784"/>
                  <a:pt x="12028" y="14901"/>
                  <a:pt x="12055" y="14932"/>
                </a:cubicBezTo>
                <a:cubicBezTo>
                  <a:pt x="12086" y="14969"/>
                  <a:pt x="12200" y="15205"/>
                  <a:pt x="12179" y="15131"/>
                </a:cubicBezTo>
                <a:cubicBezTo>
                  <a:pt x="12179" y="15123"/>
                  <a:pt x="12179" y="15114"/>
                  <a:pt x="12179" y="15106"/>
                </a:cubicBezTo>
              </a:path>
              <a:path w="5260" h="2258">
                <a:moveTo>
                  <a:pt x="12204" y="14759"/>
                </a:moveTo>
                <a:cubicBezTo>
                  <a:pt x="12078" y="14900"/>
                  <a:pt x="11967" y="15050"/>
                  <a:pt x="11857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919240" y="4680000"/>
            <a:ext cx="295560" cy="1374840"/>
          </a:xfrm>
          <a:custGeom>
            <a:avLst/>
            <a:gdLst/>
            <a:ahLst/>
            <a:rect l="l" t="t" r="r" b="b"/>
            <a:pathLst>
              <a:path w="820" h="3821">
                <a:moveTo>
                  <a:pt x="8210" y="12998"/>
                </a:moveTo>
                <a:cubicBezTo>
                  <a:pt x="8294" y="13191"/>
                  <a:pt x="8217" y="13560"/>
                  <a:pt x="8186" y="13767"/>
                </a:cubicBezTo>
                <a:cubicBezTo>
                  <a:pt x="8148" y="13917"/>
                  <a:pt x="8154" y="13939"/>
                  <a:pt x="8111" y="14015"/>
                </a:cubicBezTo>
              </a:path>
              <a:path w="820" h="3821">
                <a:moveTo>
                  <a:pt x="8409" y="16173"/>
                </a:moveTo>
                <a:cubicBezTo>
                  <a:pt x="8437" y="16337"/>
                  <a:pt x="8438" y="16504"/>
                  <a:pt x="8458" y="16669"/>
                </a:cubicBezTo>
                <a:cubicBezTo>
                  <a:pt x="8466" y="16702"/>
                  <a:pt x="8475" y="16735"/>
                  <a:pt x="8483" y="16768"/>
                </a:cubicBezTo>
              </a:path>
              <a:path w="820" h="3821">
                <a:moveTo>
                  <a:pt x="8161" y="16818"/>
                </a:moveTo>
                <a:cubicBezTo>
                  <a:pt x="8270" y="16797"/>
                  <a:pt x="8844" y="16610"/>
                  <a:pt x="8930" y="16694"/>
                </a:cubicBezTo>
                <a:cubicBezTo>
                  <a:pt x="8913" y="16702"/>
                  <a:pt x="8897" y="16710"/>
                  <a:pt x="8880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Students will multiply fractions using models and equa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multiply whole numbers the product is ________ than both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multiply fractions, the product is _________ than the second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41760" y="1571760"/>
            <a:ext cx="1054080" cy="500040"/>
          </a:xfrm>
          <a:custGeom>
            <a:avLst/>
            <a:gdLst/>
            <a:ahLst/>
            <a:rect l="l" t="t" r="r" b="b"/>
            <a:pathLst>
              <a:path w="2928" h="1390">
                <a:moveTo>
                  <a:pt x="8037" y="4887"/>
                </a:moveTo>
                <a:cubicBezTo>
                  <a:pt x="7995" y="4752"/>
                  <a:pt x="7963" y="4696"/>
                  <a:pt x="7863" y="4589"/>
                </a:cubicBezTo>
                <a:cubicBezTo>
                  <a:pt x="7788" y="4656"/>
                  <a:pt x="7384" y="5121"/>
                  <a:pt x="7739" y="5135"/>
                </a:cubicBezTo>
                <a:cubicBezTo>
                  <a:pt x="7923" y="5142"/>
                  <a:pt x="8003" y="4961"/>
                  <a:pt x="8062" y="4837"/>
                </a:cubicBezTo>
                <a:cubicBezTo>
                  <a:pt x="8043" y="4779"/>
                  <a:pt x="8034" y="4773"/>
                  <a:pt x="8037" y="4738"/>
                </a:cubicBezTo>
                <a:cubicBezTo>
                  <a:pt x="8062" y="4958"/>
                  <a:pt x="8150" y="5180"/>
                  <a:pt x="8136" y="5407"/>
                </a:cubicBezTo>
                <a:cubicBezTo>
                  <a:pt x="8128" y="5544"/>
                  <a:pt x="7915" y="5902"/>
                  <a:pt x="7739" y="5705"/>
                </a:cubicBezTo>
                <a:cubicBezTo>
                  <a:pt x="7739" y="5603"/>
                  <a:pt x="7757" y="5556"/>
                  <a:pt x="7838" y="5507"/>
                </a:cubicBezTo>
              </a:path>
              <a:path w="2928" h="1390">
                <a:moveTo>
                  <a:pt x="8235" y="4862"/>
                </a:moveTo>
                <a:cubicBezTo>
                  <a:pt x="8251" y="4968"/>
                  <a:pt x="8272" y="5078"/>
                  <a:pt x="8285" y="5184"/>
                </a:cubicBezTo>
                <a:cubicBezTo>
                  <a:pt x="8285" y="5092"/>
                  <a:pt x="8229" y="4945"/>
                  <a:pt x="8260" y="4862"/>
                </a:cubicBezTo>
                <a:cubicBezTo>
                  <a:pt x="8323" y="4799"/>
                  <a:pt x="8358" y="4779"/>
                  <a:pt x="8434" y="4787"/>
                </a:cubicBezTo>
              </a:path>
              <a:path w="2928" h="1390">
                <a:moveTo>
                  <a:pt x="8582" y="4887"/>
                </a:moveTo>
                <a:cubicBezTo>
                  <a:pt x="8637" y="4881"/>
                  <a:pt x="8791" y="4877"/>
                  <a:pt x="8830" y="4837"/>
                </a:cubicBezTo>
                <a:cubicBezTo>
                  <a:pt x="8881" y="4785"/>
                  <a:pt x="8805" y="4737"/>
                  <a:pt x="8781" y="4713"/>
                </a:cubicBezTo>
                <a:cubicBezTo>
                  <a:pt x="8654" y="4776"/>
                  <a:pt x="8518" y="4924"/>
                  <a:pt x="8632" y="5085"/>
                </a:cubicBezTo>
                <a:cubicBezTo>
                  <a:pt x="8738" y="5138"/>
                  <a:pt x="8778" y="5152"/>
                  <a:pt x="8855" y="5085"/>
                </a:cubicBezTo>
              </a:path>
              <a:path w="2928" h="1390">
                <a:moveTo>
                  <a:pt x="9103" y="4738"/>
                </a:moveTo>
                <a:cubicBezTo>
                  <a:pt x="8993" y="4754"/>
                  <a:pt x="8725" y="4932"/>
                  <a:pt x="8880" y="5110"/>
                </a:cubicBezTo>
                <a:cubicBezTo>
                  <a:pt x="9003" y="5251"/>
                  <a:pt x="9098" y="4990"/>
                  <a:pt x="9128" y="4936"/>
                </a:cubicBezTo>
                <a:cubicBezTo>
                  <a:pt x="9128" y="4920"/>
                  <a:pt x="9128" y="4903"/>
                  <a:pt x="9128" y="4887"/>
                </a:cubicBezTo>
                <a:cubicBezTo>
                  <a:pt x="9162" y="5055"/>
                  <a:pt x="9195" y="5071"/>
                  <a:pt x="9351" y="5060"/>
                </a:cubicBezTo>
              </a:path>
              <a:path w="2928" h="1390">
                <a:moveTo>
                  <a:pt x="9327" y="4366"/>
                </a:moveTo>
                <a:cubicBezTo>
                  <a:pt x="9365" y="4556"/>
                  <a:pt x="9439" y="4746"/>
                  <a:pt x="9475" y="4936"/>
                </a:cubicBezTo>
                <a:cubicBezTo>
                  <a:pt x="9475" y="4961"/>
                  <a:pt x="9475" y="4986"/>
                  <a:pt x="9475" y="5011"/>
                </a:cubicBezTo>
              </a:path>
              <a:path w="2928" h="1390">
                <a:moveTo>
                  <a:pt x="9227" y="4812"/>
                </a:moveTo>
                <a:cubicBezTo>
                  <a:pt x="9402" y="4805"/>
                  <a:pt x="9573" y="4787"/>
                  <a:pt x="9748" y="4787"/>
                </a:cubicBezTo>
                <a:cubicBezTo>
                  <a:pt x="9791" y="4787"/>
                  <a:pt x="9786" y="4797"/>
                  <a:pt x="9798" y="4762"/>
                </a:cubicBezTo>
                <a:cubicBezTo>
                  <a:pt x="9790" y="4710"/>
                  <a:pt x="9723" y="4593"/>
                  <a:pt x="9649" y="4688"/>
                </a:cubicBezTo>
                <a:cubicBezTo>
                  <a:pt x="9549" y="4817"/>
                  <a:pt x="9564" y="5151"/>
                  <a:pt x="9798" y="5085"/>
                </a:cubicBezTo>
                <a:cubicBezTo>
                  <a:pt x="9962" y="4991"/>
                  <a:pt x="10014" y="4968"/>
                  <a:pt x="10046" y="4837"/>
                </a:cubicBezTo>
              </a:path>
              <a:path w="2928" h="1390">
                <a:moveTo>
                  <a:pt x="10071" y="4862"/>
                </a:moveTo>
                <a:cubicBezTo>
                  <a:pt x="10071" y="4895"/>
                  <a:pt x="10071" y="4928"/>
                  <a:pt x="10071" y="4961"/>
                </a:cubicBezTo>
                <a:cubicBezTo>
                  <a:pt x="10071" y="5036"/>
                  <a:pt x="10077" y="4860"/>
                  <a:pt x="10096" y="4787"/>
                </a:cubicBezTo>
                <a:cubicBezTo>
                  <a:pt x="10163" y="4532"/>
                  <a:pt x="10310" y="4495"/>
                  <a:pt x="10542" y="44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92080" y="3214800"/>
            <a:ext cx="804960" cy="303120"/>
          </a:xfrm>
          <a:custGeom>
            <a:avLst/>
            <a:gdLst/>
            <a:ahLst/>
            <a:rect l="l" t="t" r="r" b="b"/>
            <a:pathLst>
              <a:path w="2234" h="844">
                <a:moveTo>
                  <a:pt x="2480" y="9699"/>
                </a:moveTo>
                <a:cubicBezTo>
                  <a:pt x="2520" y="9792"/>
                  <a:pt x="2570" y="9792"/>
                  <a:pt x="2704" y="9748"/>
                </a:cubicBezTo>
                <a:cubicBezTo>
                  <a:pt x="2931" y="9673"/>
                  <a:pt x="3195" y="9379"/>
                  <a:pt x="3200" y="9128"/>
                </a:cubicBezTo>
                <a:cubicBezTo>
                  <a:pt x="3202" y="9007"/>
                  <a:pt x="3109" y="8957"/>
                  <a:pt x="3026" y="8930"/>
                </a:cubicBezTo>
                <a:cubicBezTo>
                  <a:pt x="2961" y="9141"/>
                  <a:pt x="2948" y="9401"/>
                  <a:pt x="3076" y="9599"/>
                </a:cubicBezTo>
                <a:cubicBezTo>
                  <a:pt x="3245" y="9860"/>
                  <a:pt x="3555" y="9539"/>
                  <a:pt x="3646" y="9376"/>
                </a:cubicBezTo>
                <a:cubicBezTo>
                  <a:pt x="3667" y="9294"/>
                  <a:pt x="3675" y="9278"/>
                  <a:pt x="3671" y="9227"/>
                </a:cubicBezTo>
                <a:cubicBezTo>
                  <a:pt x="3614" y="9171"/>
                  <a:pt x="3554" y="9153"/>
                  <a:pt x="3547" y="9327"/>
                </a:cubicBezTo>
                <a:cubicBezTo>
                  <a:pt x="3539" y="9518"/>
                  <a:pt x="3611" y="9554"/>
                  <a:pt x="3746" y="9599"/>
                </a:cubicBezTo>
              </a:path>
              <a:path w="2234" h="844">
                <a:moveTo>
                  <a:pt x="4068" y="9203"/>
                </a:moveTo>
                <a:cubicBezTo>
                  <a:pt x="3989" y="9203"/>
                  <a:pt x="3960" y="9206"/>
                  <a:pt x="3919" y="9252"/>
                </a:cubicBezTo>
                <a:cubicBezTo>
                  <a:pt x="3901" y="9325"/>
                  <a:pt x="4115" y="9364"/>
                  <a:pt x="4192" y="9426"/>
                </a:cubicBezTo>
                <a:cubicBezTo>
                  <a:pt x="4281" y="9498"/>
                  <a:pt x="3980" y="9642"/>
                  <a:pt x="3919" y="9575"/>
                </a:cubicBezTo>
                <a:cubicBezTo>
                  <a:pt x="3911" y="9534"/>
                  <a:pt x="3902" y="9492"/>
                  <a:pt x="3894" y="9451"/>
                </a:cubicBezTo>
              </a:path>
              <a:path w="2234" h="844">
                <a:moveTo>
                  <a:pt x="4490" y="9178"/>
                </a:moveTo>
                <a:cubicBezTo>
                  <a:pt x="4398" y="9178"/>
                  <a:pt x="4399" y="9186"/>
                  <a:pt x="4316" y="9227"/>
                </a:cubicBezTo>
                <a:cubicBezTo>
                  <a:pt x="4401" y="9334"/>
                  <a:pt x="4573" y="9308"/>
                  <a:pt x="4713" y="9327"/>
                </a:cubicBezTo>
                <a:cubicBezTo>
                  <a:pt x="4676" y="9489"/>
                  <a:pt x="4596" y="9509"/>
                  <a:pt x="4440" y="9525"/>
                </a:cubicBezTo>
                <a:cubicBezTo>
                  <a:pt x="4398" y="9525"/>
                  <a:pt x="4382" y="9533"/>
                  <a:pt x="4390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4:29:05Z</dcterms:created>
  <dc:creator>demcgra</dc:creator>
  <dc:description/>
  <dc:language>en-US</dc:language>
  <cp:lastModifiedBy>demcgra</cp:lastModifiedBy>
  <dcterms:modified xsi:type="dcterms:W3CDTF">2012-04-11T19:22:59Z</dcterms:modified>
  <cp:revision>4</cp:revision>
  <dc:subject/>
  <dc:title>Course 1: Warm-up       April 11, 2012</dc:title>
</cp:coreProperties>
</file>